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The%20Beatles%20-%20The%20Long%20and%20Winding%20Road.wav" ContentType="audio/x-wav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7A1-0981-4862-BB91-C055EE43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C13-9AD5-451E-A16E-BD6AAB98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3C6-B831-426C-980E-0B694834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0EF-EA6F-43C2-A38A-EAC062C9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3C2-FB9B-4CF7-8601-3A254FA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F18-10EE-4AAA-96E8-AF1521C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92C-9ED5-4805-AED7-A5B88442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420-A213-46BD-8462-F9B3FC0C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D0D-57D4-4B27-98BD-143EAF1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5D2-5B3F-4BBF-8A70-33C8494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F91-E26F-4FB6-9799-07C07B3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EB3-2B16-436C-AFA0-8A04B5A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64C-ABA4-4BBD-B71F-E63D9BBA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Beatles%20-%20The%20Long%20and%20Winding%20Roa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ff00"/>
                </a:solidFill>
                <a:latin typeface="Comic Sans MS"/>
              </a:rPr>
              <a:t>As Estradas Mais Incríveis d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60" y="6256440"/>
            <a:ext cx="9066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Música: The Long and Winding Road 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By Ney Del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Cantam: The Beatles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                      Ligue o Som</a:t>
            </a:r>
            <a:r>
              <a:rPr b="0" lang="pt-BR" sz="1200" spc="-1" strike="noStrike">
                <a:solidFill>
                  <a:srgbClr val="ffcc00"/>
                </a:solidFill>
                <a:latin typeface="Comic Sans MS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994360"/>
            <a:ext cx="388944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65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mic Sans MS"/>
              </a:rPr>
              <a:t>Estrada nas montanhas d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ff00"/>
                </a:solidFill>
                <a:latin typeface="Comic Sans MS"/>
              </a:rPr>
              <a:t>Jebel Hafeet,</a:t>
            </a:r>
            <a:r>
              <a:rPr b="0" lang="en-US" sz="1000" spc="-1" strike="noStrike">
                <a:solidFill>
                  <a:srgbClr val="ff9900"/>
                </a:solidFill>
                <a:latin typeface="Comic Sans MS"/>
              </a:rPr>
              <a:t> nos Emirados Ára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The%20Beatles%20-%20The%20Long%20and%20Winding%20Roa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Curvas do “S” na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para Jiufe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em 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830560" y="0"/>
            <a:ext cx="3313440" cy="2276640"/>
            <a:chOff x="5830560" y="0"/>
            <a:chExt cx="3313440" cy="22766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830920" y="0"/>
              <a:ext cx="33130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H="1">
              <a:off x="5830560" y="2276640"/>
              <a:ext cx="33130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830560" y="0"/>
              <a:ext cx="33130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0" y="0"/>
              <a:ext cx="0" cy="2276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830920" y="0"/>
              <a:ext cx="0" cy="2276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4852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“inversora” entre a China e Hong Kong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já que o tráfego em Hong Kong circula pela esquerd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20000" y="0"/>
            <a:ext cx="2124000" cy="1916280"/>
            <a:chOff x="7020000" y="0"/>
            <a:chExt cx="2124000" cy="19162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020000" y="0"/>
              <a:ext cx="212400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H="1">
              <a:off x="7020000" y="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20000" y="184464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20000" y="0"/>
              <a:ext cx="0" cy="1844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s-túneis na baía de Chesapeake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que permitem a passagem dos navios de guerra da base de Norfolk.</a:t>
            </a: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360" y="-360"/>
            <a:ext cx="2772000" cy="2880000"/>
            <a:chOff x="-360" y="-360"/>
            <a:chExt cx="2772000" cy="28800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543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H="1">
              <a:off x="-360" y="2879640"/>
              <a:ext cx="2771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-360" y="0"/>
              <a:ext cx="2771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71640" y="-360"/>
              <a:ext cx="0" cy="2879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0" y="-360"/>
              <a:ext cx="0" cy="2879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a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Serra do Rio do Rastr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Lauro Müller, Santa Catarina, Bras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505320" y="-360"/>
            <a:ext cx="2133360" cy="2743560"/>
            <a:chOff x="3505320" y="-360"/>
            <a:chExt cx="2133360" cy="274356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505320" y="0"/>
              <a:ext cx="2133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H="1">
              <a:off x="3505320" y="0"/>
              <a:ext cx="2133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05320" y="-360"/>
              <a:ext cx="0" cy="2734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638680" y="-360"/>
              <a:ext cx="0" cy="2734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505320" y="2734920"/>
              <a:ext cx="21333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Passagem de Stelvio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Stelvio Pass), nos Alpes italianos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40360" y="0"/>
            <a:ext cx="3203640" cy="2852640"/>
            <a:chOff x="5940360" y="0"/>
            <a:chExt cx="3203640" cy="28526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940360" y="0"/>
              <a:ext cx="32036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940360" y="0"/>
              <a:ext cx="0" cy="2852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44000" y="0"/>
              <a:ext cx="0" cy="2852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0360" y="285264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237360"/>
            <a:ext cx="9144000" cy="64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Passagem de Turini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Col de Turini), na França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080" y="44280"/>
            <a:ext cx="2104920" cy="1224000"/>
            <a:chOff x="19080" y="44280"/>
            <a:chExt cx="2104920" cy="12240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5440" y="72720"/>
              <a:ext cx="2050920" cy="11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19080" y="44280"/>
              <a:ext cx="2104920" cy="1224000"/>
              <a:chOff x="19080" y="44280"/>
              <a:chExt cx="2104920" cy="1224000"/>
            </a:xfrm>
          </p:grpSpPr>
          <p:sp>
            <p:nvSpPr>
              <p:cNvPr id="146" name=""/>
              <p:cNvSpPr/>
              <p:nvPr/>
            </p:nvSpPr>
            <p:spPr>
              <a:xfrm>
                <a:off x="2124000" y="44280"/>
                <a:ext cx="0" cy="122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920" y="44280"/>
                <a:ext cx="0" cy="122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080" y="1268280"/>
                <a:ext cx="21049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080" y="44280"/>
                <a:ext cx="21049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Tian Men Sha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província de Hunan, Ch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24720" y="0"/>
            <a:ext cx="2484360" cy="1700280"/>
            <a:chOff x="6624720" y="0"/>
            <a:chExt cx="2484360" cy="1700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6624720" y="0"/>
              <a:ext cx="248436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624720" y="0"/>
              <a:ext cx="0" cy="1700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09080" y="0"/>
              <a:ext cx="0" cy="1700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4720" y="1700280"/>
              <a:ext cx="2484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4720" y="11160"/>
              <a:ext cx="2484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920" y="0"/>
            <a:ext cx="1835280" cy="1557360"/>
            <a:chOff x="34920" y="0"/>
            <a:chExt cx="1835280" cy="155736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4920" y="0"/>
              <a:ext cx="18352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4920" y="155736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0" y="792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4920" y="0"/>
              <a:ext cx="0" cy="1557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870200" y="0"/>
              <a:ext cx="0" cy="1557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costeira em Cape Tow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África do Sul.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17868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-túnel de Guoliang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China. Como a vila de Guoliang estava isolada num va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13 moradores abriram um túnel na rocha por conta própria, usando apenas picaretas.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516720" y="-360"/>
            <a:ext cx="2627280" cy="1922760"/>
            <a:chOff x="6516720" y="-360"/>
            <a:chExt cx="2627280" cy="192276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6516720" y="0"/>
              <a:ext cx="262728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flipV="1">
              <a:off x="914400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167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16720" y="1916280"/>
              <a:ext cx="2627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516720" y="0"/>
              <a:ext cx="2627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360" y="-360"/>
            <a:ext cx="2591280" cy="1916640"/>
            <a:chOff x="-360" y="-360"/>
            <a:chExt cx="2591280" cy="191664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9092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25909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-360" y="1905120"/>
              <a:ext cx="2590920" cy="111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-360" y="0"/>
              <a:ext cx="259092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21036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a Morte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camino a los Yungas),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de La Paz a Coroico, na Bolívia (média de 96 mortes por an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descida, os motoristas usam a contramão para poderem ver os abis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360" y="0"/>
            <a:ext cx="1548000" cy="2060640"/>
            <a:chOff x="-360" y="0"/>
            <a:chExt cx="1548000" cy="206064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36360" y="0"/>
              <a:ext cx="151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H="1">
              <a:off x="-360" y="0"/>
              <a:ext cx="1547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7640" y="0"/>
              <a:ext cx="0" cy="2060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-360" y="2060640"/>
              <a:ext cx="1547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0" cy="2060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1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44000" y="0"/>
            <a:ext cx="0" cy="11970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0"/>
            <a:ext cx="0" cy="11970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1197000"/>
            <a:ext cx="20509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7920"/>
            <a:ext cx="20509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strad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roha-zaka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o Japão. São 48 curvas e em cada uma h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uma placa com uma das 48 sílabas do alfabeto japonê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Hiraga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36480" cy="215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7596000" y="2133720"/>
            <a:ext cx="154764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596000" y="12600"/>
            <a:ext cx="154764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0"/>
            <a:ext cx="0" cy="2133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0760" y="0"/>
            <a:ext cx="0" cy="2133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nterseção Juiz Harry Pregerso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ntre as Interstates I-105 e I-110, em Los Ange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651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91320" y="26668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352680" y="2666880"/>
            <a:ext cx="2438640" cy="350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266688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O acabamento impecável dos viadutos japone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144000" y="-360"/>
            <a:ext cx="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-360"/>
            <a:ext cx="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4960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96000" y="2649240"/>
            <a:ext cx="0" cy="3522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52680" y="2666880"/>
            <a:ext cx="0" cy="35229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92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2000" y="0"/>
            <a:ext cx="0" cy="2649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237360"/>
            <a:ext cx="9144000" cy="64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nterseção em espira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Shangai, na Ch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24852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em espiral: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 a solução para descer uma montanha muito íngreme até a cidade de Kamazu, no Jap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443280" y="0"/>
            <a:ext cx="2700720" cy="1916280"/>
            <a:chOff x="6443280" y="0"/>
            <a:chExt cx="2700720" cy="19162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27003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flipH="1">
              <a:off x="6443280" y="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443280" y="191628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364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248520"/>
            <a:ext cx="9144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Highway 17, no trecho do condado de Beaufo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Carolina do Sul, E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Comic Sans MS"/>
              </a:rPr>
              <a:t>(fonte: Auto in the news, 3-mar-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siberiana para Yakutsk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a cidade mais fria do mundo </a:t>
            </a:r>
            <a:r>
              <a:rPr b="0" lang="es-ES" sz="1200" spc="-1" strike="noStrike">
                <a:solidFill>
                  <a:srgbClr val="00ff00"/>
                </a:solidFill>
                <a:latin typeface="Comic Sans MS"/>
              </a:rPr>
              <a:t>(record de 64ºC abaixo de zero)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43280" y="-360"/>
            <a:ext cx="2700720" cy="2205360"/>
            <a:chOff x="6443280" y="-360"/>
            <a:chExt cx="2700720" cy="220536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27003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flipH="1">
              <a:off x="6443280" y="220500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43280" y="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0" y="0"/>
              <a:ext cx="0" cy="2205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443640" y="-360"/>
              <a:ext cx="0" cy="2205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Garganta do Dades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o Marro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Foto na Internet identificada como ponte, mas que é um mirante n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represa Hiyoshi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Kioto, no Japão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732360" y="-360"/>
            <a:ext cx="2411640" cy="2565720"/>
            <a:chOff x="6732360" y="-360"/>
            <a:chExt cx="2411640" cy="25657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7308720" y="0"/>
              <a:ext cx="183528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V="1">
              <a:off x="8172360" y="1988640"/>
              <a:ext cx="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8720" y="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08720" y="191628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3087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914400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732360" y="2565360"/>
              <a:ext cx="1439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0"/>
            <a:ext cx="2555640" cy="2565360"/>
            <a:chOff x="0" y="0"/>
            <a:chExt cx="2555640" cy="256536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840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234936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24000" y="0"/>
              <a:ext cx="0" cy="2349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0" y="0"/>
              <a:ext cx="0" cy="2349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47640" y="1341360"/>
              <a:ext cx="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547280" y="2565360"/>
              <a:ext cx="1008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567640" y="5866200"/>
            <a:ext cx="576360" cy="307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e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Los Caracoles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os Andes chil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41403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Ponte de Storseisundet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o Atlântico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 (Atlanterhavsveien), Noru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5029200" cy="618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0"/>
            <a:ext cx="2556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429000"/>
            <a:ext cx="4140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632412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Highway 163,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indo na direção do </a:t>
            </a: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Monument Valley dos Navajos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em Utah, E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9144000" cy="6162840"/>
            <a:chOff x="0" y="0"/>
            <a:chExt cx="9144000" cy="61628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0" y="0"/>
              <a:ext cx="2057040" cy="1599840"/>
              <a:chOff x="0" y="0"/>
              <a:chExt cx="2057040" cy="159984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2057040" cy="157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 flipH="1">
                <a:off x="0" y="0"/>
                <a:ext cx="205704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0" y="1599840"/>
                <a:ext cx="205704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0"/>
                <a:ext cx="0" cy="1599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57040" y="0"/>
                <a:ext cx="0" cy="1599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000560" y="0"/>
              <a:ext cx="2143440" cy="3048120"/>
              <a:chOff x="7000560" y="0"/>
              <a:chExt cx="2143440" cy="3048120"/>
            </a:xfrm>
          </p:grpSpPr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00920" y="0"/>
                <a:ext cx="214308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 flipH="1">
                <a:off x="7000560" y="0"/>
                <a:ext cx="21337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00560" y="3048120"/>
                <a:ext cx="21337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134640" y="0"/>
                <a:ext cx="0" cy="3048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00920" y="0"/>
                <a:ext cx="0" cy="3048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632412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James Dalton Highway,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construída paralela ao oleoduto do Alaska para dar suport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ao proj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23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de Millau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estrada Paris-Barcel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940000" y="-360"/>
            <a:ext cx="3204000" cy="2134080"/>
            <a:chOff x="5940000" y="-360"/>
            <a:chExt cx="3204000" cy="21340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940360" y="0"/>
              <a:ext cx="3203640" cy="21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940360" y="-360"/>
              <a:ext cx="0" cy="2133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137520" y="-360"/>
              <a:ext cx="0" cy="2133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940000" y="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40000" y="213372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Corredor de neve na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estrada para o Monte Tateyama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 nos chamados Alpes japone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o Troll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Trollstigen), na Noru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3:13:28Z</dcterms:created>
  <dc:creator>.</dc:creator>
  <dc:description/>
  <dc:language>en-US</dc:language>
  <cp:lastModifiedBy>.</cp:lastModifiedBy>
  <dcterms:modified xsi:type="dcterms:W3CDTF">2010-10-30T03:14:31Z</dcterms:modified>
  <cp:revision>1</cp:revision>
  <dc:subject/>
  <dc:title>Slide 1</dc:title>
</cp:coreProperties>
</file>