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2.jpeg" ContentType="image/jpeg"/>
  <Override PartName="/ppt/media/Francis%20Goya%20-%20Bilits.wav" ContentType="audio/x-wav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7253-EEC9-4A83-B0AC-D27771AC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B061-1E15-4254-BA80-B51AF37F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C25D-A970-4423-890C-5E26CE16A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947E-CFE6-4DE3-8C76-98C0D6122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2C99-C099-4EC7-A64B-E77C140E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97B6-6E17-4BF8-A418-FD96AA4B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4BDE-2612-4F75-89E4-62012223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BA0A-966B-4585-B70F-B650EB70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27C4-C94B-4CF1-8B68-BDD0348B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520B-6E6E-4FD1-8D59-13BD19E8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C2C7-DEAB-46BE-9151-BB0AD533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467E-8AC0-49D1-B55E-FBAD2323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BCE8-C124-4E64-BD97-A6C48B9FD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3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audio" Target="../media/Francis%20Goya%20-%20Bilits.wav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13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14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15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hyperlink" Target="http://www.leticiathompson.net/" TargetMode="External"/><Relationship Id="rId16" Type="http://schemas.openxmlformats.org/officeDocument/2006/relationships/hyperlink" Target="mailto:bethnorling@globo.com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5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6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7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8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9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10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11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12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476280"/>
            <a:ext cx="8207280" cy="5977080"/>
          </a:xfrm>
          <a:prstGeom prst="rect">
            <a:avLst/>
          </a:prstGeom>
          <a:solidFill>
            <a:srgbClr val="000000"/>
          </a:solid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0" y="-493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3132000" y="-23760"/>
            <a:ext cx="3024360" cy="423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6012000" y="-38160"/>
            <a:ext cx="3132000" cy="438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 rot="10800000">
            <a:off x="-36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 rot="10800000">
            <a:off x="594000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 rot="10800000">
            <a:off x="298728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 rot="16200000">
            <a:off x="-1377000" y="171000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3"/>
          <a:stretch/>
        </p:blipFill>
        <p:spPr>
          <a:xfrm rot="16200000">
            <a:off x="-1377000" y="466128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4"/>
          <a:stretch/>
        </p:blipFill>
        <p:spPr>
          <a:xfrm rot="5277600">
            <a:off x="7317360" y="171036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5"/>
          <a:stretch/>
        </p:blipFill>
        <p:spPr>
          <a:xfrm rot="5400000">
            <a:off x="7317360" y="4590000"/>
            <a:ext cx="3203640" cy="449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2195640" y="981000"/>
            <a:ext cx="5933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66"/>
                  </a:solidFill>
                  <a:prstDash val="sysDot"/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VIVER POR PROCURAÇÃO</a:t>
            </a:r>
            <a:endParaRPr b="1" lang="en-US" sz="1800" spc="1" strike="noStrike">
              <a:ln w="9360">
                <a:solidFill>
                  <a:srgbClr val="cc0066"/>
                </a:solidFill>
                <a:prstDash val="sysDot"/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508720" y="5589720"/>
            <a:ext cx="261936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0066"/>
                  </a:solidFill>
                  <a:prstDash val="sysDot"/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Letícia Thompson</a:t>
            </a:r>
            <a:endParaRPr b="1" lang="en-US" sz="2400" spc="1" strike="noStrike">
              <a:ln w="9360">
                <a:solidFill>
                  <a:srgbClr val="cc0066"/>
                </a:solidFill>
                <a:prstDash val="sysDot"/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8360" y="476280"/>
            <a:ext cx="8207280" cy="5977080"/>
          </a:xfrm>
          <a:prstGeom prst="rect">
            <a:avLst/>
          </a:prstGeom>
          <a:solidFill>
            <a:srgbClr val="000000"/>
          </a:solid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0" y="-493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7"/>
          <a:stretch/>
        </p:blipFill>
        <p:spPr>
          <a:xfrm>
            <a:off x="3132000" y="-23760"/>
            <a:ext cx="3024360" cy="4237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8"/>
          <a:stretch/>
        </p:blipFill>
        <p:spPr>
          <a:xfrm>
            <a:off x="6012000" y="-38160"/>
            <a:ext cx="3132000" cy="4381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9"/>
          <a:stretch/>
        </p:blipFill>
        <p:spPr>
          <a:xfrm rot="10800000">
            <a:off x="-36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0"/>
          <a:stretch/>
        </p:blipFill>
        <p:spPr>
          <a:xfrm rot="10800000">
            <a:off x="594000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1"/>
          <a:stretch/>
        </p:blipFill>
        <p:spPr>
          <a:xfrm rot="10800000">
            <a:off x="298728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2"/>
          <a:stretch/>
        </p:blipFill>
        <p:spPr>
          <a:xfrm rot="16200000">
            <a:off x="-1377000" y="171000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3"/>
          <a:stretch/>
        </p:blipFill>
        <p:spPr>
          <a:xfrm rot="16200000">
            <a:off x="-1377000" y="466128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4"/>
          <a:stretch/>
        </p:blipFill>
        <p:spPr>
          <a:xfrm rot="5277600">
            <a:off x="7317360" y="171036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5"/>
          <a:stretch/>
        </p:blipFill>
        <p:spPr>
          <a:xfrm rot="5400000">
            <a:off x="7317360" y="4590000"/>
            <a:ext cx="3203640" cy="449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971640" y="907920"/>
            <a:ext cx="727236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ferimos sim sonhar através dos outros. Vivemos sem vivermos e alcançamos nosso alvo sem chegarmos a lugar nenh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0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476280"/>
            <a:ext cx="8207280" cy="5977080"/>
          </a:xfrm>
          <a:prstGeom prst="rect">
            <a:avLst/>
          </a:prstGeom>
          <a:solidFill>
            <a:srgbClr val="000000"/>
          </a:solid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0" y="-493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7"/>
          <a:stretch/>
        </p:blipFill>
        <p:spPr>
          <a:xfrm>
            <a:off x="3132000" y="-23760"/>
            <a:ext cx="3024360" cy="423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8"/>
          <a:stretch/>
        </p:blipFill>
        <p:spPr>
          <a:xfrm>
            <a:off x="6012000" y="-38160"/>
            <a:ext cx="3132000" cy="4381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9"/>
          <a:stretch/>
        </p:blipFill>
        <p:spPr>
          <a:xfrm rot="10800000">
            <a:off x="-36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0"/>
          <a:stretch/>
        </p:blipFill>
        <p:spPr>
          <a:xfrm rot="10800000">
            <a:off x="594000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1"/>
          <a:stretch/>
        </p:blipFill>
        <p:spPr>
          <a:xfrm rot="10800000">
            <a:off x="298728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2"/>
          <a:stretch/>
        </p:blipFill>
        <p:spPr>
          <a:xfrm rot="16200000">
            <a:off x="-1377000" y="171000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3"/>
          <a:stretch/>
        </p:blipFill>
        <p:spPr>
          <a:xfrm rot="16200000">
            <a:off x="-1377000" y="466128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4"/>
          <a:stretch/>
        </p:blipFill>
        <p:spPr>
          <a:xfrm rot="5277600">
            <a:off x="7317360" y="171036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5"/>
          <a:stretch/>
        </p:blipFill>
        <p:spPr>
          <a:xfrm rot="5400000">
            <a:off x="7317360" y="4590000"/>
            <a:ext cx="3203640" cy="449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971640" y="2205000"/>
            <a:ext cx="7221600" cy="25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ó que o mundo foi feito para todos nós. Ele foi cuidadosa e minuciosamente sonhado e realizado e nós somos as privilegiadas flores que o Senhor planto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mporta pouco se essa flor nasceu antes ou depois, se é mais viva, maior ou mais resistente, Deus dá a cada um de nós meios de sobrevivência e a oportunidade de crescimento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6000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476280"/>
            <a:ext cx="8207280" cy="5977080"/>
          </a:xfrm>
          <a:prstGeom prst="rect">
            <a:avLst/>
          </a:prstGeom>
          <a:solidFill>
            <a:srgbClr val="000000"/>
          </a:solid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0" y="-493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3132000" y="-23760"/>
            <a:ext cx="3024360" cy="4237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8"/>
          <a:stretch/>
        </p:blipFill>
        <p:spPr>
          <a:xfrm>
            <a:off x="6012000" y="-38160"/>
            <a:ext cx="3132000" cy="4381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9"/>
          <a:stretch/>
        </p:blipFill>
        <p:spPr>
          <a:xfrm rot="10800000">
            <a:off x="-36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0"/>
          <a:stretch/>
        </p:blipFill>
        <p:spPr>
          <a:xfrm rot="10800000">
            <a:off x="594000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1"/>
          <a:stretch/>
        </p:blipFill>
        <p:spPr>
          <a:xfrm rot="10800000">
            <a:off x="298728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2"/>
          <a:stretch/>
        </p:blipFill>
        <p:spPr>
          <a:xfrm rot="16200000">
            <a:off x="-1377000" y="171000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3"/>
          <a:stretch/>
        </p:blipFill>
        <p:spPr>
          <a:xfrm rot="16200000">
            <a:off x="-1377000" y="466128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4"/>
          <a:stretch/>
        </p:blipFill>
        <p:spPr>
          <a:xfrm rot="5277600">
            <a:off x="7317360" y="171036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5"/>
          <a:stretch/>
        </p:blipFill>
        <p:spPr>
          <a:xfrm rot="5400000">
            <a:off x="7317360" y="4590000"/>
            <a:ext cx="3203640" cy="4492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950760" y="2637000"/>
            <a:ext cx="722160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le nos dá não sonhos longínquos e impossíveis, mas ferramentas e verdadeiras possibilidades. O que vamos fazer de tudo isso depende inteiramente de nó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6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8360" y="476280"/>
            <a:ext cx="8207280" cy="5977080"/>
          </a:xfrm>
          <a:prstGeom prst="rect">
            <a:avLst/>
          </a:prstGeom>
          <a:solidFill>
            <a:srgbClr val="000000"/>
          </a:solid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0" y="-493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6"/>
          <a:stretch/>
        </p:blipFill>
        <p:spPr>
          <a:xfrm>
            <a:off x="3132000" y="-23760"/>
            <a:ext cx="3024360" cy="4237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7"/>
          <a:stretch/>
        </p:blipFill>
        <p:spPr>
          <a:xfrm>
            <a:off x="6012000" y="-38160"/>
            <a:ext cx="3132000" cy="4381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8"/>
          <a:stretch/>
        </p:blipFill>
        <p:spPr>
          <a:xfrm rot="10800000">
            <a:off x="-36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9"/>
          <a:stretch/>
        </p:blipFill>
        <p:spPr>
          <a:xfrm rot="10800000">
            <a:off x="594000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0"/>
          <a:stretch/>
        </p:blipFill>
        <p:spPr>
          <a:xfrm rot="10800000">
            <a:off x="298728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1"/>
          <a:stretch/>
        </p:blipFill>
        <p:spPr>
          <a:xfrm rot="16200000">
            <a:off x="-1377000" y="171000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2"/>
          <a:stretch/>
        </p:blipFill>
        <p:spPr>
          <a:xfrm rot="16200000">
            <a:off x="-1377000" y="466128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3"/>
          <a:stretch/>
        </p:blipFill>
        <p:spPr>
          <a:xfrm rot="5277600">
            <a:off x="7317360" y="171036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4"/>
          <a:stretch/>
        </p:blipFill>
        <p:spPr>
          <a:xfrm rot="5400000">
            <a:off x="7317360" y="4590000"/>
            <a:ext cx="3203640" cy="4492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239840" y="2122560"/>
            <a:ext cx="678816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xto: Letícia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  <a:hlinkClick r:id="rId15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Música: Francis Goya –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Bilit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  <a:hlinkClick r:id="rId16"/>
              </a:rPr>
              <a:t>bethnorling@globo.com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476280"/>
            <a:ext cx="8207280" cy="5977080"/>
          </a:xfrm>
          <a:prstGeom prst="rect">
            <a:avLst/>
          </a:prstGeom>
          <a:solidFill>
            <a:srgbClr val="000000"/>
          </a:solid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0" y="-493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3132000" y="-23760"/>
            <a:ext cx="3024360" cy="423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6012000" y="-38160"/>
            <a:ext cx="3132000" cy="438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 rot="10800000">
            <a:off x="-36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 rot="10800000">
            <a:off x="594000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1"/>
          <a:stretch/>
        </p:blipFill>
        <p:spPr>
          <a:xfrm rot="10800000">
            <a:off x="298728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2"/>
          <a:stretch/>
        </p:blipFill>
        <p:spPr>
          <a:xfrm rot="16200000">
            <a:off x="-1377000" y="171000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3"/>
          <a:stretch/>
        </p:blipFill>
        <p:spPr>
          <a:xfrm rot="16200000">
            <a:off x="-1377000" y="466128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4"/>
          <a:stretch/>
        </p:blipFill>
        <p:spPr>
          <a:xfrm rot="5277600">
            <a:off x="7317360" y="171036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5"/>
          <a:stretch/>
        </p:blipFill>
        <p:spPr>
          <a:xfrm rot="5400000">
            <a:off x="7317360" y="4590000"/>
            <a:ext cx="3203640" cy="449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50760" y="2708280"/>
            <a:ext cx="72216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Viver através dos outros é uma maneira tanto de alcançar o inalcançável quanto de fugir à eventuais conseqüências desse mesmo ti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 vi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476280"/>
            <a:ext cx="8207280" cy="5977080"/>
          </a:xfrm>
          <a:prstGeom prst="rect">
            <a:avLst/>
          </a:prstGeom>
          <a:solidFill>
            <a:srgbClr val="000000"/>
          </a:solid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0" y="-493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3132000" y="-23760"/>
            <a:ext cx="3024360" cy="423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/>
          <a:stretch/>
        </p:blipFill>
        <p:spPr>
          <a:xfrm>
            <a:off x="6012000" y="-38160"/>
            <a:ext cx="3132000" cy="438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9"/>
          <a:stretch/>
        </p:blipFill>
        <p:spPr>
          <a:xfrm rot="10800000">
            <a:off x="-36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0"/>
          <a:stretch/>
        </p:blipFill>
        <p:spPr>
          <a:xfrm rot="10800000">
            <a:off x="594000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1"/>
          <a:stretch/>
        </p:blipFill>
        <p:spPr>
          <a:xfrm rot="10800000">
            <a:off x="298728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2"/>
          <a:stretch/>
        </p:blipFill>
        <p:spPr>
          <a:xfrm rot="16200000">
            <a:off x="-1377000" y="171000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3"/>
          <a:stretch/>
        </p:blipFill>
        <p:spPr>
          <a:xfrm rot="16200000">
            <a:off x="-1377000" y="466128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4"/>
          <a:stretch/>
        </p:blipFill>
        <p:spPr>
          <a:xfrm rot="5277600">
            <a:off x="7317360" y="171036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5"/>
          <a:stretch/>
        </p:blipFill>
        <p:spPr>
          <a:xfrm rot="5400000">
            <a:off x="7317360" y="4590000"/>
            <a:ext cx="3203640" cy="449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71640" y="4508640"/>
            <a:ext cx="72216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onhamos não o sonho dos outros, pois nada mais individual e pessoal que sonhos, mas através do que outros possuem 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parentam ter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476280"/>
            <a:ext cx="8207280" cy="5977080"/>
          </a:xfrm>
          <a:prstGeom prst="rect">
            <a:avLst/>
          </a:prstGeom>
          <a:solidFill>
            <a:srgbClr val="000000"/>
          </a:solid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0" y="-493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3132000" y="-23760"/>
            <a:ext cx="3024360" cy="423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6012000" y="-38160"/>
            <a:ext cx="31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 rot="10800000">
            <a:off x="-36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 rot="10800000">
            <a:off x="594000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 rot="10800000">
            <a:off x="298728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2"/>
          <a:stretch/>
        </p:blipFill>
        <p:spPr>
          <a:xfrm rot="16200000">
            <a:off x="-1377000" y="171000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3"/>
          <a:stretch/>
        </p:blipFill>
        <p:spPr>
          <a:xfrm rot="16200000">
            <a:off x="-1377000" y="466128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4"/>
          <a:stretch/>
        </p:blipFill>
        <p:spPr>
          <a:xfrm rot="5277600">
            <a:off x="7317360" y="171036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5"/>
          <a:stretch/>
        </p:blipFill>
        <p:spPr>
          <a:xfrm rot="5400000">
            <a:off x="7317360" y="4590000"/>
            <a:ext cx="3203640" cy="449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71640" y="2349360"/>
            <a:ext cx="729288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Vemos a vida como quem assiste uma novela, nos ligamos, nos emocionamos, até sofremos e nos alegramos, mas podemos a qualquer momento desligar a televisão e fazer alguma outra coisa. Nos envolvemos sem estarmos verdadeiramente dentro, estamos sob a chuva cobertos por um guarda-chuva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6000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476280"/>
            <a:ext cx="8207280" cy="5977080"/>
          </a:xfrm>
          <a:prstGeom prst="rect">
            <a:avLst/>
          </a:prstGeom>
          <a:solidFill>
            <a:srgbClr val="000000"/>
          </a:solid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0" y="-493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3132000" y="-23760"/>
            <a:ext cx="3024360" cy="423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6012000" y="-38160"/>
            <a:ext cx="3132000" cy="438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 rot="10800000">
            <a:off x="-36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0"/>
          <a:stretch/>
        </p:blipFill>
        <p:spPr>
          <a:xfrm rot="10800000">
            <a:off x="594000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1"/>
          <a:stretch/>
        </p:blipFill>
        <p:spPr>
          <a:xfrm rot="10800000">
            <a:off x="298728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2"/>
          <a:stretch/>
        </p:blipFill>
        <p:spPr>
          <a:xfrm rot="16200000">
            <a:off x="-1377000" y="171000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3"/>
          <a:stretch/>
        </p:blipFill>
        <p:spPr>
          <a:xfrm rot="16200000">
            <a:off x="-1377000" y="466128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4"/>
          <a:stretch/>
        </p:blipFill>
        <p:spPr>
          <a:xfrm rot="5277600">
            <a:off x="7317360" y="171036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5"/>
          <a:stretch/>
        </p:blipFill>
        <p:spPr>
          <a:xfrm rot="5400000">
            <a:off x="7317360" y="4590000"/>
            <a:ext cx="3203640" cy="449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71640" y="2708280"/>
            <a:ext cx="72216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ssim também vemos o aperfeiçoamento pessoal. Tão brilhante e aquecedor quanto a luz do sol, a grandeza de certas almas chega até a nós, porém vemos isso como se fôssemos simples expectadores da vida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476280"/>
            <a:ext cx="8207280" cy="5977080"/>
          </a:xfrm>
          <a:prstGeom prst="rect">
            <a:avLst/>
          </a:prstGeom>
          <a:solidFill>
            <a:srgbClr val="000000"/>
          </a:solid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0" y="-493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3132000" y="-23760"/>
            <a:ext cx="3024360" cy="423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6012000" y="-38160"/>
            <a:ext cx="3132000" cy="438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9"/>
          <a:stretch/>
        </p:blipFill>
        <p:spPr>
          <a:xfrm rot="10800000">
            <a:off x="-36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0"/>
          <a:stretch/>
        </p:blipFill>
        <p:spPr>
          <a:xfrm rot="10800000">
            <a:off x="594000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1"/>
          <a:stretch/>
        </p:blipFill>
        <p:spPr>
          <a:xfrm rot="10800000">
            <a:off x="298728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2"/>
          <a:stretch/>
        </p:blipFill>
        <p:spPr>
          <a:xfrm rot="16200000">
            <a:off x="-1377000" y="171000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3"/>
          <a:stretch/>
        </p:blipFill>
        <p:spPr>
          <a:xfrm rot="16200000">
            <a:off x="-1377000" y="466128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4"/>
          <a:stretch/>
        </p:blipFill>
        <p:spPr>
          <a:xfrm rot="5277600">
            <a:off x="7317360" y="171036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5"/>
          <a:stretch/>
        </p:blipFill>
        <p:spPr>
          <a:xfrm rot="5400000">
            <a:off x="7317360" y="4590000"/>
            <a:ext cx="3203640" cy="449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71640" y="2421000"/>
            <a:ext cx="720072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É bonito ser bom, é nobre ser humilde e ter em si o dom do perdão, ou pelo menos a vontade maior de se chegar até lá, mas nos sentimos incapazes de atingir tal grandeza, como se o "ser bom" e o "procurar construir um mundo melhor" fosse dado apenas a certos privilegiados dos quais nos excluímos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4000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476280"/>
            <a:ext cx="8207280" cy="5977080"/>
          </a:xfrm>
          <a:prstGeom prst="rect">
            <a:avLst/>
          </a:prstGeom>
          <a:solidFill>
            <a:srgbClr val="000000"/>
          </a:solid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0" y="-493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7"/>
          <a:stretch/>
        </p:blipFill>
        <p:spPr>
          <a:xfrm>
            <a:off x="3132000" y="-23760"/>
            <a:ext cx="3024360" cy="423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8"/>
          <a:stretch/>
        </p:blipFill>
        <p:spPr>
          <a:xfrm>
            <a:off x="6012000" y="-38160"/>
            <a:ext cx="3132000" cy="438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9"/>
          <a:stretch/>
        </p:blipFill>
        <p:spPr>
          <a:xfrm rot="10800000">
            <a:off x="-36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0"/>
          <a:stretch/>
        </p:blipFill>
        <p:spPr>
          <a:xfrm rot="10800000">
            <a:off x="594000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1"/>
          <a:stretch/>
        </p:blipFill>
        <p:spPr>
          <a:xfrm rot="10800000">
            <a:off x="298728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2"/>
          <a:stretch/>
        </p:blipFill>
        <p:spPr>
          <a:xfrm rot="16200000">
            <a:off x="-1377000" y="171000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3"/>
          <a:stretch/>
        </p:blipFill>
        <p:spPr>
          <a:xfrm rot="16200000">
            <a:off x="-1377000" y="466128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4"/>
          <a:stretch/>
        </p:blipFill>
        <p:spPr>
          <a:xfrm rot="5277600">
            <a:off x="7317360" y="171036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5"/>
          <a:stretch/>
        </p:blipFill>
        <p:spPr>
          <a:xfrm rot="5400000">
            <a:off x="7317360" y="4590000"/>
            <a:ext cx="3203640" cy="449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71640" y="2205000"/>
            <a:ext cx="722160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oda caminhada é um trabalho sobre si mesmo. Se a mente não ordena as pernas não andam. Pensar que a vida foi construída apenas para alguns privilegiados e que podemos ficar de fora é negar a nós mesmos a possibilidade de chegar a um cimo. O que é difícil para uns o é para outros, talvez em escalas diferentes, mas difícil ainda assim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4000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476280"/>
            <a:ext cx="8207280" cy="5977080"/>
          </a:xfrm>
          <a:prstGeom prst="rect">
            <a:avLst/>
          </a:prstGeom>
          <a:solidFill>
            <a:srgbClr val="000000"/>
          </a:solid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0" y="-493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3132000" y="-23760"/>
            <a:ext cx="3024360" cy="423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6012000" y="-38160"/>
            <a:ext cx="3132000" cy="4381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 rot="10800000">
            <a:off x="-36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0"/>
          <a:stretch/>
        </p:blipFill>
        <p:spPr>
          <a:xfrm rot="10800000">
            <a:off x="594000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1"/>
          <a:stretch/>
        </p:blipFill>
        <p:spPr>
          <a:xfrm rot="10800000">
            <a:off x="298728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2"/>
          <a:stretch/>
        </p:blipFill>
        <p:spPr>
          <a:xfrm rot="16200000">
            <a:off x="-1377000" y="171000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3"/>
          <a:stretch/>
        </p:blipFill>
        <p:spPr>
          <a:xfrm rot="16200000">
            <a:off x="-1377000" y="466128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4"/>
          <a:stretch/>
        </p:blipFill>
        <p:spPr>
          <a:xfrm rot="5277600">
            <a:off x="7317360" y="171036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5"/>
          <a:stretch/>
        </p:blipFill>
        <p:spPr>
          <a:xfrm rot="5400000">
            <a:off x="7317360" y="4590000"/>
            <a:ext cx="3203640" cy="449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971640" y="2492280"/>
            <a:ext cx="722160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or que o ser humano recusa-se terminantemente a uma mudança radical, quando essa mudança é para seu próprio bem? Talvez por se sentir incapaz, não merecedor ou simplesmente porque a acomodação exige menos esforço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476280"/>
            <a:ext cx="8207280" cy="5977080"/>
          </a:xfrm>
          <a:prstGeom prst="rect">
            <a:avLst/>
          </a:prstGeom>
          <a:solidFill>
            <a:srgbClr val="000000"/>
          </a:solid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0" y="-493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3132000" y="-23760"/>
            <a:ext cx="3024360" cy="4237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8"/>
          <a:stretch/>
        </p:blipFill>
        <p:spPr>
          <a:xfrm>
            <a:off x="6012000" y="-38160"/>
            <a:ext cx="3132000" cy="4381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9"/>
          <a:stretch/>
        </p:blipFill>
        <p:spPr>
          <a:xfrm rot="10800000">
            <a:off x="-36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0"/>
          <a:stretch/>
        </p:blipFill>
        <p:spPr>
          <a:xfrm rot="10800000">
            <a:off x="594000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1"/>
          <a:stretch/>
        </p:blipFill>
        <p:spPr>
          <a:xfrm rot="10800000">
            <a:off x="298728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2"/>
          <a:stretch/>
        </p:blipFill>
        <p:spPr>
          <a:xfrm rot="16200000">
            <a:off x="-1377000" y="171000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3"/>
          <a:stretch/>
        </p:blipFill>
        <p:spPr>
          <a:xfrm rot="16200000">
            <a:off x="-1377000" y="466128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4"/>
          <a:stretch/>
        </p:blipFill>
        <p:spPr>
          <a:xfrm rot="5277600">
            <a:off x="7317360" y="171036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5"/>
          <a:stretch/>
        </p:blipFill>
        <p:spPr>
          <a:xfrm rot="5400000">
            <a:off x="7317360" y="4590000"/>
            <a:ext cx="3203640" cy="4492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971640" y="2492280"/>
            <a:ext cx="729288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edras preciosas são, a princípio, grosseiras pedras que podem ser confundidas com quaisquer outras. O polimento requer quebra, corte, mudança e tempo. Entregarmo-nos a esse polimento é recolhermo-nos, abandonarmos as idéias pré-concebidas e abrirmo-nos a algo novo, desconhecido e temível ao mesmo tempo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6000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7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20:21:35Z</dcterms:created>
  <dc:creator>Beth Norling</dc:creator>
  <dc:description/>
  <dc:language>en-US</dc:language>
  <cp:lastModifiedBy>Beth Norling</cp:lastModifiedBy>
  <dcterms:modified xsi:type="dcterms:W3CDTF">2008-05-15T21:26:10Z</dcterms:modified>
  <cp:revision>11</cp:revision>
  <dc:subject/>
  <dc:title>Viver_por_procuracao</dc:title>
</cp:coreProperties>
</file>