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14%20Amy's%20Lullaby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7759-9B24-4E62-B7E5-9AE76367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6F0-762D-4988-BD64-D879CDDB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7329-12CF-43F0-8261-C4AE6F2A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0E6-E42B-47B7-AB20-7CC58FE6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C85-24CE-460F-AA3F-73227300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F61-F993-423E-9D88-8F2665E0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381-5370-43E0-BE51-2D1B47C4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03A4-C1C6-4990-97DF-6255C0E8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F45-48F4-45A7-B671-A91A1C99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8E6-A73F-425E-813E-C1572CF6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38C-8D1F-4325-B93D-2E0737A8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5B5-4A04-4534-8862-9C43FC73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0927-CB73-4E11-B45E-6487789C5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4%20Amy&apos;s%20Lullaby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A007578" descr=""/>
          <p:cNvPicPr/>
          <p:nvPr/>
        </p:nvPicPr>
        <p:blipFill>
          <a:blip r:embed="rId1"/>
          <a:srcRect l="0" t="823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28600" y="380880"/>
            <a:ext cx="688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a04100"/>
                </a:solidFill>
                <a:latin typeface="Arial Black"/>
              </a:rPr>
              <a:t>APRENDENDO A SER FELIZ</a:t>
            </a:r>
            <a:endParaRPr b="0" lang="en-US" sz="2400" spc="1" strike="noStrike">
              <a:ln w="9360">
                <a:solidFill>
                  <a:srgbClr val="ffcc99"/>
                </a:solidFill>
                <a:miter/>
              </a:ln>
              <a:solidFill>
                <a:srgbClr val="a041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495680" y="5257800"/>
            <a:ext cx="320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a04100"/>
                </a:solidFill>
                <a:latin typeface="Arial Black"/>
              </a:rPr>
              <a:t>Letícia Thompson</a:t>
            </a:r>
            <a:endParaRPr b="0" lang="en-US" sz="2400" spc="1" strike="noStrike">
              <a:ln w="9360">
                <a:solidFill>
                  <a:srgbClr val="ffcc99"/>
                </a:solidFill>
                <a:miter/>
              </a:ln>
              <a:solidFill>
                <a:srgbClr val="a04100"/>
              </a:solidFill>
              <a:latin typeface="Arial Black"/>
              <a:ea typeface="Arial Black"/>
            </a:endParaRPr>
          </a:p>
        </p:txBody>
      </p:sp>
    </p:spTree>
  </p:cSld>
  <p:transition spd="slow">
    <p:checker dir="horz"/>
    <p:sndAc>
      <p:stSnd>
        <p:snd r:embed="rId2" name="14%20Amy's%20Lullab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sis529-056" descr=""/>
          <p:cNvPicPr/>
          <p:nvPr/>
        </p:nvPicPr>
        <p:blipFill>
          <a:blip r:embed="rId1"/>
          <a:srcRect l="0" t="6722" r="0" b="0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37040" y="1295280"/>
            <a:ext cx="3902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837"/>
                </a:solidFill>
                <a:latin typeface="Arial"/>
              </a:rPr>
              <a:t>Às vezes penso que 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837"/>
                </a:solidFill>
                <a:latin typeface="Arial"/>
              </a:rPr>
              <a:t>somos mais felizes porque não queremos. Ou não nos esforçamos o suficiente. A mínima coisa pode mudar nosso humor e, se isso acontece de manhãzinha, para muitos o dia inteiro fica tri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56970425" descr=""/>
          <p:cNvPicPr/>
          <p:nvPr/>
        </p:nvPicPr>
        <p:blipFill>
          <a:blip r:embed="rId1"/>
          <a:srcRect l="0" t="1006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61080" y="649440"/>
            <a:ext cx="3902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Talvez, ficando adult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a gente se torne adulto demais. Perdemos a capacidade de nos alegrar com as coisas pequenininhas, ficamos talvez, guardando o riso para as grandes ocasiões, como as roupas bonitas, fechadas em armários. E se essas ocasiões tardam, então passamos boa parte da vida sem ter aproveitado. Uma pen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00355661-001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03880" y="1447920"/>
            <a:ext cx="4206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A felicidade é um exercí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diário de levantar a cabeça e seguir em frente apesar dos pesares. É não deixar que as tristezas dominem o dia, não deixar que as mágoas sejam mais fortes que as boas lembranç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A004257" descr=""/>
          <p:cNvPicPr/>
          <p:nvPr/>
        </p:nvPicPr>
        <p:blipFill>
          <a:blip r:embed="rId1"/>
          <a:srcRect l="0" t="823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040" y="380880"/>
            <a:ext cx="4587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elicidade é reconhecer-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queno e dizer: agora estou assim, mas nada me impede de abrir a janela e deixar que o sol penetre e traga luz para a minha vida. É sempre possível fazer um esforço... E geralmente são as coisas pelas quais lutamos com nosso coração que dão razão à noss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ça da sua felicidade a sua luta. Seu riso será a sua vitória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4240" y="4724280"/>
            <a:ext cx="3232080" cy="9464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Formatação: 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Música: Amy’s Lulla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1:48:04Z</dcterms:created>
  <dc:creator>Beth Norling</dc:creator>
  <dc:description/>
  <dc:language>en-US</dc:language>
  <cp:lastModifiedBy>Usuário</cp:lastModifiedBy>
  <dcterms:modified xsi:type="dcterms:W3CDTF">2006-10-24T18:06:55Z</dcterms:modified>
  <cp:revision>4</cp:revision>
  <dc:subject/>
  <dc:title>Aprendendo a ser feliz</dc:title>
</cp:coreProperties>
</file>