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14%20Amy's%20Lullaby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90C5-6383-4B3D-A0EF-2529D722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1DF-28EB-4138-9D02-2A79B250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AA65-A9D0-43CB-BDA3-07492F11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367F-92B8-4166-8191-77584906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F00B-74D9-4255-BA67-EB66B8D0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E14B-94DE-4ABA-B25D-25B10C56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5EFD-0CD4-4160-8E76-DC23FA3B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46A4-A414-4871-9F24-F21347F9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6060-2326-404D-889C-BB58FDD1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2287-9CBA-493B-9B62-1D451470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68A-1C5C-4E02-B695-89A2748F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C0FE-6657-4F4C-8550-1CDBDF67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D4B2-1982-4A06-B45B-4BEC1DFC3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4%20Amy&apos;s%20Lullaby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mailto:bethnorling@globo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A007578" descr=""/>
          <p:cNvPicPr/>
          <p:nvPr/>
        </p:nvPicPr>
        <p:blipFill>
          <a:blip r:embed="rId1"/>
          <a:srcRect l="0" t="823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28600" y="380880"/>
            <a:ext cx="6886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a04100"/>
                </a:solidFill>
                <a:latin typeface="Arial Black"/>
              </a:rPr>
              <a:t>APRENDENDO A SER FELIZ</a:t>
            </a:r>
            <a:endParaRPr b="0" lang="en-US" sz="2400" spc="1" strike="noStrike">
              <a:ln w="9360">
                <a:solidFill>
                  <a:srgbClr val="ffcc99"/>
                </a:solidFill>
                <a:miter/>
              </a:ln>
              <a:solidFill>
                <a:srgbClr val="a041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495680" y="5257800"/>
            <a:ext cx="320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a04100"/>
                </a:solidFill>
                <a:latin typeface="Arial Black"/>
              </a:rPr>
              <a:t>Letícia Thompson</a:t>
            </a:r>
            <a:endParaRPr b="0" lang="en-US" sz="2400" spc="1" strike="noStrike">
              <a:ln w="9360">
                <a:solidFill>
                  <a:srgbClr val="ffcc99"/>
                </a:solidFill>
                <a:miter/>
              </a:ln>
              <a:solidFill>
                <a:srgbClr val="a04100"/>
              </a:solidFill>
              <a:latin typeface="Arial Black"/>
              <a:ea typeface="Arial Black"/>
            </a:endParaRPr>
          </a:p>
        </p:txBody>
      </p:sp>
    </p:spTree>
  </p:cSld>
  <p:transition spd="slow">
    <p:checker dir="horz"/>
    <p:sndAc>
      <p:stSnd>
        <p:snd r:embed="rId2" name="14%20Amy's%20Lullaby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sis529-056" descr=""/>
          <p:cNvPicPr/>
          <p:nvPr/>
        </p:nvPicPr>
        <p:blipFill>
          <a:blip r:embed="rId1"/>
          <a:srcRect l="0" t="6722" r="0" b="0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937040" y="1295280"/>
            <a:ext cx="3902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837"/>
                </a:solidFill>
                <a:latin typeface="Arial"/>
              </a:rPr>
              <a:t>Às vezes penso que n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837"/>
                </a:solidFill>
                <a:latin typeface="Arial"/>
              </a:rPr>
              <a:t>somos mais felizes porque não queremos. Ou não nos esforçamos o suficiente. A mínima coisa pode mudar nosso humor e, se isso acontece de manhãzinha, para muitos o dia inteiro fica tris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56970425" descr=""/>
          <p:cNvPicPr/>
          <p:nvPr/>
        </p:nvPicPr>
        <p:blipFill>
          <a:blip r:embed="rId1"/>
          <a:srcRect l="0" t="1006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861080" y="649440"/>
            <a:ext cx="3902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Talvez, ficando adult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a gente se torne adulto demais. Perdemos a capacidade de nos alegrar com as coisas pequenininhas, ficamos talvez, guardando o riso para as grandes ocasiões, como as roupas bonitas, fechadas em armários. E se essas ocasiões tardam, então passamos boa parte da vida sem ter aproveitado. Uma pen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00355661-001" descr=""/>
          <p:cNvPicPr/>
          <p:nvPr/>
        </p:nvPicPr>
        <p:blipFill>
          <a:blip r:embed="rId1"/>
          <a:srcRect l="0" t="1009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03880" y="1447920"/>
            <a:ext cx="4206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</a:rPr>
              <a:t>A felicidade é um exercí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</a:rPr>
              <a:t>diário de levantar a cabeça e seguir em frente apesar dos pesares. É não deixar que as tristezas dominem o dia, não deixar que as mágoas sejam mais fortes que as boas lembranç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A004257" descr=""/>
          <p:cNvPicPr/>
          <p:nvPr/>
        </p:nvPicPr>
        <p:blipFill>
          <a:blip r:embed="rId1"/>
          <a:srcRect l="0" t="823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5040" y="380880"/>
            <a:ext cx="4587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elicidade é reconhecer-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equeno e dizer: agora estou assim, mas nada me impede de abrir a janela e deixar que o sol penetre e traga luz para a minha vida. É sempre possível fazer um esforço... E geralmente são as coisas pelas quais lutamos com nosso coração que dão razão à nossa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ça da sua felicidade a sua luta. Seu riso será a sua vitória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4240" y="4724280"/>
            <a:ext cx="3232080" cy="94644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Formatação:  Beth Nor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E-mail: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bethnorling@glob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Imagens: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Música: Amy’s Lulla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11:48:04Z</dcterms:created>
  <dc:creator>Beth Norling</dc:creator>
  <dc:description/>
  <dc:language>en-US</dc:language>
  <cp:lastModifiedBy>Usuário</cp:lastModifiedBy>
  <dcterms:modified xsi:type="dcterms:W3CDTF">2006-10-24T18:06:55Z</dcterms:modified>
  <cp:revision>4</cp:revision>
  <dc:subject/>
  <dc:title>Aprendendo a ser feliz</dc:title>
</cp:coreProperties>
</file>