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NESTO%20CORTAZAR%20-%20LA%20VIE%20EN%20ROSE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A09-9E97-434F-BA21-41292AC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591-7393-4718-BDAA-01FB4A8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A01-0A51-41D9-8A9B-F3CD7118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813-09F0-40BD-A187-67513E1F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96A-D156-46AC-B6FB-C7B9840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E0E-DE7D-4286-8AE5-015D009E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5D2-88E9-4910-983B-9D3B81C5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7EF-2E2E-47BA-8D8F-A1893EAC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880-9B07-4D99-9ACD-D22D2E8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2CD-ABF6-41BB-9E92-BA94D5C4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DF0-3495-4B20-B1D3-6E6148E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8ED-B35A-4680-964C-EBE53ECA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D2B-7586-43A5-83B4-4D1A119A77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LA%20VIE%20EN%20RO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mailto:bethnorling@globo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23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85960" y="2362320"/>
            <a:ext cx="5572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ADOLESCÊNCIA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38600" y="3809880"/>
            <a:ext cx="346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tícia Thomps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5040" y="1066680"/>
            <a:ext cx="374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ida é uma maravilhosa caixa de surpres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tenha pressa em viver, mesmo se todos dizem que a vida corre. Deus, na Sua infinita sabedoria, fez tudo a seu tempo e nos dá o tempo necessário para tudo descobr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904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080" y="457200"/>
            <a:ext cx="3597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s crianças querem crescer depressa, os adolescentes querem ser adultos depressa e os mais vividos gostariam de voltar atrás. E tudo o que todos conseguem com isso é atrapalhar a ordem natural das coisas e é por isso que muitas vezes temos a impressão que o mundo está de cabeça pra bai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012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878040"/>
            <a:ext cx="4190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adolescência é um período intermediário entre a criança e o adulto e é importante buscar a afi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corra, não queira tudo experimentar, não queira envelhecer depress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ubra, dia-a-dia, o que essa maravilhosa caixinha te reserva e acolha o que ela te oferece de braços ab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457200"/>
            <a:ext cx="4190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tenha medos, eles te impedirão de viver. Mas não encare a vida com ousadia exagerada, ela poderá causar danos irreparáveis. Aprenda o equilí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ultive seus sonhos, mas sem ignorar que a realidade existe. Saiba que se todos os seus sonhos se realizassem, sua vida acab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1480" y="72540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ão feche os olhos à dor, é ela que te ensina a melhor apreciar seus momentos de felic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ja bom, franco, honesto! As pessoas aprenderão a te conhecer pela sua maneira de viver mais do que pelas suas palav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82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457200"/>
            <a:ext cx="441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 quando o amor vier te encontrar, acolha-o com doçura, sem esperar demais, sem cobrar demais, sem querer demais. E se ele partir, prepare a terra do seu coração para uma nova se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nca desista de um caminho por causa de uma barreira. Muitas vezes elas chegam para provar nossa resistência, não para nos impedir de caminh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670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080" y="344520"/>
            <a:ext cx="390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iba que a paciência é uma das maiores virtudes. Cultive-a! Ela te ensinará a vi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, qualquer que seja o caminho que tenha que atravessar, saiba que Deus estará presente, que nunca te abandonará e que será seu guia. Segure Suas Mãos sant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trua, dia-a-dia, suas lembranças de amanhã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4648320"/>
            <a:ext cx="3124080" cy="115956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ormatação: Beth Nor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thnorling@glob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Imagens: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Música: Ernesto Cortaz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a Vie em R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21:06:26Z</dcterms:created>
  <dc:creator>Beth Norling</dc:creator>
  <dc:description/>
  <dc:language>en-US</dc:language>
  <cp:lastModifiedBy>Letícia Thompson</cp:lastModifiedBy>
  <dcterms:modified xsi:type="dcterms:W3CDTF">2006-10-31T17:35:14Z</dcterms:modified>
  <cp:revision>4</cp:revision>
  <dc:subject/>
  <dc:title>A_adolescência</dc:title>
</cp:coreProperties>
</file>