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%20CORTAZAR%20-%20LA%20VIE%20EN%20ROSE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666-B45C-4250-B12C-DBC86FB1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3E1-1ACD-46E2-B635-03CAD7B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E6B-97D8-403A-99B7-6426379F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460-6A02-40EF-9CE3-E35F70D3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A8C-E5DC-475F-8564-BF41798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8E3-4D0F-4AC3-9036-A66CE2C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1FB-C023-4E25-9147-215C7F3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2F9-8B2D-4A37-A4F3-AC3FEF4C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9F9-3948-4D30-A4C2-D0DBF82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5F2-01B2-4FD4-A76F-513F7DF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541-9748-4C00-BDBF-731250C1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6AD-4B46-429C-8A73-B9D76FB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FDD-89CE-474D-A87D-009C6665B2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85960" y="2362320"/>
            <a:ext cx="5572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ADOLESCÊNCIA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809880"/>
            <a:ext cx="346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1066680"/>
            <a:ext cx="374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ida é uma maravilhosa caixa de surpres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tenha pressa em viver, mesmo se todos dizem que a vida corre. Deus, na Sua infinita sabedoria, fez tudo a seu tempo e nos dá o tempo necessário para tudo descobr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904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457200"/>
            <a:ext cx="359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s crianças querem crescer depressa, os adolescentes querem ser adultos depressa e os mais vividos gostariam de voltar atrás. E tudo o que todos conseguem com isso é atrapalhar a ordem natural das coisas e é por isso que muitas vezes temos a impressão que o mundo está de cabeça pra bai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878040"/>
            <a:ext cx="4190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adolescência é um período intermediário entre a criança e o adulto e é importante buscar a afi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corra, não queira tudo experimentar, não queira envelhecer depress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ubra, dia-a-dia, o que essa maravilhosa caixinha te reserva e acolha o que ela te oferece de braços ab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457200"/>
            <a:ext cx="4190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tenha medos, eles te impedirão de viver. Mas não encare a vida com ousadia exagerada, ela poderá causar danos irreparáveis. Aprenda o equilí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ultive seus sonhos, mas sem ignorar que a realidade existe. Saiba que se todos os seus sonhos se realizassem, sua vida acab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72540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feche os olhos à dor, é ela que te ensina a melhor apreciar seus momentos de felic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ja bom, franco, honesto! As pessoas aprenderão a te conhecer pela sua maneira de viver mais do que pelas suas palav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82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457200"/>
            <a:ext cx="441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quando o amor vier te encontrar, acolha-o com doçura, sem esperar demais, sem cobrar demais, sem querer demais. E se ele partir, prepare a terra do seu coração para uma nova s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nca desista de um caminho por causa de uma barreira. Muitas vezes elas chegam para provar nossa resistência, não para nos impedir de camin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080" y="344520"/>
            <a:ext cx="390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iba que a paciência é uma das maiores virtudes. Cultive-a! Ela te ensinará 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, qualquer que seja o caminho que tenha que atravessar, saiba que Deus estará presente, que nunca te abandonará e que será seu guia. Segure Suas Mãos sant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trua, dia-a-dia, suas lembranças de amanhã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648320"/>
            <a:ext cx="3124080" cy="11595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Ernesto Cortaz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a Vie em R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21:06:26Z</dcterms:created>
  <dc:creator>Beth Norling</dc:creator>
  <dc:description/>
  <dc:language>en-US</dc:language>
  <cp:lastModifiedBy>Letícia Thompson</cp:lastModifiedBy>
  <dcterms:modified xsi:type="dcterms:W3CDTF">2006-10-31T17:35:14Z</dcterms:modified>
  <cp:revision>4</cp:revision>
  <dc:subject/>
  <dc:title>A_adolescência</dc:title>
</cp:coreProperties>
</file>