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media/Andr%C3%A9%20Rieu%20-%20Memories.wav" ContentType="audio/x-wav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ACC-814E-42A6-9BEE-A783667F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CAB-C6D4-4B92-ADBF-8559B4A2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8DB-667D-4907-B626-FEEEC150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E31-8018-4441-91B9-D453550C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58C-2A52-412F-907F-E5177DA9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104-4F39-4656-996B-F91C3F0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E5D-5DA0-4357-BDC3-146C5A24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BB5-A834-4C14-8777-E900DB08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F76-DA33-4717-9327-7248B8C9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3F4-3286-4E68-9B85-F048C4ED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B5B-E11C-4620-A095-592EF55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3A9-A3A8-427E-BA22-11B2E09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133-16EC-4358-A116-67E8B51D22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404640"/>
            <a:ext cx="8207280" cy="597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38036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0" y="51530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7439040" y="515304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Andr&#233;%20Rieu%20-%20Memori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620640"/>
            <a:ext cx="7490160" cy="55450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56000" y="1844640"/>
            <a:ext cx="40003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AMOR</a:t>
            </a:r>
            <a:endParaRPr b="0" i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16360" y="4149720"/>
            <a:ext cx="3466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332000" y="119700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escraviza, sem que por isso 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intamos cativos e tenhamos desejos de liberdad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prisão voluntá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limita e nos deixa ilim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riso do outro pode ser nossa felicidade, bem como sua lágrima pode ser nossa tristeza. A pessoa amada pode tocar nossa alma a qualquer momento e nós mesmos, sem reservas, deixamos a porta abe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836640"/>
            <a:ext cx="7490160" cy="511344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547640" y="191628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eu não tivesse amor... nada ser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 tendo amor, tudo entrego e nada s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, de tão nobre, nos torna humildes. Nos possuindo, possui também forças, nossas vontades, nos deixa à mercê do outro e dos seus desej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7731" r="0" b="0"/>
          <a:stretch/>
        </p:blipFill>
        <p:spPr>
          <a:xfrm>
            <a:off x="755640" y="692280"/>
            <a:ext cx="7632720" cy="532908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00000" y="90792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ando o amor torna-se a razão da nossa vida, a falta dele torna-se também a não razão d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Tão grandes e tão pequenos somos quando amamos algué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Já nem sei quem sou se não somos d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não somos dois, não sou nin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Hei de morrer de amor, se de amor não posso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70400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116000" y="191628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os mói, nos transforma. De t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doer, nos ensina a resignação, a acei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sublime porta por onde entramos e deixamos na entrada nossas defesas. Mas ainda assim nos faz sentir fortes o bastante para enfrentar o mundo. Somos condenados e agraciados ao mesm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116000" y="1341360"/>
            <a:ext cx="69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ão tem razão, não tem explicaçã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em definição. É tudo por tu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em amou uma vez, amará ainda. E chorará. E rirá. E dará graças por essa aura que o torna diferente aos olhos d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é sublime e sub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ão mais palavras... se o amor sem falar já diz tu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7280" y="155736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Texto: Letícia Thompson - O 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Música: André Rieu – </a:t>
            </a:r>
            <a:r>
              <a:rPr b="1" lang="en-US" sz="2000" spc="-1" strike="noStrike">
                <a:solidFill>
                  <a:srgbClr val="ffebeb"/>
                </a:solidFill>
                <a:latin typeface="Comic Sans MS"/>
              </a:rPr>
              <a:t>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E-mail: </a:t>
            </a: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3"/>
              </a:rPr>
              <a:t>bethnorling@globo.com</a:t>
            </a: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8:48:08Z</dcterms:created>
  <dc:creator>Beth Norling</dc:creator>
  <dc:description/>
  <dc:language>en-US</dc:language>
  <cp:lastModifiedBy>Letícia Thompson</cp:lastModifiedBy>
  <dcterms:modified xsi:type="dcterms:W3CDTF">2007-03-23T12:59:39Z</dcterms:modified>
  <cp:revision>7</cp:revision>
  <dc:subject/>
  <dc:title>O Amor LT</dc:title>
</cp:coreProperties>
</file>