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Schubert-%20Serenade%20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AC1-A62C-4985-AD0E-5FF7CEC3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2E1-A7BB-4945-AE64-BB52ADD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C77-1DC0-4A64-B37F-708A5ACD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D0D-63A3-4C5B-A279-1B2B8E29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CC5-361D-4941-8740-589B1C8C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CDA-9B8F-4E9F-B30F-B0EEE1B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D5F-DD44-43DE-B87E-0372BD4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EC0-6794-4AC4-A09D-860CCA3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BC4-B48A-4DA0-BBED-FFC6A8D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D50-2552-42BA-AF75-1BF89A7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A7A-5263-4AA7-B07D-1ACD8B0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F4C-DE19-4614-9932-F28985A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77B8-A416-4899-9D6E-D633834895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Schubert-%20Serenade%20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791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219320"/>
            <a:ext cx="6581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ÊNÇÃOS EM GOTAS</a:t>
            </a:r>
            <a:endParaRPr b="0" i="1" lang="en-US" sz="44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3352680"/>
            <a:ext cx="3467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6" name="Schubert-%20Serenade%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708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24280" y="685800"/>
            <a:ext cx="4038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u gostaria de saber onde está a origem da nossa insatisfação. Buscamos grandes coisas, esperamos grandes coisas, aquelas que possam fazer com que nosso dia fuja do extraordi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37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598320"/>
            <a:ext cx="443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Viver nunca nos parece suficiente, esperamos sempre mais e quanto mais temos, mais desej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Olhamos as pessoas à nossa volta, cremos que são felizes, achamos que a vida parece bem mais simples pra elas, que o melhor sempre vem para os ou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99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1480" y="457200"/>
            <a:ext cx="365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Não nos basta ter uma terra prometida, queremos que seja a mais vitoriosa de todas. Mas nenhum castelo será bonito o suficiente para nos satisfazer, se não aprendemos a nos bastar com pouco que recebemo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1003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080" y="598320"/>
            <a:ext cx="435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Ansiamos por grandes chuvas e nos esquecemos de nos contentar com o sereno da madrugada, suave e refresc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676520"/>
            <a:ext cx="396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Há bênçãos que tardam a vir e não compreendemos o porquê. Enquanto isso, ao invés de aproveitar as gotículas que recebemos a cada dia, nos perdemos em murmur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760" y="1600200"/>
            <a:ext cx="8626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É muito mais fácil reclamar do que não temos do que reconhecer que o que possuímos são tesouros em pequenas e diversas pedras que se incrustam no nosso dia-a-dia: a saúde, os filhos, os amigos, um abrigo, o fato de termos o que comer, vestir e ainda, como coroa, esse imenso quadro da natureza que o Senhor pintou e deu vida para nosso dele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7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040" y="1295280"/>
            <a:ext cx="458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Viver do contentamento de ser o que somos, de ter o que temos é agradar ao coração de Jesus, que nada possuía quando veio, mas nem por isso era menos r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446040"/>
            <a:ext cx="472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Somos o que somos e o Senhor nos dá o bastante para nossa felicidade. Ansiar por mais é fechar as portas aos pedacinhos de bem-viver com os quais Ele nos presente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44197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ff"/>
                </a:solidFill>
                <a:latin typeface="Arial"/>
              </a:rPr>
              <a:t>Visite o site: http://www.leticiathompson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320" y="5116680"/>
            <a:ext cx="2716560" cy="9464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Música: Schubert – Seren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52:04Z</dcterms:created>
  <dc:creator>Beth Norling</dc:creator>
  <dc:description/>
  <dc:language>en-US</dc:language>
  <cp:lastModifiedBy>Letícia Thompson</cp:lastModifiedBy>
  <dcterms:modified xsi:type="dcterms:W3CDTF">2006-12-01T16:43:17Z</dcterms:modified>
  <cp:revision>2</cp:revision>
  <dc:subject/>
  <dc:title>Bênçãos_em_Gotas</dc:title>
</cp:coreProperties>
</file>