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Schubert-%20Serenade%20.wav" ContentType="audio/x-wav"/>
  <Override PartName="/ppt/media/image7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5535-9C58-4F8D-B90B-3E455160B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D1C5-EB1B-4232-AD18-F9D0354B1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ED77-6EF6-45FB-8E03-A7B38704F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705A-CBAB-4174-B120-3B9BEC408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5EC2-7549-478F-BC56-28321F68E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334A-B8A5-4037-8F57-B459E7363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D05C-CC11-477C-A4C4-B64329C9E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47D0-3BBA-4DB8-A2F9-205A882BF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F70A-A95E-40F1-82BD-E834DE4AF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9792-4977-4228-B30E-4E72A89DC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3854-85D5-4A19-955D-DE6E78098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AEBB-9C79-4C72-8EC8-B7272506A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6C8F8-DE42-4558-92DB-9F76D185C3F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audio" Target="../media/Schubert-%20Serenade%20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mailto:bethnorling@globo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7911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295280" y="1219320"/>
            <a:ext cx="6581880" cy="13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1" strike="noStrike">
                <a:ln w="9360">
                  <a:solidFill>
                    <a:srgbClr val="ffcccc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BÊNÇÃOS EM GOTAS</a:t>
            </a:r>
            <a:endParaRPr b="0" i="1" lang="en-US" sz="4400" spc="1" strike="noStrike">
              <a:ln w="9360">
                <a:solidFill>
                  <a:srgbClr val="ffcccc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819520" y="3352680"/>
            <a:ext cx="34671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ffcccc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Letícia Thompson</a:t>
            </a:r>
            <a:endParaRPr b="0" i="1" lang="en-US" sz="2800" spc="1" strike="noStrike">
              <a:ln w="9360">
                <a:solidFill>
                  <a:srgbClr val="ffcccc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randomBar dir="vert"/>
    <p:sndAc>
      <p:stSnd>
        <p:snd r:embed="rId6" name="Schubert-%20Serenade%20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7087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724280" y="685800"/>
            <a:ext cx="40388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Arial"/>
              </a:rPr>
              <a:t>Eu gostaria de saber onde está a origem da nossa insatisfação. Buscamos grandes coisas, esperamos grandes coisas, aquelas que possam fazer com que nosso dia fuja do extraordinár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9" dur="3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10371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89080" y="598320"/>
            <a:ext cx="44352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Arial"/>
              </a:rPr>
              <a:t>Viver nunca nos parece suficiente, esperamos sempre mais e quanto mais temos, mais deseja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Arial"/>
              </a:rPr>
              <a:t>Olhamos as pessoas à nossa volta, cremos que são felizes, achamos que a vida parece bem mais simples pra elas, que o melhor sempre vem para os outr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6" dur="3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9946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181480" y="457200"/>
            <a:ext cx="36576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Arial"/>
              </a:rPr>
              <a:t>Não nos basta ter uma terra prometida, queremos que seja a mais vitoriosa de todas. Mas nenhum castelo será bonito o suficiente para nos satisfazer, se não aprendemos a nos bastar com pouco que recebemos da vi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" dur="3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10035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89080" y="598320"/>
            <a:ext cx="43592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Arial"/>
              </a:rPr>
              <a:t>Ansiamos por grandes chuvas e nos esquecemos de nos contentar com o sereno da madrugada, suave e refresca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76920" y="1676520"/>
            <a:ext cx="3962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Arial"/>
              </a:rPr>
              <a:t>Há bênçãos que tardam a vir e não compreendemos o porquê. Enquanto isso, ao invés de aproveitar as gotículas que recebemos a cada dia, nos perdemos em murmuraçõ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0" dur="3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5" dur="3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10094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12760" y="1600200"/>
            <a:ext cx="8626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Arial"/>
              </a:rPr>
              <a:t>É muito mais fácil reclamar do que não temos do que reconhecer que o que possuímos são tesouros em pequenas e diversas pedras que se incrustam no nosso dia-a-dia: a saúde, os filhos, os amigos, um abrigo, o fato de termos o que comer, vestir e ainda, como coroa, esse imenso quadro da natureza que o Senhor pintou e deu vida para nosso delei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2" dur="3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6749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040" y="1295280"/>
            <a:ext cx="458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Arial"/>
              </a:rPr>
              <a:t>Viver do contentamento de ser o que somos, de ter o que temos é agradar ao coração de Jesus, que nada possuía quando veio, mas nem por isso era menos re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9" dur="3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0" t="10094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114800" y="446040"/>
            <a:ext cx="4724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Arial"/>
              </a:rPr>
              <a:t>Somos o que somos e o Senhor nos dá o bastante para nossa felicidade. Ansiar por mais é fechar as portas aos pedacinhos de bem-viver com os quais Ele nos presente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343400" y="4419720"/>
            <a:ext cx="449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ccff"/>
                </a:solidFill>
                <a:latin typeface="Arial"/>
              </a:rPr>
              <a:t>Visite o site: http://www.leticiathompson.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97320" y="5116680"/>
            <a:ext cx="2716560" cy="946440"/>
          </a:xfrm>
          <a:prstGeom prst="rect">
            <a:avLst/>
          </a:prstGeom>
          <a:noFill/>
          <a:ln w="5724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ff"/>
                </a:solidFill>
                <a:latin typeface="Arial"/>
              </a:rPr>
              <a:t>Formatação: Beth Nor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ff"/>
                </a:solidFill>
                <a:latin typeface="Arial"/>
              </a:rPr>
              <a:t>E-mail: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bethnorling@globo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ff"/>
                </a:solidFill>
                <a:latin typeface="Arial"/>
              </a:rPr>
              <a:t>Imagens: Int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ff"/>
                </a:solidFill>
                <a:latin typeface="Arial"/>
              </a:rPr>
              <a:t>Música: Schubert – Serena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6" dur="3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7T16:52:04Z</dcterms:created>
  <dc:creator>Beth Norling</dc:creator>
  <dc:description/>
  <dc:language>en-US</dc:language>
  <cp:lastModifiedBy>Letícia Thompson</cp:lastModifiedBy>
  <dcterms:modified xsi:type="dcterms:W3CDTF">2006-12-01T16:43:17Z</dcterms:modified>
  <cp:revision>2</cp:revision>
  <dc:subject/>
  <dc:title>Bênçãos_em_Gotas</dc:title>
</cp:coreProperties>
</file>