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02_STR_12.WAV" ContentType="audio/x-wav"/>
  <Override PartName="/ppt/media/image6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44EE-4978-47BA-A068-6B514DDA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3738-49DD-4158-99E0-CC22C14B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FF80-B925-4F9C-AC4E-7C812CAA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352F-73D6-43DA-B964-C180539FA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08DF-2742-4A3A-BF9A-8C4D3D84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AB24-FBA6-4A52-AF7F-071AB4E1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603F-3363-4292-A58D-1F2B3696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55B7-F6B1-44FF-AB99-1CD81AC8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EDFE-368F-471D-93D3-7613F260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BFAC-49D8-4F1C-B1A5-417C0DF4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0A5E-7EE7-4D16-A7EE-A190CBA4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47F2-C5B5-467C-9C98-0CCA457A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4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579B-4B92-4E1D-8237-C229EC817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audio" Target="../media/02_STR_12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mailto:bethnorling@globo.com.br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4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71936541" descr=""/>
          <p:cNvPicPr/>
          <p:nvPr/>
        </p:nvPicPr>
        <p:blipFill>
          <a:blip r:embed="rId1"/>
          <a:srcRect l="0" t="0" r="2240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" y="533520"/>
            <a:ext cx="54100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9360">
                  <a:solidFill>
                    <a:srgbClr val="ffcc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OS TALENTOS</a:t>
            </a:r>
            <a:endParaRPr b="0" i="1" lang="en-US" sz="5400" spc="1" strike="noStrike">
              <a:ln w="9360">
                <a:solidFill>
                  <a:srgbClr val="ffcc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800600" y="5943600"/>
            <a:ext cx="4019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ffcc99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etícia Thompson</a:t>
            </a:r>
            <a:endParaRPr b="0" i="1" lang="en-US" sz="3200" spc="1" strike="noStrike">
              <a:ln w="9360">
                <a:solidFill>
                  <a:srgbClr val="ffcc99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dissolve/>
    <p:sndAc>
      <p:stSnd>
        <p:snd r:embed="rId6" name="02_STR_12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4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56958131" descr=""/>
          <p:cNvPicPr/>
          <p:nvPr/>
        </p:nvPicPr>
        <p:blipFill>
          <a:blip r:embed="rId1"/>
          <a:srcRect l="0" t="1015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1981080"/>
            <a:ext cx="403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Talento é a habilidade para desenvolver os dons com os quais Deus nos presente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914400"/>
            <a:ext cx="3962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Ninguém foi feito grande e ao nascerm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o Senhor nos oferece, como presente, um dom. Segundo as oportunidades que recebemos no início e depois, com nossa própria capacidade para trabalhar com isso, desenvolvem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ou não esse do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4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0190872" descr=""/>
          <p:cNvPicPr/>
          <p:nvPr/>
        </p:nvPicPr>
        <p:blipFill>
          <a:blip r:embed="rId1"/>
          <a:srcRect l="0" t="0" r="0" b="85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5040" y="914400"/>
            <a:ext cx="4359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Quantas vezes as pessoas olham para outras que se saem muito bem no que fazem e se dizem: </a:t>
            </a:r>
            <a:r>
              <a:rPr b="1" i="1" lang="en-US" sz="2400" spc="-1" strike="noStrike">
                <a:solidFill>
                  <a:srgbClr val="e9e47f"/>
                </a:solidFill>
                <a:latin typeface="Arial"/>
              </a:rPr>
              <a:t>“- eu queria ter esse dom!” E </a:t>
            </a: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eu pergunto: </a:t>
            </a:r>
            <a:r>
              <a:rPr b="1" i="1" lang="en-US" sz="2400" spc="-1" strike="noStrike">
                <a:solidFill>
                  <a:srgbClr val="e9e47f"/>
                </a:solidFill>
                <a:latin typeface="Arial"/>
              </a:rPr>
              <a:t>“Por quê? Onde está enterrado aquele que o Senhor te ofertou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4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57019704" descr=""/>
          <p:cNvPicPr/>
          <p:nvPr/>
        </p:nvPicPr>
        <p:blipFill>
          <a:blip r:embed="rId1"/>
          <a:srcRect l="0" t="670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65040" y="1295280"/>
            <a:ext cx="4435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Toda ferramenta não utilizada acaba enferrujando e perdendo o us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Ela nunca vai deixar de ser uma ferramenta, mas poderá ser útil ou inút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É como o próprio corpo que se não exercitado pode diminuir suas funçõ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4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71318153" descr=""/>
          <p:cNvPicPr/>
          <p:nvPr/>
        </p:nvPicPr>
        <p:blipFill>
          <a:blip r:embed="rId1"/>
          <a:srcRect l="0" t="1006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952880" y="990720"/>
            <a:ext cx="3886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Deus nos deu a c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um uma medida para a nossa contribuição aqui na terra, para o enriquecimento daqueles que passam por nós e para que, em nós, sejamos completos. Uns enterram essa medida, outros a dobram e os mais sábios a multiplic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4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200373467-001" descr=""/>
          <p:cNvPicPr/>
          <p:nvPr/>
        </p:nvPicPr>
        <p:blipFill>
          <a:blip r:embed="rId1"/>
          <a:srcRect l="0" t="1009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251460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É importante, muito importante, colocar todo o nosso coração naquilo que fazemos e o resultado virá por si s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295280"/>
            <a:ext cx="4114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Seu dom é canta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Cante como ninguém!       É escrever? Coloque sua alma em cada palavra!      É ser hospedeiro?        Abra seus braços e acolha com todo amor.           Quem sabe não seja seu dom o de ouvir as pessoas? Ouça, então, com o coração abert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4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200156555-001" descr=""/>
          <p:cNvPicPr/>
          <p:nvPr/>
        </p:nvPicPr>
        <p:blipFill>
          <a:blip r:embed="rId1"/>
          <a:srcRect l="0" t="929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65040" y="609480"/>
            <a:ext cx="443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Há no universo tanta variedade de dons quanto há de flores e pássaros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Se o mundo ainda não descobriu o que você tem de melhor dentro de si para oferecer, desenterre seu presente, limpe-o, trabalhe até que sua contribuição na terra seja revelad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4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200259298-001" descr=""/>
          <p:cNvPicPr/>
          <p:nvPr/>
        </p:nvPicPr>
        <p:blipFill>
          <a:blip r:embed="rId1"/>
          <a:srcRect l="0" t="1012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65040" y="762120"/>
            <a:ext cx="435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Não existem dons grandes  e dons pequen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pois Deus nos confiou aquilo que Ele pensava nos fazer feliz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As mãos não são mais importantes que os pés e os olhos não são melh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que a bo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Cada qual, com sua participação, enriquece nosso corpo, dá vida,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Dá utilid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13360" y="2021040"/>
            <a:ext cx="374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Ter talento é ter habilidade. É s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Habilidade de render a Deus a graça com a qual Ele nos ofert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03800" y="5040360"/>
            <a:ext cx="2922480" cy="946440"/>
          </a:xfrm>
          <a:prstGeom prst="rect">
            <a:avLst/>
          </a:prstGeom>
          <a:noFill/>
          <a:ln w="57240">
            <a:solidFill>
              <a:srgbClr val="e9e4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9e47f"/>
                </a:solidFill>
                <a:latin typeface="Arial"/>
              </a:rPr>
              <a:t>Formatação: Beth Nor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9e47f"/>
                </a:solidFill>
                <a:latin typeface="Arial"/>
              </a:rPr>
              <a:t>E-mail: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bethnorling@globo.com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9e47f"/>
                </a:solidFill>
                <a:latin typeface="Arial"/>
              </a:rPr>
              <a:t>Imagens: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9e47f"/>
                </a:solidFill>
                <a:latin typeface="Arial"/>
              </a:rPr>
              <a:t>Música: 02 STR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9:22:25Z</dcterms:created>
  <dc:creator>Beth Norling</dc:creator>
  <dc:description/>
  <dc:language>en-US</dc:language>
  <cp:lastModifiedBy>Usuário</cp:lastModifiedBy>
  <dcterms:modified xsi:type="dcterms:W3CDTF">2006-11-05T20:35:35Z</dcterms:modified>
  <cp:revision>2</cp:revision>
  <dc:subject/>
  <dc:title>Os_talentos</dc:title>
</cp:coreProperties>
</file>