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Os%20Cariocas%20-%20Samba%20do%20Avi%C3%A3o.wav" ContentType="audio/x-wav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BB51-A16C-4969-A533-BA466C71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90DE-B36B-465D-BBC7-F2E7D2CF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6C147-CB71-48A7-B03F-86A6C1EE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BE4D6-5A21-479E-B0B7-C684F2A5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C4E825-2815-4762-8A96-1A2156E8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DB48E-E1CB-4480-A7B8-24A6B0FC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68693-5E79-48BA-AE33-EB245168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750DC-CA9E-4358-91EA-C77FB152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2993E-3088-489B-A4AF-9590D02B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B9875-8647-4E2F-B45E-13ECDE28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5658E-8709-42E4-8C7E-AE47487A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12B4E-4382-43A1-AFCF-1FCEF101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3B6E-761D-4094-8153-3DE078E3B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E6909-7CF9-46A0-97F1-569FEDA1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6D999-E314-40C6-951A-0BA643FE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684925-B7E6-4716-B054-16EBB138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6CD22-BD24-4A8A-A53F-37F55923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48F7E-0031-4CB4-834C-49B2F980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30B1B-79EC-4843-93C3-2BB206B0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8DB4F-1A9C-42D4-9E7B-1EC9EFD3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76829-FF4E-4E80-AED1-56F7C5A9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B653C-9E0E-44FB-80F6-10D892CB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E7A90-D943-47EC-9292-D2E6CF0C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827A-EEB6-465E-A1FC-989DFB6A2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BBF5A-7A9E-4789-8773-EA52A6D60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C9794-3A6C-4D34-A9FC-BBC5B7A2B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63824-31B2-40F9-93BF-2F23E7DE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4C20F-C0B8-473B-8DE1-90DDD072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E27BA-7D7D-43C8-BAE2-ED72D7D0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410DE-824E-446E-BC09-4F8B04FC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02F36-8769-4C34-9224-4478E402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AF11D-7900-49B7-920E-1AC99ACE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55A18-2FF2-4EB2-8C7F-15814423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65428-C33E-45FE-A6B3-D593637F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D04B-5D24-4520-90DF-870BAD09D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8B0BA-F140-437F-8709-4D5D65AE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7EE29-B5FA-4F07-B60F-CA87CDBD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2D82F-4132-460F-852E-DF60ED9C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99756-3E04-47ED-B1B1-54FE74E4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79FDBC-FE09-4ABB-9F6F-D55498D5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DE31D3-CCDA-48A5-A2C7-D1044616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113095-3A74-4ECA-AB25-0260BB3D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C999B-A202-447C-86E4-E1B4DC01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BFD08-36A6-4F76-B1EB-847AC2D7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850044-E1C1-4CA3-BA71-06F6D5FA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A26C-6019-44ED-AACD-9FC54D78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B6F726-50AC-4549-A00D-E8364B32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F6B05-F0F2-4AFD-B52D-1CAE08AC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EBD4D-BCAA-4AA9-81E7-12A37D13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F08F4-DB60-4F14-8C6F-57053130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4C7B98-C53E-4920-BB2E-5DD0054C3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3D3E-B6C5-4EC9-8D73-CB2E3E12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0803-9DC0-4D60-92F5-5411AC35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E220-4006-4D14-AA93-68FC59DF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B43B-BFC5-488D-943C-9821D99D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83A5-5E4E-4757-93BE-05F953E7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F19A-539D-4F78-8601-86749C83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AA4B-B620-4C32-9B76-DB15080A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2C3E-400C-459A-87C3-B06D6A53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7812-C63A-4095-941B-D251AA85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2836-5876-40E1-9EF4-1B6ABA5D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3795-E797-47A6-A84D-A497CBE7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DAF4B-C110-412C-AD18-A37C38D7C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DAFE4-E324-48BA-A614-4CDE51EC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09DF0-A938-498A-8DE4-0D66A796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F4427-59D1-4B67-AAAF-ABCF88D9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D210D-1F14-4DA7-8058-BED4C98B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F017-3453-4625-AECD-A00E0FC5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1442D-2420-4AA2-834D-0293DE24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9E443-D60E-48B5-BAE0-388A1AAA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E8BE4-ED30-4CC3-BD01-0F4629C5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F3534-9B62-48D1-8336-DFE923F1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1DEA3-FF36-4B69-B2A1-2322E06B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7B201-4F30-482B-AA50-4AAF1117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FE4F6-D738-4D99-927E-5A71D6F44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75E3D-FB59-43CD-9A27-574EE56E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20F3C-A96C-45A6-8751-1F7EF5A8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EAC2C-9DF5-4D0F-BAC9-264611AA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48C0-9A3B-4ACF-94C7-E17B159F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26A94-5B74-4968-878C-5B2ABD08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44DFC-86B0-48E7-9EB0-F49D9EFE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3932A-C635-40C8-ACEC-38640064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D13C1-8772-442B-95B5-36BBDC1A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32529-28A2-4C03-A8C6-E132FB90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509BA-B1F5-4B35-B421-CCB4B27B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62189-FA31-4F24-8381-07A9D8DD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61616-990B-4ED1-A015-160C807E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1CA28-0F43-409A-882D-DA823326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FE664-5C70-4118-95F1-52708BA3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E684-34ED-4F22-8141-21D6D03F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DCACC-8AB4-4F5E-99D9-DE174AAB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425E5-C449-438E-8AC4-2D8AE00A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33F47-6D27-4C35-8E66-DDC3A818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7AFF9-EBAB-4409-AFF1-F349B6B5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C328F-5D83-4F72-9D81-D06E4C37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E33B7-58C7-4864-9B8A-BB7F3DDE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EFD93-4192-400D-92CD-BAF1DD53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B0D13-AA75-4673-92D4-E696F2F3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C375F-85EB-4D18-98FA-FDD01046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6AFC0-49EB-4991-8C66-CCD3037D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4DB7-76B2-4771-B1B3-70649DD5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920FA-B1AB-4E02-A84F-B8343B72D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42541-7BC7-439C-8B26-83DF402C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13687-28AD-4F12-B194-C732D708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F48FA-5951-4DC5-ADD8-CF9473E0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0A8F9-6887-43F7-9A88-C41B7DE6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15EC3-0596-484A-A393-E515073F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1667A-66B5-4D22-B5C1-3F2DCBA4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C2299-2349-40B1-AA04-C69DEDBC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EC3A9-61CF-4B30-BC65-51D8DE4B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EF418-65D7-483D-B4CD-9247A6BE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ACD9-5EB9-40A5-9DFD-D921E5F1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ADAAF-DDDC-4B36-8654-40EB26E6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B18B8-71C5-4E8A-BFAE-DD3B5229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814AC-346A-4E08-BCAE-C4E8B04E9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EADBA-E93B-455B-8104-AF69C8632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4E5FA-BE81-4141-963F-CDA3EA72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41EE7-E8C2-464B-A0B1-5A9A3689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0B60D-5D40-48C5-BF78-FB18926F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184A6-6546-4B05-8B0F-733099F8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3982C-33EE-44C8-98F2-EC6AF878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EF858-338B-4E2E-A8CD-76029D2C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91CE-771D-417C-A94C-D36FBE46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AC68D-A8CB-4937-8EF5-090BFBA9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607ED-FEA2-438F-85C9-9AC53B74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B3082-75AB-4D4E-873A-B80A633A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B7B8C-C7FF-4712-89D0-071C25A0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4B0DA-CB6A-4E0C-874F-E15ECF80C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FF912-0574-4B5D-881C-AEB914539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61D99-918A-41FD-9650-C3D25BB7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2119F-11FF-40ED-B46B-906B02BD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1B737-EDD3-458F-BD5C-F4F212C2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26347-A28A-489C-AB7D-0A5BF817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AEDC-38CF-47B1-9DFC-669FAA31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07F53-7BC1-41A4-BCDB-B02BF597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F2517-CE4C-4C10-B0BB-0839197E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06CC2-951D-4A90-B7AD-3412439E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7C951-0783-4CF3-89F4-086750DA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78743-28C0-4AEB-9160-C581D096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8749A-9226-4C40-8887-87B104BC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A0389-DDF3-4E38-9EE6-3611AC9D4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DD40F-663D-451B-AA7D-3B3CA870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5B6D6-BF91-4BBB-A416-B325870B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C1A3E-8CA8-49A9-B6EA-1B96B22F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FEBE-9C17-47ED-9E38-35AA4B9E6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2B81-C895-4675-811F-6DFF5ED129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6D65-6947-41D8-9147-1DA77F812B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540F-5534-45FE-B194-1DD857D7A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A2CF-6014-4ABE-B706-80FAB39C22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6F8C-DF70-41D8-A962-F791480283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46A6-1B37-495C-9F0F-74211338A2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48D0-FF9D-4415-B37A-6862C107D7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AE3D-6431-46A9-889B-0294418F73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FDBE-CDCE-4A8F-B1EE-E844A8DD4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9E51-9EC3-407B-8BDC-00A41F1E7A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E0C3-011E-4778-81FA-B30B7187F2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Os%20Cariocas%20-%20Samba%20do%20Avi&#227;o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1"/>
          <p:cNvSpPr/>
          <p:nvPr/>
        </p:nvSpPr>
        <p:spPr>
          <a:xfrm>
            <a:off x="0" y="44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ff00"/>
                </a:solidFill>
                <a:latin typeface="Comic Sans MS"/>
              </a:rPr>
              <a:t>A História do Bondinho do Pão de Açúc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6"/>
          <p:cNvSpPr/>
          <p:nvPr/>
        </p:nvSpPr>
        <p:spPr>
          <a:xfrm>
            <a:off x="71280" y="6278400"/>
            <a:ext cx="9072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Música: Samba do Avião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                                                  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          By Ney Del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Cantam: Os Cariocas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               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            Ligue o S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5" descr="C:\Users\Owner\Pictures\arquivo.jpg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545080"/>
          </a:xfrm>
          <a:prstGeom prst="rect">
            <a:avLst/>
          </a:prstGeom>
          <a:ln w="0">
            <a:noFill/>
          </a:ln>
        </p:spPr>
      </p:pic>
      <p:sp>
        <p:nvSpPr>
          <p:cNvPr id="495" name="Rounded Rectangle 7"/>
          <p:cNvSpPr/>
          <p:nvPr/>
        </p:nvSpPr>
        <p:spPr>
          <a:xfrm>
            <a:off x="3492360" y="6308640"/>
            <a:ext cx="2880000" cy="43344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3"/>
          <p:cNvSpPr/>
          <p:nvPr/>
        </p:nvSpPr>
        <p:spPr>
          <a:xfrm>
            <a:off x="1908000" y="6280200"/>
            <a:ext cx="604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Homenagem aos 100 anos do bondin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ff00"/>
                </a:solidFill>
                <a:latin typeface="Comic Sans MS"/>
              </a:rPr>
              <a:t>                                   </a:t>
            </a:r>
            <a:r>
              <a:rPr b="1" lang="pt-BR" sz="1200" spc="-1" strike="noStrike">
                <a:solidFill>
                  <a:srgbClr val="00ff00"/>
                </a:solidFill>
                <a:latin typeface="Comic Sans MS"/>
              </a:rPr>
              <a:t>27/Out/1912</a:t>
            </a:r>
            <a:r>
              <a:rPr b="0" lang="pt-BR" sz="1200" spc="-1" strike="noStrike">
                <a:solidFill>
                  <a:srgbClr val="00ff00"/>
                </a:solidFill>
                <a:latin typeface="Comic Sans MS"/>
              </a:rPr>
              <a:t>               </a:t>
            </a:r>
            <a:r>
              <a:rPr b="1" lang="pt-BR" sz="1200" spc="-1" strike="noStrike">
                <a:solidFill>
                  <a:srgbClr val="00ff00"/>
                </a:solidFill>
                <a:latin typeface="Comic Sans MS"/>
              </a:rPr>
              <a:t>27/Out/2012</a:t>
            </a:r>
            <a:r>
              <a:rPr b="0" lang="pt-BR" sz="1200" spc="-1" strike="noStrike">
                <a:solidFill>
                  <a:srgbClr val="00ff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Os%20Cariocas%20-%20Samba%20do%20Avi%C3%A3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9"/>
          <p:cNvSpPr/>
          <p:nvPr/>
        </p:nvSpPr>
        <p:spPr>
          <a:xfrm>
            <a:off x="0" y="64342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Esta são as engrenagens alemães originais que foram usadas em 19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" descr="50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9"/>
          <p:cNvSpPr/>
          <p:nvPr/>
        </p:nvSpPr>
        <p:spPr>
          <a:xfrm>
            <a:off x="0" y="64533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Após os cabos e as engrenagens, foi a vez de acoplar os 2 bondinhos feitos na Alemanha em madeira maciç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2" descr="C:\Users\Owner\Documents\Pictures\Pictur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272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9"/>
          <p:cNvSpPr/>
          <p:nvPr/>
        </p:nvSpPr>
        <p:spPr>
          <a:xfrm>
            <a:off x="0" y="64533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Em </a:t>
            </a:r>
            <a:r>
              <a:rPr b="0" lang="pt-BR" sz="1400" spc="-1" strike="noStrike">
                <a:solidFill>
                  <a:srgbClr val="00ff00"/>
                </a:solidFill>
                <a:latin typeface="Comic Sans MS"/>
              </a:rPr>
              <a:t>27/Out/1912 </a:t>
            </a: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foi inaugurada a estação do Morro da Urca, dia em que 577 pessoas subiram lá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2" descr="C:\Users\Owner\Pictures\Picture1-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9"/>
          <p:cNvSpPr/>
          <p:nvPr/>
        </p:nvSpPr>
        <p:spPr>
          <a:xfrm>
            <a:off x="0" y="64342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Naquele dia mesmo, o pomposo nome de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Camarote Carril </a:t>
            </a: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foi substituído simplesmente por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”bondinho”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2" descr="C:\Users\Owner\Documents\Pictures\Picture7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6" descr="C:\Users\Owner\Documents\Pictures\Picture15-001.jpg"/>
          <p:cNvPicPr/>
          <p:nvPr/>
        </p:nvPicPr>
        <p:blipFill>
          <a:blip r:embed="rId1"/>
          <a:stretch/>
        </p:blipFill>
        <p:spPr>
          <a:xfrm>
            <a:off x="720720" y="0"/>
            <a:ext cx="7596360" cy="638172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9"/>
          <p:cNvSpPr/>
          <p:nvPr/>
        </p:nvSpPr>
        <p:spPr>
          <a:xfrm>
            <a:off x="0" y="64533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O passo seguinte foi a construção da estação do Pão de Açúcar, a 395 m de altura e usando a mesma técni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6"/>
          <p:cNvSpPr/>
          <p:nvPr/>
        </p:nvSpPr>
        <p:spPr>
          <a:xfrm>
            <a:off x="7451640" y="6165720"/>
            <a:ext cx="901800" cy="287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7478640" y="6165720"/>
            <a:ext cx="89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Comic Sans MS"/>
              </a:rPr>
              <a:t>@ Marc Ferrez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35" descr="C:\Users\Owner\Pictures\65.jpg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59296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9"/>
          <p:cNvSpPr/>
          <p:nvPr/>
        </p:nvSpPr>
        <p:spPr>
          <a:xfrm>
            <a:off x="0" y="64533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O trecho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Morro da Urca–Pão de Açúcar </a:t>
            </a: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foi inaugurado em 18/Jan/1913, 18 anos antes do Corcov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8244000" y="5950080"/>
            <a:ext cx="901440" cy="287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5"/>
          <p:cNvSpPr/>
          <p:nvPr/>
        </p:nvSpPr>
        <p:spPr>
          <a:xfrm>
            <a:off x="8277120" y="595008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Comic Sans MS"/>
              </a:rPr>
              <a:t>@ E.A.Morti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9"/>
          <p:cNvSpPr/>
          <p:nvPr/>
        </p:nvSpPr>
        <p:spPr>
          <a:xfrm>
            <a:off x="0" y="64533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A partir daí, ir até o Pão de Açúcar para ver a vista deslumbrante passou a ser o objeto de desejo de to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3" descr="C:\Users\Owner\Pictures\urca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9"/>
          <p:cNvSpPr/>
          <p:nvPr/>
        </p:nvSpPr>
        <p:spPr>
          <a:xfrm>
            <a:off x="0" y="62895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Quando o teleférico do Pão de Açúcar foi construído, só existiam 2 outros deste porte no mundo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um no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Monte Ulia, na Espanha </a:t>
            </a:r>
            <a:r>
              <a:rPr b="0" lang="en-US" sz="1000" spc="-1" strike="noStrike">
                <a:solidFill>
                  <a:srgbClr val="ffc000"/>
                </a:solidFill>
                <a:latin typeface="Comic Sans MS"/>
              </a:rPr>
              <a:t>(1907)</a:t>
            </a: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, com 280 m, e outro em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Wetterhorn, na Suíça </a:t>
            </a:r>
            <a:r>
              <a:rPr b="0" lang="en-US" sz="1100" spc="-1" strike="noStrike">
                <a:solidFill>
                  <a:srgbClr val="ffc000"/>
                </a:solidFill>
                <a:latin typeface="Comic Sans MS"/>
              </a:rPr>
              <a:t>(</a:t>
            </a:r>
            <a:r>
              <a:rPr b="0" lang="en-US" sz="1000" spc="-1" strike="noStrike">
                <a:solidFill>
                  <a:srgbClr val="ffc000"/>
                </a:solidFill>
                <a:latin typeface="Comic Sans MS"/>
              </a:rPr>
              <a:t>1908</a:t>
            </a:r>
            <a:r>
              <a:rPr b="0" lang="en-US" sz="1100" spc="-1" strike="noStrike">
                <a:solidFill>
                  <a:srgbClr val="ffc000"/>
                </a:solidFill>
                <a:latin typeface="Comic Sans MS"/>
              </a:rPr>
              <a:t>)</a:t>
            </a: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, com 560 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2" descr="C:\Users\Owner\Documents\Pictures\Picture9.jpg"/>
          <p:cNvPicPr/>
          <p:nvPr/>
        </p:nvPicPr>
        <p:blipFill>
          <a:blip r:embed="rId1"/>
          <a:stretch/>
        </p:blipFill>
        <p:spPr>
          <a:xfrm>
            <a:off x="0" y="0"/>
            <a:ext cx="9158400" cy="6308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32" descr="C:\Users\Owner\Pictures\57.jpg"/>
          <p:cNvPicPr/>
          <p:nvPr/>
        </p:nvPicPr>
        <p:blipFill>
          <a:blip r:embed="rId1"/>
          <a:stretch/>
        </p:blipFill>
        <p:spPr>
          <a:xfrm>
            <a:off x="0" y="684360"/>
            <a:ext cx="9144000" cy="540864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9"/>
          <p:cNvSpPr/>
          <p:nvPr/>
        </p:nvSpPr>
        <p:spPr>
          <a:xfrm>
            <a:off x="0" y="62895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As duas linhas do teleférico carioca somam 1.325 m, mais de uma vez e meia a soma dos teleféric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espanhol e suíço juntos, o que dá a dimensão da competência da engenharia brasileira da époc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9"/>
          <p:cNvSpPr/>
          <p:nvPr/>
        </p:nvSpPr>
        <p:spPr>
          <a:xfrm>
            <a:off x="0" y="64342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Os cabos do trecho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Praia Vermelha-Morro da Urca </a:t>
            </a: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têm 575 m e os do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Morro da Urca-Pão de Açúcar, </a:t>
            </a: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750 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3" descr="C:\Users\Owner\Documents\Pictures\13-001.jpg"/>
          <p:cNvPicPr/>
          <p:nvPr/>
        </p:nvPicPr>
        <p:blipFill>
          <a:blip r:embed="rId1"/>
          <a:stretch/>
        </p:blipFill>
        <p:spPr>
          <a:xfrm>
            <a:off x="0" y="0"/>
            <a:ext cx="9175680" cy="630864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3"/>
          <p:cNvSpPr/>
          <p:nvPr/>
        </p:nvSpPr>
        <p:spPr>
          <a:xfrm>
            <a:off x="6443640" y="6094440"/>
            <a:ext cx="2700360" cy="287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9"/>
          <p:cNvSpPr/>
          <p:nvPr/>
        </p:nvSpPr>
        <p:spPr>
          <a:xfrm>
            <a:off x="6407280" y="6093000"/>
            <a:ext cx="277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Homens fazendo manutenção nos cab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7" descr="C:\Users\Owner\Pictures\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9"/>
          <p:cNvSpPr/>
          <p:nvPr/>
        </p:nvSpPr>
        <p:spPr>
          <a:xfrm>
            <a:off x="0" y="607536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Há 2 teorias para a origem do nome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Pão de Açúcar. </a:t>
            </a: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Uma, a de que os portugueses o batizaram assim pela semelhança com um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pão de açúcar, </a:t>
            </a: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recipiente usado para transportar torrões de açúcar da Ilha da Madeira para a Europa. A outra, a de que o nome vem de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p</a:t>
            </a:r>
            <a:r>
              <a:rPr b="0" lang="pt-BR" sz="1400" spc="-1" strike="noStrike">
                <a:solidFill>
                  <a:srgbClr val="00ff00"/>
                </a:solidFill>
                <a:latin typeface="Comic Sans MS"/>
              </a:rPr>
              <a:t>au-nh-açuquã, </a:t>
            </a: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que em tupi significa </a:t>
            </a:r>
            <a:r>
              <a:rPr b="0" lang="pt-BR" sz="1400" spc="-1" strike="noStrike">
                <a:solidFill>
                  <a:srgbClr val="00ff00"/>
                </a:solidFill>
                <a:latin typeface="Comic Sans MS"/>
              </a:rPr>
              <a:t>morro alto e pontu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37"/>
          <p:cNvSpPr/>
          <p:nvPr/>
        </p:nvSpPr>
        <p:spPr>
          <a:xfrm>
            <a:off x="5003640" y="5748480"/>
            <a:ext cx="4138920" cy="2728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3"/>
          <p:cNvSpPr/>
          <p:nvPr/>
        </p:nvSpPr>
        <p:spPr>
          <a:xfrm>
            <a:off x="4932360" y="5759280"/>
            <a:ext cx="4248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Comic Sans MS"/>
              </a:rPr>
              <a:t>Pães de açúcar, muito comuns nos engenhos de cana da époc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9"/>
          <p:cNvSpPr/>
          <p:nvPr/>
        </p:nvSpPr>
        <p:spPr>
          <a:xfrm>
            <a:off x="0" y="64342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Desde 1912, o bondinho já transportou mais de 31 milhões de turista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18" descr="C:\Users\Owner\Pictures\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580" name="Rectangle 3"/>
          <p:cNvSpPr/>
          <p:nvPr/>
        </p:nvSpPr>
        <p:spPr>
          <a:xfrm>
            <a:off x="7524720" y="6094440"/>
            <a:ext cx="1619280" cy="287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9"/>
          <p:cNvSpPr/>
          <p:nvPr/>
        </p:nvSpPr>
        <p:spPr>
          <a:xfrm>
            <a:off x="7524720" y="6093000"/>
            <a:ext cx="162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Bondinho nos anos 6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9"/>
          <p:cNvSpPr/>
          <p:nvPr/>
        </p:nvSpPr>
        <p:spPr>
          <a:xfrm>
            <a:off x="0" y="607536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Em 100 anos, houve apenas 3 acidentes sem vítimas: 1) na revolução comunista de 1935, uma bala de canhão atingiu a estação da Praia Vermelha, que teve de ser fechada; 2) em 1951, um cabo se rompeu e as pessoas foram retiradas durante a noite; 3) em 2000, um cabo não resistiu e todos foram retirados de helicópte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2" descr="C:\Users\Owner\Pictures\aaa.jpg"/>
          <p:cNvPicPr/>
          <p:nvPr/>
        </p:nvPicPr>
        <p:blipFill>
          <a:blip r:embed="rId1"/>
          <a:stretch/>
        </p:blipFill>
        <p:spPr>
          <a:xfrm>
            <a:off x="0" y="0"/>
            <a:ext cx="9169560" cy="6093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11" descr="C:\Users\Owner\Documents\Pictures\Picture11d.jpg"/>
          <p:cNvPicPr/>
          <p:nvPr/>
        </p:nvPicPr>
        <p:blipFill>
          <a:blip r:embed="rId1"/>
          <a:stretch/>
        </p:blipFill>
        <p:spPr>
          <a:xfrm>
            <a:off x="0" y="0"/>
            <a:ext cx="6084720" cy="623736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9"/>
          <p:cNvSpPr/>
          <p:nvPr/>
        </p:nvSpPr>
        <p:spPr>
          <a:xfrm>
            <a:off x="0" y="63086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O bondinho foi cenário em 1925 do filme brasileiro mudo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A Esposa do Solteiro, </a:t>
            </a: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onde um ator se pendu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nos cabos. Em 1979 foi a vez das aventuras do James Bond no filme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007 Contra o Foguete da Mor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3"/>
          <p:cNvSpPr/>
          <p:nvPr/>
        </p:nvSpPr>
        <p:spPr>
          <a:xfrm>
            <a:off x="216000" y="5950080"/>
            <a:ext cx="5580000" cy="287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23"/>
          <p:cNvSpPr/>
          <p:nvPr/>
        </p:nvSpPr>
        <p:spPr>
          <a:xfrm>
            <a:off x="216000" y="5975280"/>
            <a:ext cx="558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Comic Sans MS"/>
              </a:rPr>
              <a:t>A Esposa do Solteiro </a:t>
            </a:r>
            <a:r>
              <a:rPr b="0" lang="pt-BR" sz="900" spc="-1" strike="noStrike">
                <a:solidFill>
                  <a:srgbClr val="ffffff"/>
                </a:solidFill>
                <a:latin typeface="Comic Sans MS"/>
              </a:rPr>
              <a:t>(o 1º filme da Carmen Miranda, onde ela aos 16 anos atuou como figuran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5" descr="http://i.telegraph.co.uk/multimedia/archive/01010/moonraker_1010945i.jpg"/>
          <p:cNvPicPr/>
          <p:nvPr/>
        </p:nvPicPr>
        <p:blipFill>
          <a:blip r:embed="rId2"/>
          <a:stretch/>
        </p:blipFill>
        <p:spPr>
          <a:xfrm>
            <a:off x="6200640" y="493560"/>
            <a:ext cx="2808360" cy="181296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pic>
        <p:nvPicPr>
          <p:cNvPr id="589" name="Picture 9" descr="C:\Users\Owner\Documents\Pictures\ddddd-001.jpg"/>
          <p:cNvPicPr/>
          <p:nvPr/>
        </p:nvPicPr>
        <p:blipFill>
          <a:blip r:embed="rId3"/>
          <a:stretch/>
        </p:blipFill>
        <p:spPr>
          <a:xfrm>
            <a:off x="6200640" y="4238640"/>
            <a:ext cx="2808360" cy="142236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590" name="Rectangle 23"/>
          <p:cNvSpPr/>
          <p:nvPr/>
        </p:nvSpPr>
        <p:spPr>
          <a:xfrm>
            <a:off x="6068880" y="5759280"/>
            <a:ext cx="2967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Comic Sans MS"/>
              </a:rPr>
              <a:t>007 Contra o Foguete da Mor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10" descr="http://3.bp.blogspot.com/-6xTrvAOAu4A/Tzg6ANP4fbI/AAAAAAAAAIs/2APyYdVVHkA/s1600/jaws-teeth-james-bond-prop-replica-9.jpg"/>
          <p:cNvPicPr/>
          <p:nvPr/>
        </p:nvPicPr>
        <p:blipFill>
          <a:blip r:embed="rId4"/>
          <a:stretch/>
        </p:blipFill>
        <p:spPr>
          <a:xfrm>
            <a:off x="6200640" y="2654280"/>
            <a:ext cx="2835360" cy="122400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C:\Users\Owner\Documents\Pictures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3"/>
          <p:cNvSpPr/>
          <p:nvPr/>
        </p:nvSpPr>
        <p:spPr>
          <a:xfrm>
            <a:off x="6804000" y="6021360"/>
            <a:ext cx="2340000" cy="287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9"/>
          <p:cNvSpPr/>
          <p:nvPr/>
        </p:nvSpPr>
        <p:spPr>
          <a:xfrm>
            <a:off x="6732720" y="6048360"/>
            <a:ext cx="2411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Bondinho novo em fase de tes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9"/>
          <p:cNvSpPr/>
          <p:nvPr/>
        </p:nvSpPr>
        <p:spPr>
          <a:xfrm>
            <a:off x="0" y="628956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Em 1972, como os bondinhos antigos não mais atendiam ao volume crescente de turistas, foi inaugurada uma 2ª linha com 2 carros novos para passageiros em cada trecho, com capacidade para 75 pessoas cada 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C:\Users\Owner\Pictures\07. Bondinho 4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9"/>
          <p:cNvSpPr/>
          <p:nvPr/>
        </p:nvSpPr>
        <p:spPr>
          <a:xfrm>
            <a:off x="0" y="64533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Com os 4 novos bondinhos e os carros de carga, hoje o sistema transporta em média 3.000 turistas/d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5" descr="C:\Users\Owner\Documents\Pictures\PC300032_thumb[3]-002.jpg"/>
          <p:cNvPicPr/>
          <p:nvPr/>
        </p:nvPicPr>
        <p:blipFill>
          <a:blip r:embed="rId2"/>
          <a:stretch/>
        </p:blipFill>
        <p:spPr>
          <a:xfrm>
            <a:off x="179280" y="4149720"/>
            <a:ext cx="2583000" cy="193680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599" name="Rectangle 5"/>
          <p:cNvSpPr/>
          <p:nvPr/>
        </p:nvSpPr>
        <p:spPr>
          <a:xfrm>
            <a:off x="179280" y="5878440"/>
            <a:ext cx="2592360" cy="214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9"/>
          <p:cNvSpPr/>
          <p:nvPr/>
        </p:nvSpPr>
        <p:spPr>
          <a:xfrm>
            <a:off x="179280" y="5862600"/>
            <a:ext cx="259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mic Sans MS"/>
              </a:rPr>
              <a:t>2 linhas para passageiros e 2 para carg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7" descr="C:\Users\Owner\Documents\Pictures\aaa.jpg"/>
          <p:cNvPicPr/>
          <p:nvPr/>
        </p:nvPicPr>
        <p:blipFill>
          <a:blip r:embed="rId3"/>
          <a:stretch/>
        </p:blipFill>
        <p:spPr>
          <a:xfrm>
            <a:off x="6804000" y="4149720"/>
            <a:ext cx="2089080" cy="193824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602" name="Rectangle 10"/>
          <p:cNvSpPr/>
          <p:nvPr/>
        </p:nvSpPr>
        <p:spPr>
          <a:xfrm>
            <a:off x="6804000" y="5878440"/>
            <a:ext cx="2089080" cy="214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9"/>
          <p:cNvSpPr/>
          <p:nvPr/>
        </p:nvSpPr>
        <p:spPr>
          <a:xfrm>
            <a:off x="6804000" y="5862600"/>
            <a:ext cx="208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mic Sans MS"/>
              </a:rPr>
              <a:t>Bondinho de carg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6" descr="C:\Users\Owner\Documents\Pictures\339715645_bc9f7e8a36_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9"/>
          <p:cNvSpPr/>
          <p:nvPr/>
        </p:nvSpPr>
        <p:spPr>
          <a:xfrm>
            <a:off x="0" y="64533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Com vista panorâmica de 360º e um cenário destes, não há como a viagem de bondinho não ser inesquecível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8675640" y="6021360"/>
            <a:ext cx="468360" cy="287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9"/>
          <p:cNvSpPr/>
          <p:nvPr/>
        </p:nvSpPr>
        <p:spPr>
          <a:xfrm>
            <a:off x="8604360" y="60325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Comic Sans MS"/>
              </a:rPr>
              <a:t>F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4" descr="C:\Users\Owner\Pictures\ss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9"/>
          <p:cNvSpPr/>
          <p:nvPr/>
        </p:nvSpPr>
        <p:spPr>
          <a:xfrm>
            <a:off x="0" y="62895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A ideia de se construir um teleférico até o topo do Pão de Açúcar surgiu durante a Exposição qu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comemorou o centenário da abertura dos portos em 1908, sendo que as obras começaram em 19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5435640" y="6060960"/>
            <a:ext cx="3708360" cy="247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3"/>
          <p:cNvSpPr/>
          <p:nvPr/>
        </p:nvSpPr>
        <p:spPr>
          <a:xfrm>
            <a:off x="5400720" y="6046920"/>
            <a:ext cx="3779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Comic Sans MS"/>
              </a:rPr>
              <a:t>Pavilhão das Indústrias na Exposição Nacional de 19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31" descr="C:\Users\Owner\Documents\Pictures\Picture1-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506" name="Straight Connector 44"/>
          <p:cNvSpPr/>
          <p:nvPr/>
        </p:nvSpPr>
        <p:spPr>
          <a:xfrm flipV="1">
            <a:off x="3059280" y="4581000"/>
            <a:ext cx="1008000" cy="28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traight Connector 47"/>
          <p:cNvSpPr/>
          <p:nvPr/>
        </p:nvSpPr>
        <p:spPr>
          <a:xfrm flipV="1">
            <a:off x="4067280" y="4292640"/>
            <a:ext cx="360360" cy="28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traight Connector 50"/>
          <p:cNvSpPr/>
          <p:nvPr/>
        </p:nvSpPr>
        <p:spPr>
          <a:xfrm>
            <a:off x="4427640" y="4292640"/>
            <a:ext cx="50472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52"/>
          <p:cNvSpPr/>
          <p:nvPr/>
        </p:nvSpPr>
        <p:spPr>
          <a:xfrm flipV="1">
            <a:off x="4932360" y="4365360"/>
            <a:ext cx="107964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traight Connector 54"/>
          <p:cNvSpPr/>
          <p:nvPr/>
        </p:nvSpPr>
        <p:spPr>
          <a:xfrm flipV="1">
            <a:off x="6659640" y="3573000"/>
            <a:ext cx="144144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traight Connector 56"/>
          <p:cNvSpPr/>
          <p:nvPr/>
        </p:nvSpPr>
        <p:spPr>
          <a:xfrm flipV="1">
            <a:off x="8101080" y="3499920"/>
            <a:ext cx="574560" cy="73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61"/>
          <p:cNvSpPr/>
          <p:nvPr/>
        </p:nvSpPr>
        <p:spPr>
          <a:xfrm>
            <a:off x="7451640" y="3141720"/>
            <a:ext cx="936720" cy="1429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63"/>
          <p:cNvSpPr/>
          <p:nvPr/>
        </p:nvSpPr>
        <p:spPr>
          <a:xfrm>
            <a:off x="7308720" y="3068640"/>
            <a:ext cx="142920" cy="73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69"/>
          <p:cNvSpPr/>
          <p:nvPr/>
        </p:nvSpPr>
        <p:spPr>
          <a:xfrm>
            <a:off x="7093080" y="3068640"/>
            <a:ext cx="21564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73"/>
          <p:cNvSpPr/>
          <p:nvPr/>
        </p:nvSpPr>
        <p:spPr>
          <a:xfrm flipV="1">
            <a:off x="6948360" y="3068280"/>
            <a:ext cx="144720" cy="73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76"/>
          <p:cNvSpPr/>
          <p:nvPr/>
        </p:nvSpPr>
        <p:spPr>
          <a:xfrm>
            <a:off x="6411960" y="2997360"/>
            <a:ext cx="608040" cy="144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82"/>
          <p:cNvSpPr/>
          <p:nvPr/>
        </p:nvSpPr>
        <p:spPr>
          <a:xfrm>
            <a:off x="6443640" y="4149720"/>
            <a:ext cx="216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88"/>
          <p:cNvSpPr/>
          <p:nvPr/>
        </p:nvSpPr>
        <p:spPr>
          <a:xfrm flipV="1">
            <a:off x="6012000" y="4149720"/>
            <a:ext cx="43164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3"/>
          <p:cNvSpPr/>
          <p:nvPr/>
        </p:nvSpPr>
        <p:spPr>
          <a:xfrm>
            <a:off x="6912000" y="4653000"/>
            <a:ext cx="212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A escalada original foi pela </a:t>
            </a:r>
            <a:r>
              <a:rPr b="0" lang="pt-BR" sz="1200" spc="-1" strike="noStrike">
                <a:solidFill>
                  <a:srgbClr val="00ff00"/>
                </a:solidFill>
                <a:latin typeface="Comic Sans MS"/>
              </a:rPr>
              <a:t>Via do Costão, </a:t>
            </a: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na par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de trás do Pão de Açú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3"/>
          <p:cNvSpPr/>
          <p:nvPr/>
        </p:nvSpPr>
        <p:spPr>
          <a:xfrm>
            <a:off x="5653080" y="306864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Comic Sans MS"/>
              </a:rPr>
              <a:t>Estação d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Comic Sans MS"/>
              </a:rPr>
              <a:t>Pão de Açúc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3"/>
          <p:cNvSpPr/>
          <p:nvPr/>
        </p:nvSpPr>
        <p:spPr>
          <a:xfrm>
            <a:off x="2771640" y="3749760"/>
            <a:ext cx="115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Comic Sans MS"/>
              </a:rPr>
              <a:t>Estação do Morro da Ur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98"/>
          <p:cNvSpPr/>
          <p:nvPr/>
        </p:nvSpPr>
        <p:spPr>
          <a:xfrm>
            <a:off x="2771640" y="3573360"/>
            <a:ext cx="216000" cy="21600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100"/>
          <p:cNvSpPr/>
          <p:nvPr/>
        </p:nvSpPr>
        <p:spPr>
          <a:xfrm>
            <a:off x="6227640" y="2852640"/>
            <a:ext cx="216000" cy="21600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101"/>
          <p:cNvSpPr/>
          <p:nvPr/>
        </p:nvSpPr>
        <p:spPr>
          <a:xfrm>
            <a:off x="2771640" y="5300640"/>
            <a:ext cx="216000" cy="21600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3"/>
          <p:cNvSpPr/>
          <p:nvPr/>
        </p:nvSpPr>
        <p:spPr>
          <a:xfrm>
            <a:off x="2916360" y="5300640"/>
            <a:ext cx="115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Comic Sans MS"/>
              </a:rPr>
              <a:t>Praia Vermel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03"/>
          <p:cNvSpPr/>
          <p:nvPr/>
        </p:nvSpPr>
        <p:spPr>
          <a:xfrm rot="21090000">
            <a:off x="4807800" y="4113000"/>
            <a:ext cx="161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ista Cláudio Coutin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traight Connector 105"/>
          <p:cNvSpPr/>
          <p:nvPr/>
        </p:nvSpPr>
        <p:spPr>
          <a:xfrm flipH="1">
            <a:off x="2987640" y="2960640"/>
            <a:ext cx="3240000" cy="684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traight Connector 106"/>
          <p:cNvSpPr/>
          <p:nvPr/>
        </p:nvSpPr>
        <p:spPr>
          <a:xfrm flipH="1">
            <a:off x="1802880" y="3757680"/>
            <a:ext cx="1000440" cy="1503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12"/>
          <p:cNvSpPr/>
          <p:nvPr/>
        </p:nvSpPr>
        <p:spPr>
          <a:xfrm rot="20860800">
            <a:off x="4015440" y="2987280"/>
            <a:ext cx="132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Cabo do bondin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113"/>
          <p:cNvSpPr/>
          <p:nvPr/>
        </p:nvSpPr>
        <p:spPr>
          <a:xfrm>
            <a:off x="1619280" y="5229360"/>
            <a:ext cx="216000" cy="215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14"/>
          <p:cNvSpPr/>
          <p:nvPr/>
        </p:nvSpPr>
        <p:spPr>
          <a:xfrm rot="648600">
            <a:off x="7300440" y="2938320"/>
            <a:ext cx="103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Via do Cost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traight Connector 58"/>
          <p:cNvSpPr/>
          <p:nvPr/>
        </p:nvSpPr>
        <p:spPr>
          <a:xfrm>
            <a:off x="8388360" y="3284640"/>
            <a:ext cx="287280" cy="215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9"/>
          <p:cNvSpPr/>
          <p:nvPr/>
        </p:nvSpPr>
        <p:spPr>
          <a:xfrm>
            <a:off x="0" y="609300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Quem primeiro escalou o Pão de Açúcar foi a inglesa </a:t>
            </a:r>
            <a:r>
              <a:rPr b="0" lang="pt-BR" sz="1400" spc="-1" strike="noStrike">
                <a:solidFill>
                  <a:srgbClr val="00ff00"/>
                </a:solidFill>
                <a:latin typeface="Comic Sans MS"/>
              </a:rPr>
              <a:t>Henrietta Carstairs, </a:t>
            </a: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que</a:t>
            </a:r>
            <a:r>
              <a:rPr b="0" lang="pt-BR" sz="14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fincou ali a bandeira inglesa em </a:t>
            </a: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1817,</a:t>
            </a: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 um feito para a época. Nisto, um militar português do quartel colonial da Urca, que nem alpinista era, indignado com a ousadia subiu lá no dia seguinte e trocou a bandeira inglesa pela bandeira portugues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9"/>
          <p:cNvSpPr/>
          <p:nvPr/>
        </p:nvSpPr>
        <p:spPr>
          <a:xfrm>
            <a:off x="0" y="62895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Subir até o topo podia não ser problema, mas transportar toneladas de equipamentos pelos penhascos, sim. Por isto mesmo a tarefa foi dividida em 2 etapas distintas: 1) o Morro da Urca e 2) o Pão de Açúc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5364000" y="5964120"/>
            <a:ext cx="3780000" cy="3445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9"/>
          <p:cNvSpPr/>
          <p:nvPr/>
        </p:nvSpPr>
        <p:spPr>
          <a:xfrm>
            <a:off x="5364000" y="5975280"/>
            <a:ext cx="3816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Encosta do Morro da Urca e, ao fundo, o Pão de Açúc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2" descr="C:\Users\Owner\Documents\Pictures\Picture6-001.jpg"/>
          <p:cNvPicPr/>
          <p:nvPr/>
        </p:nvPicPr>
        <p:blipFill>
          <a:blip r:embed="rId1"/>
          <a:stretch/>
        </p:blipFill>
        <p:spPr>
          <a:xfrm>
            <a:off x="0" y="0"/>
            <a:ext cx="9153360" cy="6165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9"/>
          <p:cNvSpPr/>
          <p:nvPr/>
        </p:nvSpPr>
        <p:spPr>
          <a:xfrm>
            <a:off x="0" y="628956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100 operários-alpinistas fincaram pinos na pedra e foram levando cordas e as peças de um guincho manual desmontado de 4 toneladas. Outra equipe foi pela floresta até a base do morro, arrastando um cabo de aç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C:\Users\Owner\Documents\Pictures\Picture11ssssssssssssss.jpg"/>
          <p:cNvPicPr/>
          <p:nvPr/>
        </p:nvPicPr>
        <p:blipFill>
          <a:blip r:embed="rId1"/>
          <a:stretch/>
        </p:blipFill>
        <p:spPr>
          <a:xfrm>
            <a:off x="2268360" y="0"/>
            <a:ext cx="4535640" cy="6308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9"/>
          <p:cNvSpPr/>
          <p:nvPr/>
        </p:nvSpPr>
        <p:spPr>
          <a:xfrm>
            <a:off x="0" y="64533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Eis uma parte do guincho manual desmontável de 4 toneladas que os operários-alpinistas subiram no braç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2" descr="C:\Users\Owner\Documents\Pictures\Pictur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3"/>
          <p:cNvSpPr/>
          <p:nvPr/>
        </p:nvSpPr>
        <p:spPr>
          <a:xfrm>
            <a:off x="5796000" y="6021360"/>
            <a:ext cx="3348000" cy="360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9"/>
          <p:cNvSpPr/>
          <p:nvPr/>
        </p:nvSpPr>
        <p:spPr>
          <a:xfrm>
            <a:off x="5724360" y="6046920"/>
            <a:ext cx="3456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Antigamente, Pão de Açúcar se escrevia com 2 S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traight Connector 8"/>
          <p:cNvSpPr/>
          <p:nvPr/>
        </p:nvSpPr>
        <p:spPr>
          <a:xfrm flipH="1">
            <a:off x="-360" y="6308640"/>
            <a:ext cx="594036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9"/>
          <p:cNvSpPr/>
          <p:nvPr/>
        </p:nvSpPr>
        <p:spPr>
          <a:xfrm>
            <a:off x="0" y="628956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Já no topo, os alpinistas montaram o guincho manual e, com as cordas que levaram, içaram o pesado cab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de aço que estava na base do morro. Daí, construíram um elevador de carga para subir o resto do materi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4" descr="C:\Users\Owner\Pictures\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23"/>
          <p:cNvSpPr/>
          <p:nvPr/>
        </p:nvSpPr>
        <p:spPr>
          <a:xfrm rot="1911000">
            <a:off x="6984720" y="4046400"/>
            <a:ext cx="17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ffff00"/>
                </a:solidFill>
                <a:latin typeface="Comic Sans MS"/>
              </a:rPr>
              <a:t>Pavilhão das Indústri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C:\Users\Owner\Documents\Pictures\Picture3.jpg"/>
          <p:cNvPicPr/>
          <p:nvPr/>
        </p:nvPicPr>
        <p:blipFill>
          <a:blip r:embed="rId1"/>
          <a:stretch/>
        </p:blipFill>
        <p:spPr>
          <a:xfrm>
            <a:off x="1979640" y="0"/>
            <a:ext cx="5146560" cy="630864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9"/>
          <p:cNvSpPr/>
          <p:nvPr/>
        </p:nvSpPr>
        <p:spPr>
          <a:xfrm>
            <a:off x="0" y="64342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A seguir, foram então erguidas as estações do Morro da Urca e a Casa de Máquinas na Praia Vermelh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4643280" y="6094440"/>
            <a:ext cx="2521080" cy="287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9"/>
          <p:cNvSpPr/>
          <p:nvPr/>
        </p:nvSpPr>
        <p:spPr>
          <a:xfrm>
            <a:off x="4572000" y="6121440"/>
            <a:ext cx="2629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Casa de Máquinas na Praia Vermelh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01:06:54Z</dcterms:created>
  <dc:creator>Owner</dc:creator>
  <dc:description/>
  <dc:language>en-US</dc:language>
  <cp:lastModifiedBy>Owner</cp:lastModifiedBy>
  <dcterms:modified xsi:type="dcterms:W3CDTF">2012-09-01T03:18:45Z</dcterms:modified>
  <cp:revision>23</cp:revision>
  <dc:subject/>
  <dc:title>Slide 1</dc:title>
</cp:coreProperties>
</file>