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Os%20Cariocas%20-%20Samba%20do%20Avi%C3%A3o.wav" ContentType="audio/x-wav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F77-1586-44CF-B3DC-68030CAD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CD4-A068-4FAC-8FE2-23EE384F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62933-5263-4B96-820D-DBEFCB62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B5BBC-4B3F-4544-B430-25821D9D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EEA4E-2C88-4417-932F-D970F532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0B4F0-A27D-40D5-B34A-7E7796AB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7BA36-0489-4F3F-B8D9-8ECC1449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19101-158B-4B41-B54D-74321F0F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45F34-6C6C-4EF6-8A99-252FEDFC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FE404-3BC4-4994-8A22-56606E3F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4B211-E7DA-4BD0-8C72-E2133285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7267A-0FFE-41F3-8B13-C6315C36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4B9-2413-47FD-AB5E-2269B0A0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D5FD1-A2C7-4A98-A367-A11C37D4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D718F-5B35-4227-ABE5-94CEDFCE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4D915-E935-46AE-8E74-63F0A295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31C1E-3F60-4FBE-B2B4-3E071914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F7174-C8F5-4A1A-AE4E-80FD107A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3252A-C10A-4D96-947A-A4B32529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447DC-53DD-42D3-AC4C-E31A9534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65353-0880-4436-8ADC-D2D456FD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0DD1A-F782-4A47-A777-5B82303E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AA078-4EAC-41BD-B522-7FA21028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4C1-0DA9-4BD4-BE3A-A4A0A7BA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C0A9B-1A58-4A95-AEDD-C52ECB6E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5A372-EA21-47CD-8C52-3E34231C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CB5E2-489F-4F04-A65A-F966D2D1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9842F-5C28-455A-AA59-7386CA76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0FE44-346C-4037-975E-68698993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F8C9A-3E8B-4F68-A400-CCAE8BC4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6D6CC-A9BA-4D47-92B3-FA11DC2F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5ACE8-E7A9-4F00-9598-5926D232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27971-9068-4F2C-B13D-55652545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FF1A0-DB5D-46AB-B05E-82227026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F120-DE50-43CB-8508-D15AB3CA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C4A90-62C0-4CF6-88A8-D1F28EAF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878C1-2F03-4F20-9618-385C8E9D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BCE56-B38C-40D9-860A-430BC6A7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06E05-94EA-42FC-8131-FB45F30E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B3421-60E4-40D8-A091-0CB6D03D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AB3DF-BAE1-4A3E-8FAE-EDBFDC5F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B2132-DC0E-4497-9935-7931FE8D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85800-0721-4D7B-ABA4-5CE3F1ED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5D00D-66CC-4758-97F4-457F9C99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8383B-3D6C-41EE-9C17-2228AE1B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D1DA-6D4B-454D-973E-5F3B9878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2B0D6-FADE-463C-8A2C-36C9DB3F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3B5FC-B331-4CDF-9B71-B1251831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580C6-1DAD-4F3D-B125-92B4796B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8BBD5-BDC2-43A0-9CAF-BBA38FDA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76125-8DB3-4BC8-8C05-75F86DA4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6EEE-E87F-4A7E-B69C-511A91D2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399C-460B-4CC8-A117-D9141FE7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D187-D0DF-4B8F-ACA5-1A63B540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6BE3-A2B4-4EFD-BA26-9A9030C1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5F81-C078-45CE-B6F4-25B8B7E8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187-4153-4AC2-BECC-72DC8791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4D41-2841-42F9-80A9-ED43A4D2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4CF2-B66B-4901-8476-8C29A811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BC53-CE99-462A-9AF0-A8658B84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1B11-FCFC-41DC-9501-3104BD2A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B956-1E0E-4557-91DB-832D95BC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226A5-7448-4AF1-851A-C0F59D94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BCBC7-06B7-41A1-8493-217E0D57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CDCFF-A4FB-4052-948D-E155C65B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68B05-1CCE-464C-AD4C-0808EA8D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8230-F090-4B49-B345-6B7E26FF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330-B70F-44B3-8975-353C13FE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C1910-7E69-4A88-B29F-FF053986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19482-06D9-44A4-9D0F-CD902E0F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A375A-A98E-4C0C-8C6F-73F15B98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EFAD3-1926-42DA-A2BE-CE846C52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F5338-197A-4BAC-8119-758AB8E1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F57C4-9BEC-4F58-8F98-AA59ACFD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8B48B-DA95-4308-847D-9B9CC540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8A902-CECE-4361-BE52-C13A0BE7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F1992-C49A-404A-8FB5-BFF0DC19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4A8DC-BDC2-41A0-B823-DDE0204B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10B-740C-4A86-8FFB-057EC143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B88F6-C67F-49DB-A738-E6D06E5E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125BE-13C4-485F-BC7D-43490847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04B6D-7F31-40F9-8CF9-385263A2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54CB3-A39B-4B50-A1B0-5910928D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B098F-3789-4A8A-BAC3-12B55554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3C087-61B9-4302-B02D-7C5A56B6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19D3C-0A1C-4BF6-883C-7EC87B9D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CAD1B-7D2D-4C73-8E4C-6F9B2E88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32EFD-3CB2-4E06-AFE8-D331DF79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B18B0-57BF-4AFA-98A5-04504A73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59F-1689-4F58-B06A-093410D3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852FA-4260-4665-B2F3-F5D15C2E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6879C-C92E-4986-965C-227F6482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61F33-EDC7-49A5-94BA-141723D0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D8B26-2510-4E9B-AE62-C5835413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D6EE9-EFE0-4B4C-99C6-671C29F2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48A98-AC9C-4E83-9BED-2D035B63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2B04F-519A-4FB2-B6B2-D4847CEC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BFCE6-6B2A-4F21-8086-70A1704B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AAB56-2FFE-4A6E-BCF7-3F307E07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7ABB5-50D5-4629-8C39-ED055624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BB2-9E78-44B4-93BF-8924D4EC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FD174-7322-40B9-B44D-C8960B43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E0988-35B7-444D-A2B7-582A0312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A08AC-4820-4FD0-BD41-59FFB79A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FC445-B16C-4D7C-BDA7-4765CBEC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DCB55-3AE9-41CA-87C7-011ADCBF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D5D36-4095-48F0-B0A2-98DD2304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956D7-7C6E-47AB-A370-C19ACD7A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ABFC0-3F39-4F21-BE04-B0523445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FAA78-C2D2-4D25-8DB5-F5925892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956CF-98A4-4AEF-A096-E7B75096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A92-32C7-499E-B721-C4AE3385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8E79E-CCF5-4F87-8433-C120F8E6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8AD86-79BD-40A4-8719-FF64E3D2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E080E-C4CD-4231-9131-11046ECC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9ADFA-1726-496C-B620-AF29F819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6CED4-6960-4C9F-AD2E-E8269DC2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777F5-830A-4283-BEE6-A5940729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52AF9-C6A1-4E0A-AD32-4F793A55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97D2A-8D52-4A7D-9207-F95D4A50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E07C5-A724-468F-A983-AD16279D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430FC-D0B0-4789-B4E2-DEF4FFF5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547-CDFA-413D-8EFF-F2CD1306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5E4FC-1FA5-4D92-9119-BCA095CA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21CC5-5AC7-4EA0-8B2C-0516744C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2F9D8-5D0A-4AC2-A419-0F398FA2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F2774-FFD1-4EAD-872F-D3D9F9F1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0F021-BE87-4F90-97D2-4F7960F0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6D71A-CF46-437A-A6AB-06E246F5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264FC-6DB6-4040-85B5-7599C559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9FC6B-C2B2-41B7-A058-75622F57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D0169-D937-4010-BA3D-CA479277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75968-1FFF-4F72-A012-881DF9BF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39E-8A01-4AB7-84D5-C95497CF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96684-71F1-45F1-B898-0D3A6281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BEB2E-3E0D-46D5-AF93-940D1F3A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5F8E5-5073-4ED1-B7DD-8CA636CA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E90C5-9AA8-4CFF-AD58-9175F9F5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29310-A7CF-4F9D-8AB3-A5D93C32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C8324-6ABE-4695-8EBF-B0DEB8F7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3D486-6B4A-41E0-81B4-BFA4FDD5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9520E-A641-4E17-B5CF-439F0270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F0292-9BF6-4102-BFF7-976B40DF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60535-B9AC-4CB9-9777-91CCAA13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FEE4-7C42-452D-9D63-38B4E95ED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8BBF-5F99-4852-9125-A46091865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E8BF-C10E-4ADE-9C6E-93C2C96E4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64FA-B215-40E1-8424-C2994FB12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F32E-3FFE-4114-B70F-572C56DB7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C44E-9655-4714-AE0F-D960A36BB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F305-BF4E-41FF-A756-2226AE9FD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E756-F757-4121-95EC-444A10211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0478-4384-4AA4-95EA-03B0629F3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16AD-9D3F-4B7F-A88A-856EED548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74FE-1A63-4E38-9766-ADDDA7893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3F53-0040-4DA6-9ED0-E9F647F99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s%20Cariocas%20-%20Samba%20do%20Avi&#227;o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1"/>
          <p:cNvSpPr/>
          <p:nvPr/>
        </p:nvSpPr>
        <p:spPr>
          <a:xfrm>
            <a:off x="0" y="4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ff00"/>
                </a:solidFill>
                <a:latin typeface="Comic Sans MS"/>
              </a:rPr>
              <a:t>A História do Bondinho do Pão de Açú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71280" y="6278400"/>
            <a:ext cx="9072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Música: Samba do Avião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                                                  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          By Ney Del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Cantam: Os Cariocas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               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	</a:t>
            </a: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            Ligue o 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5" descr="C:\Users\Owner\Pictures\arquivo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495" name="Rounded Rectangle 7"/>
          <p:cNvSpPr/>
          <p:nvPr/>
        </p:nvSpPr>
        <p:spPr>
          <a:xfrm>
            <a:off x="3492360" y="6308640"/>
            <a:ext cx="2880000" cy="43344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3"/>
          <p:cNvSpPr/>
          <p:nvPr/>
        </p:nvSpPr>
        <p:spPr>
          <a:xfrm>
            <a:off x="1908000" y="6280200"/>
            <a:ext cx="60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c000"/>
                </a:solidFill>
                <a:latin typeface="Comic Sans MS"/>
              </a:rPr>
              <a:t>Homenagem aos 100 anos do bondin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                                   </a:t>
            </a:r>
            <a:r>
              <a:rPr b="1" lang="pt-BR" sz="1200" spc="-1" strike="noStrike">
                <a:solidFill>
                  <a:srgbClr val="00ff00"/>
                </a:solidFill>
                <a:latin typeface="Comic Sans MS"/>
              </a:rPr>
              <a:t>27/Out/1912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               </a:t>
            </a:r>
            <a:r>
              <a:rPr b="1" lang="pt-BR" sz="1200" spc="-1" strike="noStrike">
                <a:solidFill>
                  <a:srgbClr val="00ff00"/>
                </a:solidFill>
                <a:latin typeface="Comic Sans MS"/>
              </a:rPr>
              <a:t>27/Out/2012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Os%20Cariocas%20-%20Samba%20do%20Avi%C3%A3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9"/>
          <p:cNvSpPr/>
          <p:nvPr/>
        </p:nvSpPr>
        <p:spPr>
          <a:xfrm>
            <a:off x="0" y="643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Esta são as engrenagens alemães originais que foram usadas em 19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50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9"/>
          <p:cNvSpPr/>
          <p:nvPr/>
        </p:nvSpPr>
        <p:spPr>
          <a:xfrm>
            <a:off x="0" y="6453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Após os cabos e as engrenagens, foi a vez de acoplar os 2 bondinhos feitos na Alemanha em madeira maciç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C:\Users\Owner\Documents\Pictures\Pictur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9"/>
          <p:cNvSpPr/>
          <p:nvPr/>
        </p:nvSpPr>
        <p:spPr>
          <a:xfrm>
            <a:off x="0" y="6453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Em 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27/Out/1912 </a:t>
            </a: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foi inaugurada a estação do Morro da Urca, dia em que 577 pessoas subiram lá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C:\Users\Owner\Pictures\Picture1-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9"/>
          <p:cNvSpPr/>
          <p:nvPr/>
        </p:nvSpPr>
        <p:spPr>
          <a:xfrm>
            <a:off x="0" y="643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Naquele dia mesmo, o pomposo nome de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Camarote Carril 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foi substituído simplesmente por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”bondinho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C:\Users\Owner\Documents\Pictures\Picture7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6" descr="C:\Users\Owner\Documents\Pictures\Picture15-001.jpg"/>
          <p:cNvPicPr/>
          <p:nvPr/>
        </p:nvPicPr>
        <p:blipFill>
          <a:blip r:embed="rId1"/>
          <a:stretch/>
        </p:blipFill>
        <p:spPr>
          <a:xfrm>
            <a:off x="720720" y="0"/>
            <a:ext cx="7596360" cy="63817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9"/>
          <p:cNvSpPr/>
          <p:nvPr/>
        </p:nvSpPr>
        <p:spPr>
          <a:xfrm>
            <a:off x="0" y="6453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O passo seguinte foi a construção da estação do Pão de Açúcar, a 395 m de altura e usando a mesma técn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7451640" y="6165720"/>
            <a:ext cx="901800" cy="287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7478640" y="6165720"/>
            <a:ext cx="8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Marc Ferrez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5" descr="C:\Users\Owner\Pictures\65.jpg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9296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9"/>
          <p:cNvSpPr/>
          <p:nvPr/>
        </p:nvSpPr>
        <p:spPr>
          <a:xfrm>
            <a:off x="0" y="6453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O trecho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Morro da Urca–Pão de Açúcar 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foi inaugurado em 18/Jan/1913, 18 anos antes do Corcov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8244000" y="5950080"/>
            <a:ext cx="901440" cy="287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8277120" y="595008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@ E.A.Morti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9"/>
          <p:cNvSpPr/>
          <p:nvPr/>
        </p:nvSpPr>
        <p:spPr>
          <a:xfrm>
            <a:off x="0" y="6453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A partir daí, ir até o Pão de Açúcar para ver a vista deslumbrante passou a ser o objeto de desejo de to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3" descr="C:\Users\Owner\Pictures\urca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9"/>
          <p:cNvSpPr/>
          <p:nvPr/>
        </p:nvSpPr>
        <p:spPr>
          <a:xfrm>
            <a:off x="0" y="62895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Quando o teleférico do Pão de Açúcar foi construído, só existiam 2 outros deste porte no mundo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um no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Monte Ulia, na Espanha </a:t>
            </a:r>
            <a:r>
              <a:rPr b="0" lang="en-US" sz="1000" spc="-1" strike="noStrike">
                <a:solidFill>
                  <a:srgbClr val="ffc000"/>
                </a:solidFill>
                <a:latin typeface="Comic Sans MS"/>
              </a:rPr>
              <a:t>(1907)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, com 280 m, e outro em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Wetterhorn, na Suíça </a:t>
            </a:r>
            <a:r>
              <a:rPr b="0" lang="en-US" sz="1100" spc="-1" strike="noStrike">
                <a:solidFill>
                  <a:srgbClr val="ffc000"/>
                </a:solidFill>
                <a:latin typeface="Comic Sans MS"/>
              </a:rPr>
              <a:t>(</a:t>
            </a:r>
            <a:r>
              <a:rPr b="0" lang="en-US" sz="1000" spc="-1" strike="noStrike">
                <a:solidFill>
                  <a:srgbClr val="ffc000"/>
                </a:solidFill>
                <a:latin typeface="Comic Sans MS"/>
              </a:rPr>
              <a:t>1908</a:t>
            </a:r>
            <a:r>
              <a:rPr b="0" lang="en-US" sz="1100" spc="-1" strike="noStrike">
                <a:solidFill>
                  <a:srgbClr val="ffc000"/>
                </a:solidFill>
                <a:latin typeface="Comic Sans MS"/>
              </a:rPr>
              <a:t>)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, com 560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" descr="C:\Users\Owner\Documents\Pictures\Picture9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32" descr="C:\Users\Owner\Pictures\57.jpg"/>
          <p:cNvPicPr/>
          <p:nvPr/>
        </p:nvPicPr>
        <p:blipFill>
          <a:blip r:embed="rId1"/>
          <a:stretch/>
        </p:blipFill>
        <p:spPr>
          <a:xfrm>
            <a:off x="0" y="684360"/>
            <a:ext cx="9144000" cy="540864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9"/>
          <p:cNvSpPr/>
          <p:nvPr/>
        </p:nvSpPr>
        <p:spPr>
          <a:xfrm>
            <a:off x="0" y="62895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As duas linhas do teleférico carioca somam 1.325 m, mais de uma vez e meia a soma dos teleféric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espanhol e suíço juntos, o que dá a dimensão da competência da engenharia brasileira da épo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9"/>
          <p:cNvSpPr/>
          <p:nvPr/>
        </p:nvSpPr>
        <p:spPr>
          <a:xfrm>
            <a:off x="0" y="643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Os cabos do trecho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Praia Vermelha-Morro da Urca 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têm 575 m e os do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Morro da Urca-Pão de Açúcar, 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750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C:\Users\Owner\Documents\Pictures\13-001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30864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6443640" y="6094440"/>
            <a:ext cx="2700360" cy="287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6407280" y="6093000"/>
            <a:ext cx="277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Homens fazendo manutenção nos cab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7" descr="C:\Users\Owner\Pictures\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9"/>
          <p:cNvSpPr/>
          <p:nvPr/>
        </p:nvSpPr>
        <p:spPr>
          <a:xfrm>
            <a:off x="0" y="607536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Há 2 teorias para a origem do nome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Pão de Açúcar. 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Uma, a de que os portugueses o batizaram assim pela semelhança com um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pão de açúcar, 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recipiente usado para transportar torrões de açúcar da Ilha da Madeira para a Europa. A outra, a de que o nome vem de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p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au-nh-açuquã, </a:t>
            </a: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que em tupi significa 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morro alto e pontu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7"/>
          <p:cNvSpPr/>
          <p:nvPr/>
        </p:nvSpPr>
        <p:spPr>
          <a:xfrm>
            <a:off x="5003640" y="5748480"/>
            <a:ext cx="4138920" cy="272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3"/>
          <p:cNvSpPr/>
          <p:nvPr/>
        </p:nvSpPr>
        <p:spPr>
          <a:xfrm>
            <a:off x="4932360" y="5759280"/>
            <a:ext cx="424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Comic Sans MS"/>
              </a:rPr>
              <a:t>Pães de açúcar, muito comuns nos engenhos de cana da épo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9"/>
          <p:cNvSpPr/>
          <p:nvPr/>
        </p:nvSpPr>
        <p:spPr>
          <a:xfrm>
            <a:off x="0" y="643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Desde 1912, o bondinho já transportou mais de 31 milhões de turist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8" descr="C:\Users\Owner\Pictures\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3"/>
          <p:cNvSpPr/>
          <p:nvPr/>
        </p:nvSpPr>
        <p:spPr>
          <a:xfrm>
            <a:off x="7524720" y="6094440"/>
            <a:ext cx="1619280" cy="287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7524720" y="6093000"/>
            <a:ext cx="162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Bondinho nos anos 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9"/>
          <p:cNvSpPr/>
          <p:nvPr/>
        </p:nvSpPr>
        <p:spPr>
          <a:xfrm>
            <a:off x="0" y="607536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Em 100 anos, houve apenas 3 acidentes sem vítimas: 1) na revolução comunista de 1935, uma bala de canhão atingiu a estação da Praia Vermelha, que teve de ser fechada; 2) em 1951, um cabo se rompeu e as pessoas foram retiradas durante a noite; 3) em 2000, um cabo não resistiu e todos foram retirados de helicópte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C:\Users\Owner\Pictures\aaa.jpg"/>
          <p:cNvPicPr/>
          <p:nvPr/>
        </p:nvPicPr>
        <p:blipFill>
          <a:blip r:embed="rId1"/>
          <a:stretch/>
        </p:blipFill>
        <p:spPr>
          <a:xfrm>
            <a:off x="0" y="0"/>
            <a:ext cx="916956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1" descr="C:\Users\Owner\Documents\Pictures\Picture11d.jpg"/>
          <p:cNvPicPr/>
          <p:nvPr/>
        </p:nvPicPr>
        <p:blipFill>
          <a:blip r:embed="rId1"/>
          <a:stretch/>
        </p:blipFill>
        <p:spPr>
          <a:xfrm>
            <a:off x="0" y="0"/>
            <a:ext cx="6084720" cy="62373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9"/>
          <p:cNvSpPr/>
          <p:nvPr/>
        </p:nvSpPr>
        <p:spPr>
          <a:xfrm>
            <a:off x="0" y="63086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O bondinho foi cenário em 1925 do filme brasileiro mudo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A Esposa do Solteiro, 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onde um ator se pend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nos cabos. Em 1979 foi a vez das aventuras do James Bond no filme 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</a:rPr>
              <a:t>007 Contra o Foguete da Mor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216000" y="5950080"/>
            <a:ext cx="5580000" cy="287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3"/>
          <p:cNvSpPr/>
          <p:nvPr/>
        </p:nvSpPr>
        <p:spPr>
          <a:xfrm>
            <a:off x="216000" y="5975280"/>
            <a:ext cx="558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Comic Sans MS"/>
              </a:rPr>
              <a:t>A Esposa do Solteiro </a:t>
            </a:r>
            <a:r>
              <a:rPr b="0" lang="pt-BR" sz="900" spc="-1" strike="noStrike">
                <a:solidFill>
                  <a:srgbClr val="ffffff"/>
                </a:solidFill>
                <a:latin typeface="Comic Sans MS"/>
              </a:rPr>
              <a:t>(o 1º filme da Carmen Miranda, onde ela aos 16 anos atuou como figuran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5" descr="http://i.telegraph.co.uk/multimedia/archive/01010/moonraker_1010945i.jpg"/>
          <p:cNvPicPr/>
          <p:nvPr/>
        </p:nvPicPr>
        <p:blipFill>
          <a:blip r:embed="rId2"/>
          <a:stretch/>
        </p:blipFill>
        <p:spPr>
          <a:xfrm>
            <a:off x="6200640" y="493560"/>
            <a:ext cx="2808360" cy="18129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589" name="Picture 9" descr="C:\Users\Owner\Documents\Pictures\ddddd-001.jpg"/>
          <p:cNvPicPr/>
          <p:nvPr/>
        </p:nvPicPr>
        <p:blipFill>
          <a:blip r:embed="rId3"/>
          <a:stretch/>
        </p:blipFill>
        <p:spPr>
          <a:xfrm>
            <a:off x="6200640" y="4238640"/>
            <a:ext cx="2808360" cy="14223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590" name="Rectangle 23"/>
          <p:cNvSpPr/>
          <p:nvPr/>
        </p:nvSpPr>
        <p:spPr>
          <a:xfrm>
            <a:off x="6068880" y="5759280"/>
            <a:ext cx="2967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Comic Sans MS"/>
              </a:rPr>
              <a:t>007 Contra o Foguete da Mor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0" descr="http://3.bp.blogspot.com/-6xTrvAOAu4A/Tzg6ANP4fbI/AAAAAAAAAIs/2APyYdVVHkA/s1600/jaws-teeth-james-bond-prop-replica-9.jpg"/>
          <p:cNvPicPr/>
          <p:nvPr/>
        </p:nvPicPr>
        <p:blipFill>
          <a:blip r:embed="rId4"/>
          <a:stretch/>
        </p:blipFill>
        <p:spPr>
          <a:xfrm>
            <a:off x="6200640" y="2654280"/>
            <a:ext cx="2835360" cy="12240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C:\Users\Owner\Documents\Picture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6804000" y="6021360"/>
            <a:ext cx="2340000" cy="287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9"/>
          <p:cNvSpPr/>
          <p:nvPr/>
        </p:nvSpPr>
        <p:spPr>
          <a:xfrm>
            <a:off x="6732720" y="6048360"/>
            <a:ext cx="2411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Bondinho novo em fase de tes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0" y="62895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Em 1972, como os bondinhos antigos não mais atendiam ao volume crescente de turistas, foi inaugurada uma 2ª linha com 2 carros novos para passageiros em cada trecho, com capacidade para 75 pessoas cada 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C:\Users\Owner\Pictures\07. Bondinho 4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9"/>
          <p:cNvSpPr/>
          <p:nvPr/>
        </p:nvSpPr>
        <p:spPr>
          <a:xfrm>
            <a:off x="0" y="6453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Com os 4 novos bondinhos e os carros de carga, hoje o sistema transporta em média 3.000 turistas/d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C:\Users\Owner\Documents\Pictures\PC300032_thumb[3]-002.jpg"/>
          <p:cNvPicPr/>
          <p:nvPr/>
        </p:nvPicPr>
        <p:blipFill>
          <a:blip r:embed="rId2"/>
          <a:stretch/>
        </p:blipFill>
        <p:spPr>
          <a:xfrm>
            <a:off x="179280" y="4149720"/>
            <a:ext cx="2583000" cy="193680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599" name="Rectangle 5"/>
          <p:cNvSpPr/>
          <p:nvPr/>
        </p:nvSpPr>
        <p:spPr>
          <a:xfrm>
            <a:off x="179280" y="5878440"/>
            <a:ext cx="2592360" cy="214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179280" y="5862600"/>
            <a:ext cx="259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mic Sans MS"/>
              </a:rPr>
              <a:t>2 linhas para passageiros e 2 para car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7" descr="C:\Users\Owner\Documents\Pictures\aaa.jpg"/>
          <p:cNvPicPr/>
          <p:nvPr/>
        </p:nvPicPr>
        <p:blipFill>
          <a:blip r:embed="rId3"/>
          <a:stretch/>
        </p:blipFill>
        <p:spPr>
          <a:xfrm>
            <a:off x="6804000" y="4149720"/>
            <a:ext cx="2089080" cy="193824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sp>
        <p:nvSpPr>
          <p:cNvPr id="602" name="Rectangle 10"/>
          <p:cNvSpPr/>
          <p:nvPr/>
        </p:nvSpPr>
        <p:spPr>
          <a:xfrm>
            <a:off x="6804000" y="5878440"/>
            <a:ext cx="2089080" cy="214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9"/>
          <p:cNvSpPr/>
          <p:nvPr/>
        </p:nvSpPr>
        <p:spPr>
          <a:xfrm>
            <a:off x="6804000" y="5862600"/>
            <a:ext cx="208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omic Sans MS"/>
              </a:rPr>
              <a:t>Bondinho de car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6" descr="C:\Users\Owner\Documents\Pictures\339715645_bc9f7e8a36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9"/>
          <p:cNvSpPr/>
          <p:nvPr/>
        </p:nvSpPr>
        <p:spPr>
          <a:xfrm>
            <a:off x="0" y="6453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Com vista panorâmica de 360º e um cenário destes, não há como a viagem de bondinho não ser inesquecível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8675640" y="6021360"/>
            <a:ext cx="468360" cy="287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8604360" y="60325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Comic Sans MS"/>
              </a:rPr>
              <a:t>F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C:\Users\Owner\Pictures\ss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9"/>
          <p:cNvSpPr/>
          <p:nvPr/>
        </p:nvSpPr>
        <p:spPr>
          <a:xfrm>
            <a:off x="0" y="62895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A ideia de se construir um teleférico até o topo do Pão de Açúcar surgiu durante a Exposição 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comemorou o centenário da abertura dos portos em 1908, sendo que as obras começaram em 19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5435640" y="6060960"/>
            <a:ext cx="3708360" cy="247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3"/>
          <p:cNvSpPr/>
          <p:nvPr/>
        </p:nvSpPr>
        <p:spPr>
          <a:xfrm>
            <a:off x="5400720" y="6046920"/>
            <a:ext cx="377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Comic Sans MS"/>
              </a:rPr>
              <a:t>Pavilhão das Indústrias na Exposição Nacional de 19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31" descr="C:\Users\Owner\Documents\Pictures\Picture1-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506" name="Straight Connector 44"/>
          <p:cNvSpPr/>
          <p:nvPr/>
        </p:nvSpPr>
        <p:spPr>
          <a:xfrm flipV="1">
            <a:off x="3059280" y="4581000"/>
            <a:ext cx="1008000" cy="28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47"/>
          <p:cNvSpPr/>
          <p:nvPr/>
        </p:nvSpPr>
        <p:spPr>
          <a:xfrm flipV="1">
            <a:off x="4067280" y="4292640"/>
            <a:ext cx="36036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50"/>
          <p:cNvSpPr/>
          <p:nvPr/>
        </p:nvSpPr>
        <p:spPr>
          <a:xfrm>
            <a:off x="4427640" y="4292640"/>
            <a:ext cx="504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52"/>
          <p:cNvSpPr/>
          <p:nvPr/>
        </p:nvSpPr>
        <p:spPr>
          <a:xfrm flipV="1">
            <a:off x="4932360" y="4365360"/>
            <a:ext cx="10796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54"/>
          <p:cNvSpPr/>
          <p:nvPr/>
        </p:nvSpPr>
        <p:spPr>
          <a:xfrm flipV="1">
            <a:off x="6659640" y="3573000"/>
            <a:ext cx="144144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6"/>
          <p:cNvSpPr/>
          <p:nvPr/>
        </p:nvSpPr>
        <p:spPr>
          <a:xfrm flipV="1">
            <a:off x="8101080" y="3499920"/>
            <a:ext cx="574560" cy="73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61"/>
          <p:cNvSpPr/>
          <p:nvPr/>
        </p:nvSpPr>
        <p:spPr>
          <a:xfrm>
            <a:off x="7451640" y="3141720"/>
            <a:ext cx="936720" cy="1429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63"/>
          <p:cNvSpPr/>
          <p:nvPr/>
        </p:nvSpPr>
        <p:spPr>
          <a:xfrm>
            <a:off x="7308720" y="3068640"/>
            <a:ext cx="142920" cy="73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69"/>
          <p:cNvSpPr/>
          <p:nvPr/>
        </p:nvSpPr>
        <p:spPr>
          <a:xfrm>
            <a:off x="7093080" y="3068640"/>
            <a:ext cx="2156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73"/>
          <p:cNvSpPr/>
          <p:nvPr/>
        </p:nvSpPr>
        <p:spPr>
          <a:xfrm flipV="1">
            <a:off x="6948360" y="3068280"/>
            <a:ext cx="144720" cy="73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76"/>
          <p:cNvSpPr/>
          <p:nvPr/>
        </p:nvSpPr>
        <p:spPr>
          <a:xfrm>
            <a:off x="6411960" y="2997360"/>
            <a:ext cx="608040" cy="144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82"/>
          <p:cNvSpPr/>
          <p:nvPr/>
        </p:nvSpPr>
        <p:spPr>
          <a:xfrm>
            <a:off x="6443640" y="414972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88"/>
          <p:cNvSpPr/>
          <p:nvPr/>
        </p:nvSpPr>
        <p:spPr>
          <a:xfrm flipV="1">
            <a:off x="6012000" y="4149720"/>
            <a:ext cx="4316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3"/>
          <p:cNvSpPr/>
          <p:nvPr/>
        </p:nvSpPr>
        <p:spPr>
          <a:xfrm>
            <a:off x="6912000" y="4653000"/>
            <a:ext cx="212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A escalada original foi pela </a:t>
            </a:r>
            <a:r>
              <a:rPr b="0" lang="pt-BR" sz="1200" spc="-1" strike="noStrike">
                <a:solidFill>
                  <a:srgbClr val="00ff00"/>
                </a:solidFill>
                <a:latin typeface="Comic Sans MS"/>
              </a:rPr>
              <a:t>Via do Costão, </a:t>
            </a: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na par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de trás do Pão de Açú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3"/>
          <p:cNvSpPr/>
          <p:nvPr/>
        </p:nvSpPr>
        <p:spPr>
          <a:xfrm>
            <a:off x="5653080" y="306864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Comic Sans MS"/>
              </a:rPr>
              <a:t>Estação d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Comic Sans MS"/>
              </a:rPr>
              <a:t>Pão de Açú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3"/>
          <p:cNvSpPr/>
          <p:nvPr/>
        </p:nvSpPr>
        <p:spPr>
          <a:xfrm>
            <a:off x="2771640" y="374976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Comic Sans MS"/>
              </a:rPr>
              <a:t>Estação do Morro da U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98"/>
          <p:cNvSpPr/>
          <p:nvPr/>
        </p:nvSpPr>
        <p:spPr>
          <a:xfrm>
            <a:off x="2771640" y="3573360"/>
            <a:ext cx="216000" cy="216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00"/>
          <p:cNvSpPr/>
          <p:nvPr/>
        </p:nvSpPr>
        <p:spPr>
          <a:xfrm>
            <a:off x="6227640" y="2852640"/>
            <a:ext cx="216000" cy="216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101"/>
          <p:cNvSpPr/>
          <p:nvPr/>
        </p:nvSpPr>
        <p:spPr>
          <a:xfrm>
            <a:off x="2771640" y="5300640"/>
            <a:ext cx="216000" cy="216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2916360" y="53006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Comic Sans MS"/>
              </a:rPr>
              <a:t>Praia Vermel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3"/>
          <p:cNvSpPr/>
          <p:nvPr/>
        </p:nvSpPr>
        <p:spPr>
          <a:xfrm rot="21090000">
            <a:off x="4807800" y="4113000"/>
            <a:ext cx="161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ista Cláudio Coutin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105"/>
          <p:cNvSpPr/>
          <p:nvPr/>
        </p:nvSpPr>
        <p:spPr>
          <a:xfrm flipH="1">
            <a:off x="2987640" y="2960640"/>
            <a:ext cx="3240000" cy="684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106"/>
          <p:cNvSpPr/>
          <p:nvPr/>
        </p:nvSpPr>
        <p:spPr>
          <a:xfrm flipH="1">
            <a:off x="1802880" y="3757680"/>
            <a:ext cx="1000440" cy="1503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12"/>
          <p:cNvSpPr/>
          <p:nvPr/>
        </p:nvSpPr>
        <p:spPr>
          <a:xfrm rot="20860800">
            <a:off x="4015440" y="2987280"/>
            <a:ext cx="132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Cabo do bondin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13"/>
          <p:cNvSpPr/>
          <p:nvPr/>
        </p:nvSpPr>
        <p:spPr>
          <a:xfrm>
            <a:off x="1619280" y="5229360"/>
            <a:ext cx="216000" cy="21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14"/>
          <p:cNvSpPr/>
          <p:nvPr/>
        </p:nvSpPr>
        <p:spPr>
          <a:xfrm rot="648600">
            <a:off x="7300440" y="2938320"/>
            <a:ext cx="103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ia do Cost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58"/>
          <p:cNvSpPr/>
          <p:nvPr/>
        </p:nvSpPr>
        <p:spPr>
          <a:xfrm>
            <a:off x="8388360" y="3284640"/>
            <a:ext cx="287280" cy="215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0" y="609300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Quem primeiro escalou o Pão de Açúcar foi a inglesa 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Henrietta Carstairs, </a:t>
            </a: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que</a:t>
            </a:r>
            <a:r>
              <a:rPr b="0" lang="pt-BR" sz="1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fincou ali a bandeira inglesa em </a:t>
            </a: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1817,</a:t>
            </a: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 um feito para a época. Nisto, um militar português do quartel colonial da Urca, que nem alpinista era, indignado com a ousadia subiu lá no dia seguinte e trocou a bandeira inglesa pela bandeira portugu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9"/>
          <p:cNvSpPr/>
          <p:nvPr/>
        </p:nvSpPr>
        <p:spPr>
          <a:xfrm>
            <a:off x="0" y="62895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Subir até o topo podia não ser problema, mas transportar toneladas de equipamentos pelos penhascos, sim. Por isto mesmo a tarefa foi dividida em 2 etapas distintas: 1) o Morro da Urca e 2) o Pão de Açúc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5364000" y="5964120"/>
            <a:ext cx="3780000" cy="344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9"/>
          <p:cNvSpPr/>
          <p:nvPr/>
        </p:nvSpPr>
        <p:spPr>
          <a:xfrm>
            <a:off x="5364000" y="5975280"/>
            <a:ext cx="381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Encosta do Morro da Urca e, ao fundo, o Pão de Açúc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C:\Users\Owner\Documents\Pictures\Picture6-001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16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9"/>
          <p:cNvSpPr/>
          <p:nvPr/>
        </p:nvSpPr>
        <p:spPr>
          <a:xfrm>
            <a:off x="0" y="62895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100 operários-alpinistas fincaram pinos na pedra e foram levando cordas e as peças de um guincho manual desmontado de 4 toneladas. Outra equipe foi pela floresta até a base do morro, arrastando um cabo de aç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C:\Users\Owner\Documents\Pictures\Picture11ssssssssssssss.jpg"/>
          <p:cNvPicPr/>
          <p:nvPr/>
        </p:nvPicPr>
        <p:blipFill>
          <a:blip r:embed="rId1"/>
          <a:stretch/>
        </p:blipFill>
        <p:spPr>
          <a:xfrm>
            <a:off x="2268360" y="0"/>
            <a:ext cx="4535640" cy="630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9"/>
          <p:cNvSpPr/>
          <p:nvPr/>
        </p:nvSpPr>
        <p:spPr>
          <a:xfrm>
            <a:off x="0" y="6453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Eis uma parte do guincho manual desmontável de 4 toneladas que os operários-alpinistas subiram no braç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2" descr="C:\Users\Owner\Documents\Pictures\Pictur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"/>
          <p:cNvSpPr/>
          <p:nvPr/>
        </p:nvSpPr>
        <p:spPr>
          <a:xfrm>
            <a:off x="5796000" y="6021360"/>
            <a:ext cx="3348000" cy="360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9"/>
          <p:cNvSpPr/>
          <p:nvPr/>
        </p:nvSpPr>
        <p:spPr>
          <a:xfrm>
            <a:off x="5724360" y="6046920"/>
            <a:ext cx="345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Antigamente, Pão de Açúcar se escrevia com 2 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8"/>
          <p:cNvSpPr/>
          <p:nvPr/>
        </p:nvSpPr>
        <p:spPr>
          <a:xfrm flipH="1">
            <a:off x="-360" y="6308640"/>
            <a:ext cx="59403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0" y="628956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Já no topo, os alpinistas montaram o guincho manual e, com as cordas que levaram, içaram o pesado cab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c000"/>
                </a:solidFill>
                <a:latin typeface="Comic Sans MS"/>
              </a:rPr>
              <a:t>de aço que estava na base do morro. Daí, construíram um elevador de carga para subir o resto do mater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C:\Users\Owner\Pictures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3"/>
          <p:cNvSpPr/>
          <p:nvPr/>
        </p:nvSpPr>
        <p:spPr>
          <a:xfrm rot="1911000">
            <a:off x="6984720" y="4046400"/>
            <a:ext cx="17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f00"/>
                </a:solidFill>
                <a:latin typeface="Comic Sans MS"/>
              </a:rPr>
              <a:t>Pavilhão das Indústri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C:\Users\Owner\Documents\Pictures\Picture3.jpg"/>
          <p:cNvPicPr/>
          <p:nvPr/>
        </p:nvPicPr>
        <p:blipFill>
          <a:blip r:embed="rId1"/>
          <a:stretch/>
        </p:blipFill>
        <p:spPr>
          <a:xfrm>
            <a:off x="1979640" y="0"/>
            <a:ext cx="5146560" cy="630864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9"/>
          <p:cNvSpPr/>
          <p:nvPr/>
        </p:nvSpPr>
        <p:spPr>
          <a:xfrm>
            <a:off x="0" y="643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Comic Sans MS"/>
              </a:rPr>
              <a:t>A seguir, foram então erguidas as estações do Morro da Urca e a Casa de Máquinas na Praia Vermelh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643280" y="6094440"/>
            <a:ext cx="2521080" cy="287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9"/>
          <p:cNvSpPr/>
          <p:nvPr/>
        </p:nvSpPr>
        <p:spPr>
          <a:xfrm>
            <a:off x="4572000" y="6121440"/>
            <a:ext cx="2629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Casa de Máquinas na Praia Vermelh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06:54Z</dcterms:created>
  <dc:creator>Owner</dc:creator>
  <dc:description/>
  <dc:language>en-US</dc:language>
  <cp:lastModifiedBy>Owner</cp:lastModifiedBy>
  <dcterms:modified xsi:type="dcterms:W3CDTF">2012-09-01T03:18:45Z</dcterms:modified>
  <cp:revision>23</cp:revision>
  <dc:subject/>
  <dc:title>Slide 1</dc:title>
</cp:coreProperties>
</file>