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andre_rieu_-_Aimer.wav" ContentType="audio/x-wav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2B4-DB81-4DB9-878C-949CAEA1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C7E4-4E1C-4BFF-B45C-543AB398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90A-F168-474D-800A-E03D57E3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458-1740-4B31-9881-79E35C7D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C54-7388-48EE-9505-1C391873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188-3399-401B-A9D4-0D8AC068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BEB-6169-434E-B147-9DC9C433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678-85B6-46C5-9730-A245ABD4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09B-87A7-4271-8F15-2D693C24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818-8CE8-4E9D-A469-FCF4DA5A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B84-AAAA-4F86-8B60-439CDE18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F9A-0641-4203-A4BE-D0FC7660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38DC-D102-4982-AAD4-EDC0495E5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audio" Target="../media/andre_rieu_-_Aimer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hyperlink" Target="http://www.leticiathompson.net/" TargetMode="External"/><Relationship Id="rId13" Type="http://schemas.openxmlformats.org/officeDocument/2006/relationships/hyperlink" Target="mailto:bethnorling@globo.com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2.jpe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567160" y="3110040"/>
            <a:ext cx="40096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A (in) tolerância</a:t>
            </a:r>
            <a:endParaRPr b="0" i="1" lang="en-US" sz="1800" spc="1" strike="noStrike">
              <a:ln w="0">
                <a:noFill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4005360"/>
            <a:ext cx="2523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000" spc="1" strike="noStrike">
              <a:ln w="0">
                <a:noFill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"/>
          <a:srcRect l="0" t="10094" r="0" b="0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16000" y="3860640"/>
            <a:ext cx="72198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A tolerância é uma incontestável prova de amor e de humildade; é o eu que se inclina para se reerguer mais rico, mais pleno, mais aberto, mais solto e mais li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Mais livre!!! E por isso mesmo mais feliz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3"/>
          <a:srcRect l="0" t="10035" r="0" b="0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042920" y="981000"/>
            <a:ext cx="712944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Ser flexível na vida não é se curv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É simplesmente abrir-se como abrem-se nossas janelas para que o sol entre e ilumine nosso recinto. É um ceder que nos enobrece, pois nos permite degustar da vida nos se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ínimos detalh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split dir="out" orient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gradFill rotWithShape="0">
            <a:gsLst>
              <a:gs pos="0">
                <a:srgbClr val="8b7239"/>
              </a:gs>
              <a:gs pos="50000">
                <a:srgbClr val="e6ba00"/>
              </a:gs>
              <a:gs pos="100000">
                <a:srgbClr val="8b72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87280" y="2060640"/>
            <a:ext cx="68407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Música: André Rieu - A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bethnorling@globo.com</a:t>
            </a:r>
            <a:r>
              <a:rPr b="1" lang="pt-BR" sz="20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rcRect l="0" t="10094" r="0" b="0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4724280"/>
            <a:ext cx="71294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As flores toleram as abelhas, mesmo se estas lhes tiram o néctar, mesmo se, por vezes, por acidente, uma pétala se machu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rcRect l="0" t="10094" r="0" b="0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4437000"/>
            <a:ext cx="72007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A natureza tolera os ventos que arrastam folhas e quebram os galhos, tolera as torrentes e correntes que não perguntam o que carregam na sua passag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6443640" y="1052640"/>
            <a:ext cx="1344600" cy="100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71640" y="4941720"/>
            <a:ext cx="7076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A própria lua tolera as mudanças e acolhe serenamente cada fase com dign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00000" y="4292640"/>
            <a:ext cx="72723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Só nós, humanos e racionais, somos assim intolerantes com a vida, com o próximo, com o que nos acontece, com o que deixa de nos acontecer, com as diferenças e os diferentes que mal suporta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4581360"/>
            <a:ext cx="73454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Damos de nós e queremos ficar inteiros; recebemos e queremos continuar os mesmos, abastados do nosso eu, sem as máculas dos pecados que nos deixariam iguais a todo mun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3"/>
          <a:srcRect l="0" t="9528" r="0" b="0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4292640"/>
            <a:ext cx="74170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Queremos amar o que nos é próximo, pois que nos disseram </a:t>
            </a:r>
            <a:r>
              <a:rPr b="1" i="1" lang="en-US" sz="2000" spc="-1" strike="noStrike">
                <a:solidFill>
                  <a:srgbClr val="ffff99"/>
                </a:solidFill>
                <a:latin typeface="Verdana"/>
              </a:rPr>
              <a:t>“ama a teu próximo”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 sendo que esse outro deve ser uma correspondê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daquilo que so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 que é diferente nos decepciona e nos faz sof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rcRect l="0" t="10094" r="0" b="0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00000" y="4508640"/>
            <a:ext cx="74138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Por isso cobramos tanto dos outros e permitimos que essa negra nuvem encha nossa alma de tristeza ao depararmos com ações e reações diferentes das que espera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60280"/>
            <a:ext cx="8642160" cy="626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76280"/>
            <a:ext cx="8207280" cy="583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20640"/>
            <a:ext cx="7921440" cy="5545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7596360" y="2602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25092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7596360" y="5229360"/>
            <a:ext cx="1276200" cy="1276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55640" y="765000"/>
            <a:ext cx="7632720" cy="5256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8028000" y="5861160"/>
            <a:ext cx="1116000" cy="996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755640" y="765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00000" y="4581360"/>
            <a:ext cx="7220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s não é amar tolerar que o outro seja outro e aceitar com resignação e alegria até que, mesmo nos possíveis deslizes, esse encha nossa vida de novos ares e novas flores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20:19:38Z</dcterms:created>
  <dc:creator>Beth Norling</dc:creator>
  <dc:description/>
  <dc:language>en-US</dc:language>
  <cp:lastModifiedBy>Beth Norling</cp:lastModifiedBy>
  <dcterms:modified xsi:type="dcterms:W3CDTF">2007-08-31T22:06:13Z</dcterms:modified>
  <cp:revision>5</cp:revision>
  <dc:subject/>
  <dc:title>A_(in)_tolerancia</dc:title>
</cp:coreProperties>
</file>