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andre_rieu_-_Aimer.wav" ContentType="audio/x-wav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2.jpeg" ContentType="image/jpe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2A5D-8CF2-43F1-8510-C1EECD686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C365-25BF-4BFE-BE98-993901467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6629-41F7-4F95-8F31-213C52022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68B2-B247-4281-8B1F-52C41BE51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06D1-3B16-40DB-ADA5-C1BE49BEE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2534-249F-4E50-B2E1-ED1A4A80D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D14C-8FD2-4DFE-BF45-ACBA65831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9824-CEC9-454A-A380-6ECC911E1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51B3-0379-44B2-8A2A-49261AC04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A79E-1458-4311-B6A3-6F0234B4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8D16-225C-4B40-88CC-D73E41F9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B82A-0DFF-4437-AA70-D35A475F4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5048D-081F-4989-A3B8-A7967014BE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2.jpe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9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image" Target="../media/image3.jpeg"/><Relationship Id="rId18" Type="http://schemas.openxmlformats.org/officeDocument/2006/relationships/audio" Target="../media/andre_rieu_-_Aimer.wav"/><Relationship Id="rId1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2.jpe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19.jpeg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2.jpe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20.jpeg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hyperlink" Target="http://www.leticiathompson.net/" TargetMode="External"/><Relationship Id="rId13" Type="http://schemas.openxmlformats.org/officeDocument/2006/relationships/hyperlink" Target="mailto:bethnorling@globo.com" TargetMode="External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2.jpe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10.jpeg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2.jpe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11.jpe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2.jpe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12.jpe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2.jpe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14.jpe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2.jpe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15.jpe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2.jpe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16.jpe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2.jpe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17.jpe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2.jpe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18.jpe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60280"/>
            <a:ext cx="8642160" cy="6264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404640"/>
            <a:ext cx="8353440" cy="5977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476280"/>
            <a:ext cx="8207280" cy="5832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620640"/>
            <a:ext cx="7921440" cy="55450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250920" y="260280"/>
            <a:ext cx="1276200" cy="1276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7596360" y="260280"/>
            <a:ext cx="1276200" cy="1276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250920" y="5229360"/>
            <a:ext cx="1276200" cy="1276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7596360" y="5229360"/>
            <a:ext cx="1276200" cy="1276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55640" y="765000"/>
            <a:ext cx="7632720" cy="52563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0" y="0"/>
            <a:ext cx="1116000" cy="996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>
            <a:off x="8028000" y="5861160"/>
            <a:ext cx="1116000" cy="996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3"/>
          <a:stretch/>
        </p:blipFill>
        <p:spPr>
          <a:xfrm>
            <a:off x="755640" y="765000"/>
            <a:ext cx="7632720" cy="5256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2567160" y="3110040"/>
            <a:ext cx="400968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blipFill rotWithShape="0">
                  <a:blip r:embed="rId1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Arial Black"/>
              </a:rPr>
              <a:t>A (in) tolerância</a:t>
            </a:r>
            <a:endParaRPr b="0" i="1" lang="en-US" sz="1800" spc="1" strike="noStrike">
              <a:ln w="0">
                <a:noFill/>
              </a:ln>
              <a:blipFill rotWithShape="0">
                <a:blip r:embed="rId1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276720" y="4005360"/>
            <a:ext cx="252396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0">
                  <a:noFill/>
                </a:ln>
                <a:blipFill rotWithShape="0">
                  <a:blip r:embed="rId16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Arial Black"/>
              </a:rPr>
              <a:t>Letícia Thompson</a:t>
            </a:r>
            <a:endParaRPr b="0" i="1" lang="en-US" sz="2000" spc="1" strike="noStrike">
              <a:ln w="0">
                <a:noFill/>
              </a:ln>
              <a:blipFill rotWithShape="0">
                <a:blip r:embed="rId17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0920" y="260280"/>
            <a:ext cx="8642160" cy="6264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95280" y="404640"/>
            <a:ext cx="8353440" cy="5977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68360" y="476280"/>
            <a:ext cx="8207280" cy="5832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11280" y="620640"/>
            <a:ext cx="7921440" cy="55450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6"/>
          <a:stretch/>
        </p:blipFill>
        <p:spPr>
          <a:xfrm>
            <a:off x="250920" y="260280"/>
            <a:ext cx="1276200" cy="12765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7"/>
          <a:stretch/>
        </p:blipFill>
        <p:spPr>
          <a:xfrm>
            <a:off x="7596360" y="260280"/>
            <a:ext cx="1276200" cy="12765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8"/>
          <a:stretch/>
        </p:blipFill>
        <p:spPr>
          <a:xfrm>
            <a:off x="250920" y="5229360"/>
            <a:ext cx="1276200" cy="12762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9"/>
          <a:stretch/>
        </p:blipFill>
        <p:spPr>
          <a:xfrm>
            <a:off x="7596360" y="5229360"/>
            <a:ext cx="1276200" cy="12762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755640" y="765000"/>
            <a:ext cx="7632720" cy="52563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1"/>
          <a:stretch/>
        </p:blipFill>
        <p:spPr>
          <a:xfrm>
            <a:off x="0" y="0"/>
            <a:ext cx="1116000" cy="9968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12"/>
          <a:stretch/>
        </p:blipFill>
        <p:spPr>
          <a:xfrm>
            <a:off x="8028000" y="5861160"/>
            <a:ext cx="1116000" cy="9968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13"/>
          <a:srcRect l="0" t="10094" r="0" b="0"/>
          <a:stretch/>
        </p:blipFill>
        <p:spPr>
          <a:xfrm>
            <a:off x="755640" y="765000"/>
            <a:ext cx="7632720" cy="52563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116000" y="3860640"/>
            <a:ext cx="7219800" cy="161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Verdana"/>
              </a:rPr>
              <a:t>A tolerância é uma incontestável prova de amor e de humildade; é o eu que se inclina para se reerguer mais rico, mais pleno, mais aberto, mais solto e mais liv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Verdana"/>
              </a:rPr>
              <a:t>Mais livre!!! E por isso mesmo mais feliz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6000">
    <p:split dir="out" orient="vert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260280"/>
            <a:ext cx="8642160" cy="6264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404640"/>
            <a:ext cx="8353440" cy="5977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68360" y="476280"/>
            <a:ext cx="8207280" cy="5832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11280" y="620640"/>
            <a:ext cx="7921440" cy="55450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6"/>
          <a:stretch/>
        </p:blipFill>
        <p:spPr>
          <a:xfrm>
            <a:off x="250920" y="260280"/>
            <a:ext cx="1276200" cy="12765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7"/>
          <a:stretch/>
        </p:blipFill>
        <p:spPr>
          <a:xfrm>
            <a:off x="7596360" y="260280"/>
            <a:ext cx="1276200" cy="12765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8"/>
          <a:stretch/>
        </p:blipFill>
        <p:spPr>
          <a:xfrm>
            <a:off x="250920" y="5229360"/>
            <a:ext cx="1276200" cy="12762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9"/>
          <a:stretch/>
        </p:blipFill>
        <p:spPr>
          <a:xfrm>
            <a:off x="7596360" y="5229360"/>
            <a:ext cx="1276200" cy="1276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755640" y="765000"/>
            <a:ext cx="7632720" cy="52563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1"/>
          <a:stretch/>
        </p:blipFill>
        <p:spPr>
          <a:xfrm>
            <a:off x="0" y="0"/>
            <a:ext cx="1116000" cy="9968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12"/>
          <a:stretch/>
        </p:blipFill>
        <p:spPr>
          <a:xfrm>
            <a:off x="8028000" y="5861160"/>
            <a:ext cx="1116000" cy="9968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13"/>
          <a:srcRect l="0" t="10035" r="0" b="0"/>
          <a:stretch/>
        </p:blipFill>
        <p:spPr>
          <a:xfrm>
            <a:off x="755640" y="765000"/>
            <a:ext cx="7632720" cy="52563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042920" y="981000"/>
            <a:ext cx="7129440" cy="192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Ser flexível na vida não é se curv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É simplesmente abrir-se como abrem-se nossas janelas para que o sol entre e ilumine nosso recinto. É um ceder que nos enobrece, pois nos permite degustar da vida nos se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mínimos detalh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8000">
    <p:split dir="out" orient="vert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50920" y="260280"/>
            <a:ext cx="8642160" cy="6264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5280" y="404640"/>
            <a:ext cx="8353440" cy="5977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68360" y="476280"/>
            <a:ext cx="8207280" cy="5832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1280" y="620640"/>
            <a:ext cx="7921440" cy="55450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6"/>
          <a:stretch/>
        </p:blipFill>
        <p:spPr>
          <a:xfrm>
            <a:off x="250920" y="260280"/>
            <a:ext cx="1276200" cy="12765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7"/>
          <a:stretch/>
        </p:blipFill>
        <p:spPr>
          <a:xfrm>
            <a:off x="7596360" y="260280"/>
            <a:ext cx="1276200" cy="12765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8"/>
          <a:stretch/>
        </p:blipFill>
        <p:spPr>
          <a:xfrm>
            <a:off x="250920" y="5229360"/>
            <a:ext cx="1276200" cy="12762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9"/>
          <a:stretch/>
        </p:blipFill>
        <p:spPr>
          <a:xfrm>
            <a:off x="7596360" y="5229360"/>
            <a:ext cx="1276200" cy="12762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755640" y="765000"/>
            <a:ext cx="7632720" cy="5256360"/>
          </a:xfrm>
          <a:prstGeom prst="rect">
            <a:avLst/>
          </a:prstGeom>
          <a:gradFill rotWithShape="0">
            <a:gsLst>
              <a:gs pos="0">
                <a:srgbClr val="8b7239"/>
              </a:gs>
              <a:gs pos="50000">
                <a:srgbClr val="e6ba00"/>
              </a:gs>
              <a:gs pos="100000">
                <a:srgbClr val="8b723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0"/>
          <a:stretch/>
        </p:blipFill>
        <p:spPr>
          <a:xfrm>
            <a:off x="0" y="0"/>
            <a:ext cx="1116000" cy="9968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11"/>
          <a:stretch/>
        </p:blipFill>
        <p:spPr>
          <a:xfrm>
            <a:off x="8028000" y="5861160"/>
            <a:ext cx="1116000" cy="9968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1187280" y="2060640"/>
            <a:ext cx="684072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Verdana"/>
              </a:rPr>
              <a:t>Créd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Verdana"/>
              </a:rPr>
              <a:t>Texto: Letícia Thomp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ff99"/>
                </a:solidFill>
                <a:uFillTx/>
                <a:latin typeface="Verdana"/>
                <a:hlinkClick r:id="rId12"/>
              </a:rPr>
              <a:t>www.leticiathompson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Verdana"/>
              </a:rPr>
              <a:t>Imagens: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Verdana"/>
              </a:rPr>
              <a:t>Música: André Rieu - Ai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Verdana"/>
              </a:rPr>
              <a:t>Formatação: Beth Nor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Verdana"/>
              </a:rPr>
              <a:t>E-mail: </a:t>
            </a:r>
            <a:r>
              <a:rPr b="0" lang="pt-BR" sz="2000" spc="-1" strike="noStrike" u="sng">
                <a:solidFill>
                  <a:srgbClr val="ffff99"/>
                </a:solidFill>
                <a:uFillTx/>
                <a:latin typeface="Verdana"/>
                <a:hlinkClick r:id="rId13"/>
              </a:rPr>
              <a:t>bethnorling@globo.com</a:t>
            </a:r>
            <a:r>
              <a:rPr b="1" lang="pt-BR" sz="2000" spc="-1" strike="noStrike">
                <a:solidFill>
                  <a:srgbClr val="ffff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260280"/>
            <a:ext cx="8642160" cy="6264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404640"/>
            <a:ext cx="8353440" cy="5977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476280"/>
            <a:ext cx="8207280" cy="5832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620640"/>
            <a:ext cx="7921440" cy="55450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250920" y="260280"/>
            <a:ext cx="1276200" cy="1276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7"/>
          <a:stretch/>
        </p:blipFill>
        <p:spPr>
          <a:xfrm>
            <a:off x="7596360" y="260280"/>
            <a:ext cx="1276200" cy="12765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8"/>
          <a:stretch/>
        </p:blipFill>
        <p:spPr>
          <a:xfrm>
            <a:off x="250920" y="5229360"/>
            <a:ext cx="1276200" cy="12762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9"/>
          <a:stretch/>
        </p:blipFill>
        <p:spPr>
          <a:xfrm>
            <a:off x="7596360" y="5229360"/>
            <a:ext cx="1276200" cy="12762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55640" y="765000"/>
            <a:ext cx="7632720" cy="52563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1"/>
          <a:stretch/>
        </p:blipFill>
        <p:spPr>
          <a:xfrm>
            <a:off x="0" y="0"/>
            <a:ext cx="1116000" cy="9968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2"/>
          <a:stretch/>
        </p:blipFill>
        <p:spPr>
          <a:xfrm>
            <a:off x="8028000" y="5861160"/>
            <a:ext cx="1116000" cy="9968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3"/>
          <a:srcRect l="0" t="10094" r="0" b="0"/>
          <a:stretch/>
        </p:blipFill>
        <p:spPr>
          <a:xfrm>
            <a:off x="755640" y="765000"/>
            <a:ext cx="7632720" cy="52563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042920" y="4724280"/>
            <a:ext cx="712944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As flores toleram as abelhas, mesmo se estas lhes tiram o néctar, mesmo se, por vezes, por acidente, uma pétala se machu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split dir="out" orient="ver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260280"/>
            <a:ext cx="8642160" cy="6264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404640"/>
            <a:ext cx="8353440" cy="5977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76280"/>
            <a:ext cx="8207280" cy="5832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1280" y="620640"/>
            <a:ext cx="7921440" cy="55450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>
            <a:off x="250920" y="260280"/>
            <a:ext cx="1276200" cy="12765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7"/>
          <a:stretch/>
        </p:blipFill>
        <p:spPr>
          <a:xfrm>
            <a:off x="7596360" y="260280"/>
            <a:ext cx="1276200" cy="12765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8"/>
          <a:stretch/>
        </p:blipFill>
        <p:spPr>
          <a:xfrm>
            <a:off x="250920" y="5229360"/>
            <a:ext cx="1276200" cy="12762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9"/>
          <a:stretch/>
        </p:blipFill>
        <p:spPr>
          <a:xfrm>
            <a:off x="7596360" y="5229360"/>
            <a:ext cx="1276200" cy="12762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755640" y="765000"/>
            <a:ext cx="7632720" cy="52563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1"/>
          <a:stretch/>
        </p:blipFill>
        <p:spPr>
          <a:xfrm>
            <a:off x="0" y="0"/>
            <a:ext cx="1116000" cy="9968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2"/>
          <a:stretch/>
        </p:blipFill>
        <p:spPr>
          <a:xfrm>
            <a:off x="8028000" y="5861160"/>
            <a:ext cx="1116000" cy="9968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3"/>
          <a:srcRect l="0" t="10094" r="0" b="0"/>
          <a:stretch/>
        </p:blipFill>
        <p:spPr>
          <a:xfrm>
            <a:off x="755640" y="765000"/>
            <a:ext cx="7632720" cy="5256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971640" y="4437000"/>
            <a:ext cx="720072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A natureza tolera os ventos que arrastam folhas e quebram os galhos, tolera as torrentes e correntes que não perguntam o que carregam na sua passag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2000">
    <p:split dir="out" orient="ver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260280"/>
            <a:ext cx="8642160" cy="6264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404640"/>
            <a:ext cx="8353440" cy="5977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8360" y="476280"/>
            <a:ext cx="8207280" cy="5832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11280" y="620640"/>
            <a:ext cx="7921440" cy="55450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250920" y="260280"/>
            <a:ext cx="1276200" cy="12765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7"/>
          <a:stretch/>
        </p:blipFill>
        <p:spPr>
          <a:xfrm>
            <a:off x="7596360" y="260280"/>
            <a:ext cx="1276200" cy="12765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8"/>
          <a:stretch/>
        </p:blipFill>
        <p:spPr>
          <a:xfrm>
            <a:off x="250920" y="5229360"/>
            <a:ext cx="1276200" cy="1276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9"/>
          <a:stretch/>
        </p:blipFill>
        <p:spPr>
          <a:xfrm>
            <a:off x="7596360" y="5229360"/>
            <a:ext cx="1276200" cy="12762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55640" y="765000"/>
            <a:ext cx="7632720" cy="52563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1"/>
          <a:stretch/>
        </p:blipFill>
        <p:spPr>
          <a:xfrm>
            <a:off x="0" y="0"/>
            <a:ext cx="1116000" cy="9968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2"/>
          <a:stretch/>
        </p:blipFill>
        <p:spPr>
          <a:xfrm>
            <a:off x="8028000" y="5861160"/>
            <a:ext cx="1116000" cy="9968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3"/>
          <a:stretch/>
        </p:blipFill>
        <p:spPr>
          <a:xfrm>
            <a:off x="755640" y="765000"/>
            <a:ext cx="7632720" cy="5256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4"/>
          <a:stretch/>
        </p:blipFill>
        <p:spPr>
          <a:xfrm>
            <a:off x="6443640" y="1052640"/>
            <a:ext cx="1344600" cy="10062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971640" y="4941720"/>
            <a:ext cx="707688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A própria lua tolera as mudanças e acolhe serenamente cada fase com dignida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">
    <p:split dir="out" orient="ver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260280"/>
            <a:ext cx="8642160" cy="6264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404640"/>
            <a:ext cx="8353440" cy="5977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476280"/>
            <a:ext cx="8207280" cy="5832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620640"/>
            <a:ext cx="7921440" cy="55450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250920" y="260280"/>
            <a:ext cx="1276200" cy="12765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7"/>
          <a:stretch/>
        </p:blipFill>
        <p:spPr>
          <a:xfrm>
            <a:off x="7596360" y="260280"/>
            <a:ext cx="1276200" cy="12765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8"/>
          <a:stretch/>
        </p:blipFill>
        <p:spPr>
          <a:xfrm>
            <a:off x="250920" y="5229360"/>
            <a:ext cx="1276200" cy="12762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9"/>
          <a:stretch/>
        </p:blipFill>
        <p:spPr>
          <a:xfrm>
            <a:off x="7596360" y="5229360"/>
            <a:ext cx="1276200" cy="12762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55640" y="765000"/>
            <a:ext cx="7632720" cy="52563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1"/>
          <a:stretch/>
        </p:blipFill>
        <p:spPr>
          <a:xfrm>
            <a:off x="0" y="0"/>
            <a:ext cx="1116000" cy="9968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12"/>
          <a:stretch/>
        </p:blipFill>
        <p:spPr>
          <a:xfrm>
            <a:off x="8028000" y="5861160"/>
            <a:ext cx="1116000" cy="9968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13"/>
          <a:stretch/>
        </p:blipFill>
        <p:spPr>
          <a:xfrm>
            <a:off x="755640" y="765000"/>
            <a:ext cx="7632720" cy="52563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900000" y="4292640"/>
            <a:ext cx="727236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Só nós, humanos e racionais, somos assim intolerantes com a vida, com o próximo, com o que nos acontece, com o que deixa de nos acontecer, com as diferenças e os diferentes que mal suportam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4000">
    <p:split dir="out" orient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260280"/>
            <a:ext cx="8642160" cy="6264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5280" y="404640"/>
            <a:ext cx="8353440" cy="5977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8360" y="476280"/>
            <a:ext cx="8207280" cy="5832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1280" y="620640"/>
            <a:ext cx="7921440" cy="55450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250920" y="260280"/>
            <a:ext cx="1276200" cy="12765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7"/>
          <a:stretch/>
        </p:blipFill>
        <p:spPr>
          <a:xfrm>
            <a:off x="7596360" y="260280"/>
            <a:ext cx="1276200" cy="12765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8"/>
          <a:stretch/>
        </p:blipFill>
        <p:spPr>
          <a:xfrm>
            <a:off x="250920" y="5229360"/>
            <a:ext cx="1276200" cy="1276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9"/>
          <a:stretch/>
        </p:blipFill>
        <p:spPr>
          <a:xfrm>
            <a:off x="7596360" y="5229360"/>
            <a:ext cx="1276200" cy="12762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55640" y="765000"/>
            <a:ext cx="7632720" cy="52563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1"/>
          <a:stretch/>
        </p:blipFill>
        <p:spPr>
          <a:xfrm>
            <a:off x="0" y="0"/>
            <a:ext cx="1116000" cy="9968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2"/>
          <a:stretch/>
        </p:blipFill>
        <p:spPr>
          <a:xfrm>
            <a:off x="8028000" y="5861160"/>
            <a:ext cx="1116000" cy="9968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3"/>
          <a:stretch/>
        </p:blipFill>
        <p:spPr>
          <a:xfrm>
            <a:off x="755640" y="765000"/>
            <a:ext cx="7632720" cy="5256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826920" y="4581360"/>
            <a:ext cx="734544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Damos de nós e queremos ficar inteiros; recebemos e queremos continuar os mesmos, abastados do nosso eu, sem as máculas dos pecados que nos deixariam iguais a todo mund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4000">
    <p:split dir="out" orient="vert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0920" y="260280"/>
            <a:ext cx="8642160" cy="6264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404640"/>
            <a:ext cx="8353440" cy="5977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476280"/>
            <a:ext cx="8207280" cy="5832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1280" y="620640"/>
            <a:ext cx="7921440" cy="55450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6"/>
          <a:stretch/>
        </p:blipFill>
        <p:spPr>
          <a:xfrm>
            <a:off x="250920" y="260280"/>
            <a:ext cx="1276200" cy="12765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7"/>
          <a:stretch/>
        </p:blipFill>
        <p:spPr>
          <a:xfrm>
            <a:off x="7596360" y="260280"/>
            <a:ext cx="1276200" cy="12765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8"/>
          <a:stretch/>
        </p:blipFill>
        <p:spPr>
          <a:xfrm>
            <a:off x="250920" y="5229360"/>
            <a:ext cx="1276200" cy="12762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9"/>
          <a:stretch/>
        </p:blipFill>
        <p:spPr>
          <a:xfrm>
            <a:off x="7596360" y="5229360"/>
            <a:ext cx="1276200" cy="12762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755640" y="765000"/>
            <a:ext cx="7632720" cy="52563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1"/>
          <a:stretch/>
        </p:blipFill>
        <p:spPr>
          <a:xfrm>
            <a:off x="0" y="0"/>
            <a:ext cx="1116000" cy="9968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12"/>
          <a:stretch/>
        </p:blipFill>
        <p:spPr>
          <a:xfrm>
            <a:off x="8028000" y="5861160"/>
            <a:ext cx="1116000" cy="9968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13"/>
          <a:srcRect l="0" t="9528" r="0" b="0"/>
          <a:stretch/>
        </p:blipFill>
        <p:spPr>
          <a:xfrm>
            <a:off x="755640" y="765000"/>
            <a:ext cx="7632720" cy="52563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900000" y="4292640"/>
            <a:ext cx="7417080" cy="161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Queremos amar o que nos é próximo, pois que nos disseram </a:t>
            </a:r>
            <a:r>
              <a:rPr b="1" i="1" lang="en-US" sz="2000" spc="-1" strike="noStrike">
                <a:solidFill>
                  <a:srgbClr val="ffff99"/>
                </a:solidFill>
                <a:latin typeface="Verdana"/>
              </a:rPr>
              <a:t>“ama a teu próximo”</a:t>
            </a: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 sendo que esse outro deve ser uma correspondênc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daquilo que som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O que é diferente nos decepciona e nos faz sofr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6000">
    <p:split dir="out" orient="vert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0920" y="260280"/>
            <a:ext cx="8642160" cy="6264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404640"/>
            <a:ext cx="8353440" cy="5977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476280"/>
            <a:ext cx="8207280" cy="5832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1280" y="620640"/>
            <a:ext cx="7921440" cy="55450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6"/>
          <a:stretch/>
        </p:blipFill>
        <p:spPr>
          <a:xfrm>
            <a:off x="250920" y="260280"/>
            <a:ext cx="1276200" cy="12765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7"/>
          <a:stretch/>
        </p:blipFill>
        <p:spPr>
          <a:xfrm>
            <a:off x="7596360" y="260280"/>
            <a:ext cx="1276200" cy="12765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8"/>
          <a:stretch/>
        </p:blipFill>
        <p:spPr>
          <a:xfrm>
            <a:off x="250920" y="5229360"/>
            <a:ext cx="1276200" cy="12762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9"/>
          <a:stretch/>
        </p:blipFill>
        <p:spPr>
          <a:xfrm>
            <a:off x="7596360" y="5229360"/>
            <a:ext cx="1276200" cy="12762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755640" y="765000"/>
            <a:ext cx="7632720" cy="52563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1"/>
          <a:stretch/>
        </p:blipFill>
        <p:spPr>
          <a:xfrm>
            <a:off x="0" y="0"/>
            <a:ext cx="1116000" cy="9968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2"/>
          <a:stretch/>
        </p:blipFill>
        <p:spPr>
          <a:xfrm>
            <a:off x="8028000" y="5861160"/>
            <a:ext cx="1116000" cy="9968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13"/>
          <a:srcRect l="0" t="10094" r="0" b="0"/>
          <a:stretch/>
        </p:blipFill>
        <p:spPr>
          <a:xfrm>
            <a:off x="755640" y="765000"/>
            <a:ext cx="7632720" cy="52563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900000" y="4508640"/>
            <a:ext cx="741384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Por isso cobramos tanto dos outros e permitimos que essa negra nuvem encha nossa alma de tristeza ao depararmos com ações e reações diferentes das que esperam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2000">
    <p:split dir="out" orient="vert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0920" y="260280"/>
            <a:ext cx="8642160" cy="6264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5280" y="404640"/>
            <a:ext cx="8353440" cy="5977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476280"/>
            <a:ext cx="8207280" cy="5832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1280" y="620640"/>
            <a:ext cx="7921440" cy="55450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6"/>
          <a:stretch/>
        </p:blipFill>
        <p:spPr>
          <a:xfrm>
            <a:off x="250920" y="260280"/>
            <a:ext cx="1276200" cy="12765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7"/>
          <a:stretch/>
        </p:blipFill>
        <p:spPr>
          <a:xfrm>
            <a:off x="7596360" y="260280"/>
            <a:ext cx="1276200" cy="12765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8"/>
          <a:stretch/>
        </p:blipFill>
        <p:spPr>
          <a:xfrm>
            <a:off x="250920" y="5229360"/>
            <a:ext cx="1276200" cy="12762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9"/>
          <a:stretch/>
        </p:blipFill>
        <p:spPr>
          <a:xfrm>
            <a:off x="7596360" y="5229360"/>
            <a:ext cx="1276200" cy="12762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755640" y="765000"/>
            <a:ext cx="7632720" cy="52563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1"/>
          <a:stretch/>
        </p:blipFill>
        <p:spPr>
          <a:xfrm>
            <a:off x="0" y="0"/>
            <a:ext cx="1116000" cy="9968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2"/>
          <a:stretch/>
        </p:blipFill>
        <p:spPr>
          <a:xfrm>
            <a:off x="8028000" y="5861160"/>
            <a:ext cx="1116000" cy="9968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13"/>
          <a:stretch/>
        </p:blipFill>
        <p:spPr>
          <a:xfrm>
            <a:off x="755640" y="765000"/>
            <a:ext cx="7632720" cy="52563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900000" y="4581360"/>
            <a:ext cx="722016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Mas não é amar tolerar que o outro seja outro e aceitar com resignação e alegria até que, mesmo nos possíveis deslizes, esse encha nossa vida de novos ares e novas flores?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4000">
    <p:split dir="out" orient="vert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1T20:19:38Z</dcterms:created>
  <dc:creator>Beth Norling</dc:creator>
  <dc:description/>
  <dc:language>en-US</dc:language>
  <cp:lastModifiedBy>Beth Norling</cp:lastModifiedBy>
  <dcterms:modified xsi:type="dcterms:W3CDTF">2007-08-31T22:06:13Z</dcterms:modified>
  <cp:revision>5</cp:revision>
  <dc:subject/>
  <dc:title>A_(in)_tolerancia</dc:title>
</cp:coreProperties>
</file>