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Enya%20-%20Piano%20Instrumental.cut8bits.wav" ContentType="audio/x-wav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4A19-5BF0-4E31-9A29-C788073A7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172E-1DA5-4F9A-B249-5B2DD8B9C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C50E-B3E8-46C4-B6DD-EEAD4582E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BA30-450B-4A2B-BDDB-A616B386D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ED6E-85AC-4723-85CF-BF9393232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43B7-CD4E-458E-827A-E4582DB74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3B20-2453-4DF6-B956-8B169165B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DCA4-B849-4174-9C06-7521806F4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5AAA-8608-4B8B-958F-0401D0263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DAE6-9AD4-4207-8E08-9986EE289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2D02-FC7B-442D-9DA5-1E4F25C4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EAFD-4D65-47B0-83FC-D4DB7B2B9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A68AE-9B56-45F1-8A73-149256DF620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Enya%20-%20Piano%20Instrumental.cut8bit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leticiathompson.com/minhas_mensagens_em_pps.htm" TargetMode="External"/><Relationship Id="rId2" Type="http://schemas.openxmlformats.org/officeDocument/2006/relationships/hyperlink" Target="http://www.leticiathompson.net/minhas_mensagens_em_pps.htm" TargetMode="External"/><Relationship Id="rId3" Type="http://schemas.openxmlformats.org/officeDocument/2006/relationships/hyperlink" Target="http://www.leticiathompson.net/minhas_mensagens_em_pps.htm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838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990720" y="685800"/>
            <a:ext cx="693396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0">
                  <a:noFill/>
                </a:ln>
                <a:solidFill>
                  <a:srgbClr val="ffff63">
                    <a:alpha val="50000"/>
                  </a:srgbClr>
                </a:solidFill>
                <a:effectLst>
                  <a:outerShdw dist="17819" dir="2700000" blurRad="0" rotWithShape="0">
                    <a:srgbClr val="98983b"/>
                  </a:outerShdw>
                </a:effectLst>
                <a:latin typeface="Monotype Corsiva"/>
              </a:rPr>
              <a:t>A inteireza</a:t>
            </a:r>
            <a:endParaRPr b="1" i="1" lang="en-US" sz="8000" spc="1" strike="noStrike">
              <a:ln w="0">
                <a:noFill/>
              </a:ln>
              <a:solidFill>
                <a:srgbClr val="ffff63">
                  <a:alpha val="50000"/>
                </a:srgbClr>
              </a:solidFill>
              <a:effectLst>
                <a:outerShdw dist="17819" dir="2700000" blurRad="0" rotWithShape="0">
                  <a:srgbClr val="98983b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0">
                  <a:noFill/>
                </a:ln>
                <a:solidFill>
                  <a:srgbClr val="ffff63">
                    <a:alpha val="50000"/>
                  </a:srgbClr>
                </a:solidFill>
                <a:effectLst>
                  <a:outerShdw dist="17819" dir="2700000" blurRad="0" rotWithShape="0">
                    <a:srgbClr val="98983b"/>
                  </a:outerShdw>
                </a:effectLst>
                <a:latin typeface="Monotype Corsiva"/>
              </a:rPr>
              <a:t>da</a:t>
            </a:r>
            <a:endParaRPr b="1" i="1" lang="en-US" sz="8000" spc="1" strike="noStrike">
              <a:ln w="0">
                <a:noFill/>
              </a:ln>
              <a:solidFill>
                <a:srgbClr val="ffff63">
                  <a:alpha val="50000"/>
                </a:srgbClr>
              </a:solidFill>
              <a:effectLst>
                <a:outerShdw dist="17819" dir="2700000" blurRad="0" rotWithShape="0">
                  <a:srgbClr val="98983b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0">
                  <a:noFill/>
                </a:ln>
                <a:solidFill>
                  <a:srgbClr val="ffff63">
                    <a:alpha val="50000"/>
                  </a:srgbClr>
                </a:solidFill>
                <a:effectLst>
                  <a:outerShdw dist="17819" dir="2700000" blurRad="0" rotWithShape="0">
                    <a:srgbClr val="98983b"/>
                  </a:outerShdw>
                </a:effectLst>
                <a:latin typeface="Monotype Corsiva"/>
              </a:rPr>
              <a:t>vida</a:t>
            </a:r>
            <a:endParaRPr b="1" i="1" lang="en-US" sz="8000" spc="1" strike="noStrike">
              <a:ln w="0">
                <a:noFill/>
              </a:ln>
              <a:solidFill>
                <a:srgbClr val="ffff63">
                  <a:alpha val="50000"/>
                </a:srgbClr>
              </a:solidFill>
              <a:effectLst>
                <a:outerShdw dist="17819" dir="2700000" blurRad="0" rotWithShape="0">
                  <a:srgbClr val="98983b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819520" y="4952880"/>
            <a:ext cx="33717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ffff63">
                    <a:alpha val="50000"/>
                  </a:srgbClr>
                </a:solidFill>
                <a:effectLst>
                  <a:outerShdw dist="153753" dir="2700000" blurRad="0" rotWithShape="0">
                    <a:srgbClr val="98983b"/>
                  </a:outerShdw>
                </a:effectLst>
                <a:latin typeface="Monotype Corsiva"/>
              </a:rPr>
              <a:t>Letícia Thompson</a:t>
            </a:r>
            <a:endParaRPr b="1" i="1" lang="en-US" sz="4000" spc="1" strike="noStrike">
              <a:ln w="0">
                <a:noFill/>
              </a:ln>
              <a:solidFill>
                <a:srgbClr val="ffff63">
                  <a:alpha val="50000"/>
                </a:srgbClr>
              </a:solidFill>
              <a:effectLst>
                <a:outerShdw dist="153753" dir="2700000" blurRad="0" rotWithShape="0">
                  <a:srgbClr val="98983b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8000">
    <p:randomBar dir="vert"/>
    <p:sndAc>
      <p:stSnd>
        <p:snd r:embed="rId2" name="Enya%20-%20Piano%20Instrumental.cut8bit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27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350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500"/>
                            </p:stCondLst>
                            <p:childTnLst>
                              <p:par>
                                <p:cTn id="15" nodeType="afterEffect" fill="hold" presetClass="entr" presetID="7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a7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838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685800"/>
            <a:ext cx="739152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a7a789"/>
                </a:solidFill>
                <a:latin typeface="Monotype Corsiva"/>
                <a:ea typeface="Arial"/>
              </a:rPr>
              <a:t>Ninguém vive pela metade. O espaço de vida de cada um é o que cada qual tem de inteiro. Se dura vinte ou cinqüenta  anos, não faz diferença. O que conta é que uma vida é uma vida. Não existe meio amor, meia felicidade, meia saudade. Todo sentimento por si só é inteiro. Ou a gente é feliz ou não é; ou ama, ou não ama; ou quer, ou não quer. Quando amamos, dúvida não existe; se queremos realmente, dúvida não existe; se somos felizes... cadê o espaço pra infelicidade, se a felicidade toma conta de tudo?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484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5000">
    <p:randomBar dir="horz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3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8400"/>
                            </p:stCondLst>
                            <p:childTnLst>
                              <p:par>
                                <p:cTn id="2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0af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5116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609480"/>
            <a:ext cx="777240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b0af95"/>
                </a:solidFill>
                <a:latin typeface="Monotype Corsiva"/>
                <a:ea typeface="Arial"/>
              </a:rPr>
              <a:t>Então, se você se sente nesse meio caminho, talvez seja o momento de parar e refletir um pouco na sua existência. A vida é inteira, mas não temos a vida inteira para decidirmos vivê-la intensamente. Temos o agora. Há quem diga que pelo fato de ser jovem ainda tem tempo. Mas quem, além de Deus, sabe dizer a medida da vida de cada um? Perdemos preciosos minutos no nosso hoje com a idéia que amanhã as coisas acontecerão e que podemos espera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5a59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2000">
    <p:randomBar dir="ver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3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0900"/>
                            </p:stCondLst>
                            <p:childTnLst>
                              <p:par>
                                <p:cTn id="3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cab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5139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762120"/>
            <a:ext cx="739152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acab90"/>
                </a:solidFill>
                <a:latin typeface="Monotype Corsiva"/>
                <a:ea typeface="Arial"/>
              </a:rPr>
              <a:t>Quando começamos a medir e pesar nossos sentimentos, não vamos a lugar nenhum. Haverá sempre uma luta cerrada entre o coração que quer viver e a razão que mede conseqüências. Medindo dificuldades, não fazemos nada. Se devemos medir alguma coisa, devem ser então as possibilidades. Aí sim estamos no caminho certo. Para os pessimistas uma pedra é um estorvo, para os otimistas é um pedacinho do alicerce da própria vida. O segredo está no olhar com que cada um vê as situaçõ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5554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2000">
    <p:randomBar dir="horz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3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0900"/>
                            </p:stCondLst>
                            <p:childTnLst>
                              <p:par>
                                <p:cTn id="5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4b3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861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14400" y="762120"/>
            <a:ext cx="739152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4b39a"/>
                </a:solidFill>
                <a:latin typeface="Monotype Corsiva"/>
                <a:ea typeface="Arial"/>
              </a:rPr>
              <a:t>Só enfrentando os medos e o desconhecido é que conseguiremos viver de forma inteira essa vida que se oferece a nós em pedaços. Ninguém disse que não há riscos. Mas não é melhor arriscar do que viver o restante dos nossos dias na infelicidade de se perguntar o que teria sido se tivéssemos tentado? Quando fizer alguma coisa, faça com inteireza de coração. Ame totalmente, ria totalmente, faça de tudo um tod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4f4e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0">
    <p:randomBar dir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3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7000"/>
                            </p:stCondLst>
                            <p:childTnLst>
                              <p:par>
                                <p:cTn id="63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b6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838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380880"/>
            <a:ext cx="800100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b7b69f"/>
                </a:solidFill>
                <a:latin typeface="Monotype Corsiva"/>
                <a:ea typeface="Arial"/>
              </a:rPr>
              <a:t>A vida é bela demais para ser deixada em suspenso. O amor é bom demais para que possamos vivê-lo em pequenas partes, sem que o tornemos real e possível. Tente viver com a metade do seu coração e veja se consegue... difícil ser feliz sem ser completo. Impossível ser completo parado num caminho de indecisões. O coração talvez não seja o melhor conselheiro. Mas é o que nos mantém vivos e que está sempre junto, sempre ligado a nós. Deixe, pelo menos uma vez, que ele fale mais alto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5958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4000">
    <p:randomBar dir="horz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3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3300"/>
                            </p:stCondLst>
                            <p:childTnLst>
                              <p:par>
                                <p:cTn id="7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ab959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5394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609480"/>
            <a:ext cx="4038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ab9591"/>
                </a:solidFill>
                <a:latin typeface="Times New Roman"/>
              </a:rPr>
              <a:t>Mús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ab9591"/>
                </a:solidFill>
                <a:latin typeface="Times New Roman"/>
              </a:rPr>
              <a:t>Enya – Piano Instrum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76720" y="190512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b9591"/>
                </a:solidFill>
                <a:latin typeface="Times New Roman"/>
              </a:rPr>
              <a:t>Elaborado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b9591"/>
                </a:solidFill>
                <a:latin typeface="Signature"/>
              </a:rPr>
              <a:t>Sérgio S. O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3048120"/>
            <a:ext cx="739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ab9591"/>
                </a:solidFill>
                <a:latin typeface="Times New Roman"/>
              </a:rPr>
              <a:t>ssoliver@terra.com.b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" action="ppaction://hlinkshowjump?jump=firstslide"/>
          </p:cNvPr>
          <p:cNvSpPr/>
          <p:nvPr/>
        </p:nvSpPr>
        <p:spPr>
          <a:xfrm>
            <a:off x="914400" y="4724280"/>
            <a:ext cx="1828800" cy="68580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ab9591"/>
                </a:solidFill>
                <a:uFillTx/>
                <a:latin typeface="Times New Roman"/>
              </a:rPr>
              <a:t>Reinici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1"/>
          </p:cNvPr>
          <p:cNvSpPr/>
          <p:nvPr/>
        </p:nvSpPr>
        <p:spPr>
          <a:xfrm>
            <a:off x="3505320" y="4572000"/>
            <a:ext cx="1981080" cy="99072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Ver Out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Mensa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" action="ppaction://hlinkshowjump?jump=endshow"/>
          </p:cNvPr>
          <p:cNvSpPr/>
          <p:nvPr/>
        </p:nvSpPr>
        <p:spPr>
          <a:xfrm>
            <a:off x="6324480" y="4724280"/>
            <a:ext cx="1828800" cy="68580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ab9591"/>
                </a:solidFill>
                <a:uFillTx/>
                <a:latin typeface="Times New Roman"/>
              </a:rPr>
              <a:t>Sai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573b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0"/>
                            </p:stCondLst>
                            <p:childTnLst>
                              <p:par>
                                <p:cTn id="8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0"/>
                            </p:stCondLst>
                            <p:childTnLst>
                              <p:par>
                                <p:cTn id="9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3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300"/>
                            </p:stCondLst>
                            <p:childTnLst>
                              <p:par>
                                <p:cTn id="1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800"/>
                            </p:stCondLst>
                            <p:childTnLst>
                              <p:par>
                                <p:cTn id="10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1300"/>
                            </p:stCondLst>
                            <p:childTnLst>
                              <p:par>
                                <p:cTn id="1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1800"/>
                            </p:stCondLst>
                            <p:childTnLst>
                              <p:par>
                                <p:cTn id="112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06:21:24Z</dcterms:created>
  <dc:creator>ssoliver@terra.com.br </dc:creator>
  <dc:description/>
  <dc:language>en-US</dc:language>
  <cp:lastModifiedBy>Leticia Thompson</cp:lastModifiedBy>
  <dcterms:modified xsi:type="dcterms:W3CDTF">2004-10-27T18:20:37Z</dcterms:modified>
  <cp:revision>9</cp:revision>
  <dc:subject>PPS</dc:subject>
  <dc:title>A inteireza da vida</dc:title>
</cp:coreProperties>
</file>