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nya%20-%20Piano%20Instrumental.cut8bit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58F-5A32-4A62-9EC0-749685FB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61A-4C4A-4203-85F2-9436C11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1CD-F67F-4C47-8498-34682E9D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80C-3215-40E1-9094-61C9A0C7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115-C9BB-4639-9142-7DDB5BF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784-2CBA-4A3D-B5CB-1FFDDDF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B96-3AE5-4A0C-B313-F88CE2B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F62-8A74-40FD-91BE-AB6AAFF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775-0C3C-4EED-AA78-6A7099D4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0A4-0E74-401E-855D-176D1F6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970-8524-4F10-998C-0B43BC6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A73-1031-461D-81EF-D897EB0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3AB1-1681-48DB-B96F-A7FE2C1B82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ya%20-%20Piano%20Instrumental.cut8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85800"/>
            <a:ext cx="69339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A inteirez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vi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19520" y="4952880"/>
            <a:ext cx="3371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53753" dir="2700000" blurRad="0" rotWithShape="0">
                    <a:srgbClr val="98983b"/>
                  </a:outerShdw>
                </a:effectLst>
                <a:latin typeface="Monotype Corsiv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53753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Enya%20-%20Piano%20Instrumental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8580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7a789"/>
                </a:solidFill>
                <a:latin typeface="Monotype Corsiva"/>
                <a:ea typeface="Arial"/>
              </a:rPr>
              <a:t>Ninguém vive pela metade. O espaço de vida de cada um é o que cada qual tem de inteiro. Se dura vinte ou cinqüenta  anos, não faz diferença. O que conta é que uma vida é uma vida. Não existe meio amor, meia felicidade, meia saudade. Todo sentimento por si só é inteiro. Ou a gente é feliz ou não é; ou ama, ou não ama; ou quer, ou não quer. Quando amamos, dúvida não existe; se queremos realmente, dúvida não existe; se somos felizes... cadê o espaço pra infelicidade, se a felicidade toma conta de tudo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84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84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af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772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0af95"/>
                </a:solidFill>
                <a:latin typeface="Monotype Corsiva"/>
                <a:ea typeface="Arial"/>
              </a:rPr>
              <a:t>Então, se você se sente nesse meio caminho, talvez seja o momento de parar e refletir um pouco na sua existência. A vida é inteira, mas não temos a vida inteira para decidirmos vivê-la intensamente. Temos o agora. Há quem diga que pelo fato de ser jovem ainda tem tempo. Mas quem, além de Deus, sabe dizer a medida da vida de cada um? Perdemos preciosos minutos no nosso hoje com a idéia que amanhã as coisas acontecerão e que podemos esper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a59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9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b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76212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cab90"/>
                </a:solidFill>
                <a:latin typeface="Monotype Corsiva"/>
                <a:ea typeface="Arial"/>
              </a:rPr>
              <a:t>Quando começamos a medir e pesar nossos sentimentos, não vamos a lugar nenhum. Haverá sempre uma luta cerrada entre o coração que quer viver e a razão que mede conseqüências. Medindo dificuldades, não fazemos nada. Se devemos medir alguma coisa, devem ser então as possibilidades. Aí sim estamos no caminho certo. Para os pessimistas uma pedra é um estorvo, para os otimistas é um pedacinho do alicerce da própria vida. O segredo está no olhar com que cada um vê as situ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5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9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b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62120"/>
            <a:ext cx="7391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4b39a"/>
                </a:solidFill>
                <a:latin typeface="Monotype Corsiva"/>
                <a:ea typeface="Arial"/>
              </a:rPr>
              <a:t>Só enfrentando os medos e o desconhecido é que conseguiremos viver de forma inteira essa vida que se oferece a nós em pedaços. Ninguém disse que não há riscos. Mas não é melhor arriscar do que viver o restante dos nossos dias na infelicidade de se perguntar o que teria sido se tivéssemos tentado? Quando fizer alguma coisa, faça com inteireza de coração. Ame totalmente, ria totalmente, faça de tudo um to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f4e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6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80880"/>
            <a:ext cx="8001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7b69f"/>
                </a:solidFill>
                <a:latin typeface="Monotype Corsiva"/>
                <a:ea typeface="Arial"/>
              </a:rPr>
              <a:t>A vida é bela demais para ser deixada em suspenso. O amor é bom demais para que possamos vivê-lo em pequenas partes, sem que o tornemos real e possível. Tente viver com a metade do seu coração e veja se consegue... difícil ser feliz sem ser completo. Impossível ser completo parado num caminho de indecisões. O coração talvez não seja o melhor conselheiro. Mas é o que nos mantém vivos e que está sempre junto, sempre ligado a nós. Deixe, pelo menos uma vez, que ele fale mais al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958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33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b95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094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Enya – Piano 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051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0481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b9591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91440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b9591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3505320" y="4572000"/>
            <a:ext cx="19810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632448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b9591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73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21:24Z</dcterms:created>
  <dc:creator>ssoliver@terra.com.br </dc:creator>
  <dc:description/>
  <dc:language>en-US</dc:language>
  <cp:lastModifiedBy>Leticia Thompson</cp:lastModifiedBy>
  <dcterms:modified xsi:type="dcterms:W3CDTF">2004-10-27T18:20:37Z</dcterms:modified>
  <cp:revision>9</cp:revision>
  <dc:subject>PPS</dc:subject>
  <dc:title>A inteireza da vida</dc:title>
</cp:coreProperties>
</file>