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Sister%20-%20I%20will%20follow%20him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65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28000" y="652464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lacio.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-396720" y="2205000"/>
            <a:ext cx="9753480" cy="22096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8459640" y="2133720"/>
            <a:ext cx="9753840" cy="22096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 rot="5400000">
            <a:off x="-207720" y="3313080"/>
            <a:ext cx="9753480" cy="22096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6"/>
          <a:stretch/>
        </p:blipFill>
        <p:spPr>
          <a:xfrm rot="5400000">
            <a:off x="223200" y="9937440"/>
            <a:ext cx="9753840" cy="221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audio" Target="../media/Sister%20-%20I%20will%20follow%20him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08360" y="2421000"/>
            <a:ext cx="52578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LACIO. J  SL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PRESEN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81080" y="6050520"/>
            <a:ext cx="88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7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olagem automática dos slid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40720" y="32846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924360" y="2637000"/>
            <a:ext cx="199800" cy="199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l"/>
    <p:sndAc>
      <p:stSnd>
        <p:snd r:embed="rId4" name="Sister%20-%20I%20will%20follow%20him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788000" y="1121400"/>
            <a:ext cx="396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 quem nos tenha ofend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orque que nossos irmãos em Ti o 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e Ti provêm e faz todo o sent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ue os recebamos com o nosso perd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716360" y="688320"/>
            <a:ext cx="396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 não nos deixeis cair em t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ois vastas são as humanas fraqu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 muitas são as vezes que a raz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ão chega p’ra quebrar as tibiez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716360" y="760680"/>
            <a:ext cx="396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as livrai-nos do mal, am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orque essas forças sempre estão al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 anjos de asas negras do al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ão ameaças sérias e despertas!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83040" y="549360"/>
            <a:ext cx="48304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exto de: Eugênio de S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magem: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úsica: I Will Follow Him Chario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térprete: Deloris and S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presentação: Colacio.j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tato: colacio.j@ig.com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8/10/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27480" y="46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65992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ntrar no grupo: colacioslides-subscribe@yahoogrupos.com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973760" y="3141720"/>
            <a:ext cx="34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Pater nostrum”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55200" y="587052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x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ugênio de S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3272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427640" y="3357720"/>
            <a:ext cx="199800" cy="199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00720" y="616680"/>
            <a:ext cx="432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antificado seja o Vosso 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or todos nós, até ao fim dos tem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az com que mude o que mais nos conso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as Vossas leis; o nosso esquecimen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0" y="977040"/>
            <a:ext cx="424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Venha a nós o Vosso re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ue em nós Vosso amor encontre p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 que abrigar-Vos seja o nosso tre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ara uma vida eterna, em paz, convosc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00720" y="1086480"/>
            <a:ext cx="43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eja feita a Vossa vont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ois que, Senhor,       Vós sois o nosso r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 embora Dês exemplo d’ humil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Vossa vontade em nós   é nossa l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27640" y="1159560"/>
            <a:ext cx="44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ssim na terra como               no Cé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orque Sois onipresente, querido P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 tens ciente cada filho T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ois tudo vês e podes; Adona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88000" y="727560"/>
            <a:ext cx="396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 pão de cada dia nos Dai h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  através da nobreza do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 Vosso corpo e sangue em nós se al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 seja para nós o Vosso atal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59280" y="130428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erdoai as nossas ofen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ois tantas são as vezes que pec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as Vossas leis servimos a dispe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ois sem justa vontade as olvidamo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788000" y="938880"/>
            <a:ext cx="396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ssim como nós perdo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s alheias ofensas que nos mov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 que sabendo injustas aceit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esmo se essas injúrias nos consom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12:44:37Z</dcterms:created>
  <dc:creator>Colacio.j Slides</dc:creator>
  <dc:description>Texto de: Eugénio de Sá
Imagem: Internet
Música: I Will Follow Him Chariot 
 Intérprete: Deloris and Sisters
Apresentação: Colacio.j 
Contato: colacio.j@ig.com.br
18/10/2010
</dc:description>
  <dc:language>en-US</dc:language>
  <cp:lastModifiedBy>terminal</cp:lastModifiedBy>
  <dcterms:modified xsi:type="dcterms:W3CDTF">2010-10-18T15:08:20Z</dcterms:modified>
  <cp:revision>21</cp:revision>
  <dc:subject>Apresentação slides</dc:subject>
  <dc:title>Pater Nostrum - Eugenio de Sá</dc:title>
</cp:coreProperties>
</file>