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LIB419~11.WAV" ContentType="audio/x-wav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33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01080" y="638172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pt-BR" sz="800" spc="-1" strike="noStrike">
                <a:solidFill>
                  <a:srgbClr val="66ff33"/>
                </a:solidFill>
                <a:latin typeface="Arial"/>
              </a:rPr>
              <a:t>Colacio.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audio" Target="../media/LIB419~11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IB419~11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272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OLACIO. J 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APRES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8759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Aguarde a rolagem automática dos slid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51640" y="206064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33360"/>
            <a:ext cx="835344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49360"/>
            <a:ext cx="7921440" cy="575928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d"/>
    <p:sndAc>
      <p:stSnd>
        <p:snd r:embed="rId4" name="LIB419~1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2852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Verdana"/>
              </a:rPr>
              <a:t>Oração do Amor</a:t>
            </a:r>
            <a:r>
              <a:rPr b="0" lang="en-US" sz="36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2852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308720" y="2924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49360"/>
            <a:ext cx="7848360" cy="575928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64640" y="580536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Autora Texto: Ilze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64000" y="836640"/>
            <a:ext cx="50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Senh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Permita que eu veja       a bel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de tudo, sem reparar no que não me pareça perfe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Que eu enxergue claramente os def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da minha alma, sem complacência comigo me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765000"/>
            <a:ext cx="496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Mas que perdoe os defeitos alhei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sem críticas ou maledicê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Não permita que a tristeza faça morada em meu coraçã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faste de mim a arrogância, o orgulho descabido e a presun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360" y="692280"/>
            <a:ext cx="518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Ensina-me, Pai, a humildade, a ajudar com sinceridade, sem me contaminar com a falsa ilus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Senh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Que a minha fé possa sempre estar a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e o meu coração repleto de amor, para eu levar paz e alegria a todos os que estão ao meu redor</a:t>
            </a:r>
            <a:r>
              <a:rPr b="1" lang="en-US" sz="28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19640" y="1341360"/>
            <a:ext cx="52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jude-me a ser um ser humano mais jus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 usar meu livre-arbítrio para o b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 não ofender ou magoar ningué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Que eu saiba perdo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ssim como espero ser perdo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80000" y="333360"/>
            <a:ext cx="496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E que aceite com resignação as provas que me são impostas, com a certeza que são para minha evol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Inunde meu coração de fraterno am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para que a Lei da Atração me torne a cada dia mel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Verdana"/>
              </a:rPr>
              <a:t>Assim se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240" y="6165000"/>
            <a:ext cx="70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Que a paz e o amor de Jesus estejam sempre conosco!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49360"/>
            <a:ext cx="7848360" cy="575928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125360"/>
            <a:ext cx="79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Verdana"/>
              </a:rPr>
              <a:t>Autora Texto: Ilze Soa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Verdana"/>
              </a:rPr>
              <a:t>Imagem d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Apresentação: Colacio.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Contato: colacio.j@superig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00"/>
                </a:solidFill>
                <a:latin typeface="Verdana"/>
              </a:rPr>
              <a:t>Visite o site:  http://www.ilzesoares.recantodasletra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29/07/2009 - 22:00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d"/>
    <p:sndAc>
      <p:stSnd>
        <p:snd r:embed="rId2" name="LIB419~1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22:08:05Z</dcterms:created>
  <dc:creator>Colacio.j Slides</dc:creator>
  <dc:description>Autora Texto: Ilze Soares 
Imagem da internet
Apresentação: Colacio.j
Contato: colacio.j@superig.com.br
Visite o site:  http://www.ilzesoares.recantodasletras.com.br
Criado em:29/07/2009 - 22:00hs
</dc:description>
  <dc:language>en-US</dc:language>
  <cp:lastModifiedBy>terminal</cp:lastModifiedBy>
  <dcterms:modified xsi:type="dcterms:W3CDTF">2009-07-24T00:57:16Z</dcterms:modified>
  <cp:revision>9</cp:revision>
  <dc:subject>Apresentação slide</dc:subject>
  <dc:title>Oração do Amor - Ilze Soares</dc:title>
</cp:coreProperties>
</file>