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ntrumental%20Piano%20-%20003.wav" ContentType="audio/x-wav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16B-117F-4F7B-BE79-21D0D8C2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5FB-749A-4023-8722-2C2A52D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340E7-B8DB-4079-8608-F9E46AE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5B398-8434-4C69-8EB1-DD4857E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02AF1-02E3-4AFC-9341-050217C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450CE-69EE-43F2-A736-453AEAB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C38EF-D655-4F10-BACB-3C5A8BC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2360-53C1-42C8-B542-4A89DE6B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F746D-8F5C-442A-9B1B-A9B4AA6C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40C16-65B2-4D5D-81FF-C6E7ED26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4AB9B-B8B2-493A-9CBE-0E0959FB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A0877-2939-4C65-961D-CDF412EB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3F2-321E-4F27-95EF-980CFC96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4924F-7D24-4B80-BF0B-708FB93B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01A64-AAFF-4BA8-B588-298D54E4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A7F0-AEC4-48B2-AB64-AB5933F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376F-CD68-4377-9428-84F672C1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720FA-D908-4703-B104-37C4844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C2697-B125-4DEF-8BF0-DEEB9F9C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60055-1C43-4426-B7E7-57F16525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5BE20-9F0D-47AB-888E-1663A4A1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0EC3C-D964-40ED-897D-7B93408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984D1-6C97-4AAD-B8F5-C9A35D09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92D-BC2E-4C40-87ED-BCB2005A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9F4ED-32C7-4570-91E6-7D30EC73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00859-261B-41B5-B296-F2FD23E7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74B93-5E9A-45A1-8788-4DCEB23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C4B2-9764-4321-956A-5B5927C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9A05-8B9A-4C5F-BAEB-65EA668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70BC1-0F22-45F7-9EC6-094F84A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40415-BC0F-4FB7-9C53-C727D209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3CDE4-7088-4B17-9C8F-8D9D63F8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B687-BD7F-4AD3-8812-F14C149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E7C30-E49B-4BF3-B36F-4E6F31B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5BB-5265-46B0-AAE7-BDB28197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0E26-1A93-4CCC-B93C-617480E2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E0CF3-7AA5-49F2-B46D-F193C640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B274-E79A-4A93-8E71-AA6571EA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F9608-CF65-4070-8A66-936DA6D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CF707-C3A2-4C23-825D-8DF4E22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2D5D1-4D0A-4473-B05D-77B49BF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35776-7A9C-492B-BD93-A46073A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FF92A-4CA2-4C8A-910B-3077BF9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B8E31-CC01-411A-AA8F-4B6F23E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4EC31-E6C0-436A-A557-BC4DE11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411-E0E3-4F54-B8D6-43E4461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6C8ED-FA78-4757-B301-08B9121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D4CF1-A39A-403C-A13B-E23AC90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05245-10D6-4D8C-8C1B-1EE1BFB3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9018A-29D2-4502-B4D5-BABC122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A3CA1-B886-4550-840E-6A93793B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356D-DE5F-4B20-95D0-48E91B17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778-8F9A-410F-92AC-5DC8076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97F7-A989-403C-8A24-9483B27B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6025-B55F-4C48-899B-0742696F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6683-B01C-4301-B15C-570821D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6D1-CE81-4727-BB42-5B784DE3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245B-D61D-48FF-A888-0CF23B54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AD57-E2D5-42EC-9069-BCCE214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5E6E-8B87-413E-968B-3A12087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CD92-D62F-4DA0-AD2B-B1F2B549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0174-E385-4749-B867-B58C16B0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E8739-8836-40EF-9386-8EBA6503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FF57A-9D33-431F-8EF5-B41E3DA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CCF63-4DC3-4560-89F3-CFF99A2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DCDC2-048D-4841-9738-17669803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B617F-F32A-413B-A75F-81A3DE0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92A-6D9E-452E-954B-0680BC5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0FCA1-625C-417E-B2DB-A9C0F732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87EC4-7A7F-4C8B-B881-18E250C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DA209-D150-47FE-B189-37486D4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53FB7-6FB2-4B38-9BDA-637322D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02666-CC0D-44DA-B41C-8894509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D0270-467D-40F5-8084-9C40965C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D9C69-4EE1-4E49-97ED-1E312345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F33D-BB00-42ED-A22D-4F483DCC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91C3-4411-4492-AB0D-790A020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4ACA-A3FB-44D7-9E98-95141BD3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9F2-8800-4C86-AD50-99B74A6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42FA-5B6C-422C-A087-B2083E0B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9396-DA60-4AA5-B721-001CC16C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050F-7FB1-4198-AC5B-F8EEAC36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1114-16CF-4C4F-8424-A4C41FB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7ADB-124B-417A-A39D-FCC287A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35F5-0E0A-4402-BF6C-1F483BE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6690-243C-4390-A0E5-B4DAA43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CF01-42EB-44E6-8ECC-E4ECA9A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DEE3-E9FC-4287-A0FD-1C99C1A9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1A2A-9761-493C-ABBD-56B9AA2B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4C5-4F37-44F8-9F41-CDBE4B16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AB48A-9A7F-40A7-8F67-3146231D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BA95-447F-4732-866C-0E1258A3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1BBE-B704-44CB-8940-93D55B53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4B10-49C8-46E6-A3D5-EE5ABCBD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AC06-3BAF-4670-9171-8E3D8A0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5EDD-3FC0-48C0-A443-AB27465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9193-A4D5-459E-8C5A-FCB403F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43289-5C88-4304-8083-746AEFD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5ECE-CD99-478F-8E9B-DA235E98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B919-436B-43EC-836E-4CF0A678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99E-41FA-47B0-82FF-B1FD925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C8BB-EB07-4EFE-9D6B-3BF2C0FB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8E38-5254-4E41-B403-EADAE211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DF98-3F76-4FE9-BE80-4563955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27939-1006-4F10-9CA8-2DB1C2A5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0D31-076E-415F-B6B2-F2834C7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F009-4C97-496C-B009-FFA6FA2D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4A69-3B7D-438D-8E4D-6E81CF88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7F9B3-FE81-4FB5-865B-08E487F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95D5-A415-4A27-AB8C-B8E8C76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E5FD-27B0-4E3E-BFC8-6617446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89F-07DF-4AA0-8E9D-6DF1088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B1AC-EA70-413F-BCEC-3157132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CD53-2C83-4217-8F1C-09B2C974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E450-FFCE-4C46-86DB-41FCD1E3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9738-FFDB-4FCC-B7CA-51CE010D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3E860-B3FA-4986-8169-F5B5B52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9558-3598-453B-B60F-5B3F8A4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61C28-A451-4B7D-910A-00EF104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0807-166F-4EF7-BE7C-A73CB401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C0303-4DF5-4EDB-B391-AF1DBE5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BBEC8-5D83-48B4-84D1-C255424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13F-1051-44F3-A016-0BFEB247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B616-3B64-4344-BC28-041512A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22238-13B0-4503-827F-7F0F3DB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D85D-CDD9-4FF2-91A7-3D06D8B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7AB0-2B7A-475E-9645-072C8440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D64D-8283-4804-B50C-0F8652F8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83880-538C-4CED-96F3-3D4740DD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4463-3C3E-4BC9-BF61-02B4724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34F1-B3CD-43DD-841D-2D700FF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420DA-0A8D-4462-8EF4-1EE8CBC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A5BA-752A-4338-8158-F023BF6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55C-E303-4E24-A5CE-DE839A8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9420-8073-4FE1-869D-BC2F5D3A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49E0-AA7F-4C28-BB3D-A73BFEE1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B438A-B575-46C2-9B8A-FE436F77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BC258-EFEA-4EFE-8516-E5559132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6C02-2FAF-477D-9818-F555017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87D3-7532-4516-875F-BBC1C779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6CD4-79C3-40E5-9B23-1DC771C9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CAFE-0AD0-4130-9878-5E8F3EB2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8852B-FD28-41B1-BB74-42608705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98EED-D3A6-46C1-B35C-EB9D6B83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A14-0EDE-47F7-B2D9-396430616D2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2E6-B827-4E7D-AC16-325D780E8A8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10A-62A3-49F7-8035-742222EBBF6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AFC-82DE-4A7C-8415-E2194C57F05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AC3-AB45-420D-AB9C-9405976F9DE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6" descr="aa.gif"/>
          <p:cNvPicPr/>
          <p:nvPr/>
        </p:nvPicPr>
        <p:blipFill>
          <a:blip r:embed="rId2"/>
          <a:stretch/>
        </p:blipFill>
        <p:spPr>
          <a:xfrm>
            <a:off x="4429080" y="6429240"/>
            <a:ext cx="285840" cy="290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857E-F10D-4BCC-ABD5-CB542E2414A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Times New Roman"/>
              </a:rPr>
              <a:t>Unidade - Serviço - Recup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3A4-0DB7-4919-8A6A-828DBF34587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C30-45DD-4A1F-A943-67BA6643C96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D755-FB74-473C-B4FA-8794B6366C6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9BD-A196-4276-ABDC-9A9D5F6DEFC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0C41-3615-4555-9394-5BE33E93FC3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3878-605A-4F85-A407-6E8FE349CA0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trumental%20Piano%20-%20003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CaixaDeTexto 3"/>
          <p:cNvSpPr/>
          <p:nvPr/>
        </p:nvSpPr>
        <p:spPr>
          <a:xfrm>
            <a:off x="1258920" y="2279520"/>
            <a:ext cx="66261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 e i t a ç ã 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nício da trans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Intrumental%20Piano%20-%20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CaixaDeTexto 6"/>
          <p:cNvSpPr/>
          <p:nvPr/>
        </p:nvSpPr>
        <p:spPr>
          <a:xfrm>
            <a:off x="4572000" y="3860640"/>
            <a:ext cx="403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ão é desistir, nem tão pouco resignar-se. Aceitar é estar lúcido do momento presente  e se assim a vida se apresenta, assim deve 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 é colocar-se pronto para ver a dificuldade de outro anglo de outro prisma. Sem o peso que nós colocamos ou imaginamos 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Imagem 3" descr="3167036-md.jpg"/>
          <p:cNvPicPr/>
          <p:nvPr/>
        </p:nvPicPr>
        <p:blipFill>
          <a:blip r:embed="rId1"/>
          <a:stretch/>
        </p:blipFill>
        <p:spPr>
          <a:xfrm>
            <a:off x="468360" y="333360"/>
            <a:ext cx="47102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CaixaDeTexto 6"/>
          <p:cNvSpPr/>
          <p:nvPr/>
        </p:nvSpPr>
        <p:spPr>
          <a:xfrm>
            <a:off x="4788000" y="1542960"/>
            <a:ext cx="3498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stante em que aceitamos, desmaterializamos situações que foram criadas por nós, soluções surgem naturalmente através da intuição ou  fatos trazem as respostas e as saídas para o problema. Simples assi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Imagem 7" descr="auto-ajuda-aumente-forca-interior-460x345-br.jpg"/>
          <p:cNvPicPr/>
          <p:nvPr/>
        </p:nvPicPr>
        <p:blipFill>
          <a:blip r:embed="rId1"/>
          <a:stretch/>
        </p:blipFill>
        <p:spPr>
          <a:xfrm>
            <a:off x="684360" y="1197000"/>
            <a:ext cx="3725640" cy="279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CaixaDeTexto 6"/>
          <p:cNvSpPr/>
          <p:nvPr/>
        </p:nvSpPr>
        <p:spPr>
          <a:xfrm>
            <a:off x="611280" y="62064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do é movimento. Nada é perman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ossa tendência “natural” é resistir, não aceitar, combater tudo o que nos contraria e o que nos gera sofrimento. Dessa forma prolongamos a situação. Resistir só nos mantém presos dentro da situação desconfortável, muitas vezes perpetuando e tornando tudo mais complicado e pe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m 3" descr="corrente.jpg"/>
          <p:cNvPicPr/>
          <p:nvPr/>
        </p:nvPicPr>
        <p:blipFill>
          <a:blip r:embed="rId1"/>
          <a:stretch/>
        </p:blipFill>
        <p:spPr>
          <a:xfrm>
            <a:off x="5292720" y="4005360"/>
            <a:ext cx="323532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CaixaDeTexto 6"/>
          <p:cNvSpPr/>
          <p:nvPr/>
        </p:nvSpPr>
        <p:spPr>
          <a:xfrm>
            <a:off x="2000160" y="428760"/>
            <a:ext cx="61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do não aceitamos nos tornamos amargos, revoltados, aprisionados, frustrados, insatisfeitos, cheios de rancor e tristeza, e esses padrões mentais e emocionais criam mais dificuldades, nunca trazem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muitas vezes achamos que os outros ou as coisas são responsáveis pelos acontecimentos. E não 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Imagem 4" descr="tempestade.jpg"/>
          <p:cNvPicPr/>
          <p:nvPr/>
        </p:nvPicPr>
        <p:blipFill>
          <a:blip r:embed="rId1"/>
          <a:stretch/>
        </p:blipFill>
        <p:spPr>
          <a:xfrm>
            <a:off x="857160" y="2571840"/>
            <a:ext cx="494676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CaixaDeTexto 6"/>
          <p:cNvSpPr/>
          <p:nvPr/>
        </p:nvSpPr>
        <p:spPr>
          <a:xfrm>
            <a:off x="2428920" y="4869000"/>
            <a:ext cx="631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expandir a consciência e encontrar respostas, soluções, alívio.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o que nos leva à F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 é um passo concreto para deixar a vida mais leve, mais alegre e mais saudá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Imagem 3" descr="prayer1.jpg"/>
          <p:cNvPicPr/>
          <p:nvPr/>
        </p:nvPicPr>
        <p:blipFill>
          <a:blip r:embed="rId1"/>
          <a:stretch/>
        </p:blipFill>
        <p:spPr>
          <a:xfrm>
            <a:off x="3132000" y="476280"/>
            <a:ext cx="553248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CaixaDeTexto 6"/>
          <p:cNvSpPr/>
          <p:nvPr/>
        </p:nvSpPr>
        <p:spPr>
          <a:xfrm>
            <a:off x="1000080" y="3643200"/>
            <a:ext cx="38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fundamental entender qu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ignifica desistir e seguir adiante com otimis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 muitos propósitos a serem atingidos é nossa atitude saudável diante d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r grato colabora e muito para aprender a ace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Imagem 4" descr="tristeza1.jpg"/>
          <p:cNvPicPr/>
          <p:nvPr/>
        </p:nvPicPr>
        <p:blipFill>
          <a:blip r:embed="rId1"/>
          <a:stretch/>
        </p:blipFill>
        <p:spPr>
          <a:xfrm>
            <a:off x="5286240" y="3643200"/>
            <a:ext cx="31356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CaixaDeTexto 6"/>
          <p:cNvSpPr/>
          <p:nvPr/>
        </p:nvSpPr>
        <p:spPr>
          <a:xfrm>
            <a:off x="4643280" y="1916280"/>
            <a:ext cx="345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refere ao momento presente, ao ag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stante que você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,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ocê s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ga ao que a vida quer-lhe oferecer.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as idéias surgem para prosseguir na direção desejada, saindo do sofr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izem; “A dor existe, mas sofrer é opcional, é uma escolh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Imagem 3" descr="gota_de_agua.jpg"/>
          <p:cNvPicPr/>
          <p:nvPr/>
        </p:nvPicPr>
        <p:blipFill>
          <a:blip r:embed="rId1"/>
          <a:stretch/>
        </p:blipFill>
        <p:spPr>
          <a:xfrm>
            <a:off x="826920" y="20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CaixaDeTexto 6"/>
          <p:cNvSpPr/>
          <p:nvPr/>
        </p:nvSpPr>
        <p:spPr>
          <a:xfrm>
            <a:off x="1116000" y="325764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ser feli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esqueça: Você só pode mudar você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ó você é responsável por tudo que lhe ocorre e s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ita paz no dia de h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agem 2" descr="serenidade.jpg"/>
          <p:cNvPicPr/>
          <p:nvPr/>
        </p:nvPicPr>
        <p:blipFill>
          <a:blip r:embed="rId1"/>
          <a:stretch/>
        </p:blipFill>
        <p:spPr>
          <a:xfrm>
            <a:off x="2714760" y="928800"/>
            <a:ext cx="378612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Imagem 3" descr="oracao-pelos-meus-olh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CaixaDeTexto 6"/>
          <p:cNvSpPr/>
          <p:nvPr/>
        </p:nvSpPr>
        <p:spPr>
          <a:xfrm>
            <a:off x="857160" y="35712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ORAÇÃO DA SEREN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Deus, concedei-me a serenidade para </a:t>
            </a: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ACE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as coisas que não posso modificar </a:t>
            </a:r>
            <a:br>
              <a:rPr sz="2000"/>
            </a:b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CORAGEM</a:t>
            </a: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 para modificar aquelas que posso </a:t>
            </a:r>
            <a:br>
              <a:rPr sz="2000"/>
            </a:b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606060"/>
                </a:solidFill>
                <a:latin typeface="Arial"/>
              </a:rPr>
              <a:t>SABEDORIA</a:t>
            </a:r>
            <a:r>
              <a:rPr b="0" lang="pt-BR" sz="2000" spc="-1" strike="noStrike">
                <a:solidFill>
                  <a:srgbClr val="606060"/>
                </a:solidFill>
                <a:latin typeface="Arial"/>
              </a:rPr>
              <a:t> para perceber a difer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CaixaDeTexto 3"/>
          <p:cNvSpPr/>
          <p:nvPr/>
        </p:nvSpPr>
        <p:spPr>
          <a:xfrm>
            <a:off x="4500720" y="3860640"/>
            <a:ext cx="3958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meira impressão que temos quando ouvimos ou pensamos em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ja uma pessoa, um fato ou uma circunstância é de que estaremos nos submetendo ou nos subjugando, desistindo de lutar, sendo fra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Imagem 2" descr="acabou2.jpg"/>
          <p:cNvPicPr/>
          <p:nvPr/>
        </p:nvPicPr>
        <p:blipFill>
          <a:blip r:embed="rId1"/>
          <a:stretch/>
        </p:blipFill>
        <p:spPr>
          <a:xfrm>
            <a:off x="900000" y="620640"/>
            <a:ext cx="3343320" cy="325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CaixaDeTexto 3"/>
          <p:cNvSpPr/>
          <p:nvPr/>
        </p:nvSpPr>
        <p:spPr>
          <a:xfrm>
            <a:off x="1116000" y="5013360"/>
            <a:ext cx="709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verdade, se quisermos modificar qualquer aspecto da nossa vida e de nós mesmos,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mos começar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ndo. Nos acei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m 2" descr="Aceitar+que+a+vida+é+CURTA,+é+APENAS+uma+forma+de+justificar+a+mesquinhez+egoísta+do+Homem..jpg"/>
          <p:cNvPicPr/>
          <p:nvPr/>
        </p:nvPicPr>
        <p:blipFill>
          <a:blip r:embed="rId1"/>
          <a:stretch/>
        </p:blipFill>
        <p:spPr>
          <a:xfrm>
            <a:off x="5292720" y="6206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CaixaDeTexto 3"/>
          <p:cNvSpPr/>
          <p:nvPr/>
        </p:nvSpPr>
        <p:spPr>
          <a:xfrm>
            <a:off x="1547640" y="765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detentora de um poder transformador que só quem já experimentou pode avali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Imagem 2" descr="aceitação 2.JPG"/>
          <p:cNvPicPr/>
          <p:nvPr/>
        </p:nvPicPr>
        <p:blipFill>
          <a:blip r:embed="rId1"/>
          <a:stretch/>
        </p:blipFill>
        <p:spPr>
          <a:xfrm>
            <a:off x="714240" y="2214720"/>
            <a:ext cx="3810240" cy="380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CaixaDeTexto 3"/>
          <p:cNvSpPr/>
          <p:nvPr/>
        </p:nvSpPr>
        <p:spPr>
          <a:xfrm>
            <a:off x="324000" y="2852640"/>
            <a:ext cx="45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difícil aceitar uma pe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ou afe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dificuldade financeir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doenç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humilhação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tra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Imagem 5" descr="perdas3.jpg"/>
          <p:cNvPicPr/>
          <p:nvPr/>
        </p:nvPicPr>
        <p:blipFill>
          <a:blip r:embed="rId1"/>
          <a:stretch/>
        </p:blipFill>
        <p:spPr>
          <a:xfrm>
            <a:off x="5148360" y="2492280"/>
            <a:ext cx="24480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CaixaDeTexto 3"/>
          <p:cNvSpPr/>
          <p:nvPr/>
        </p:nvSpPr>
        <p:spPr>
          <a:xfrm>
            <a:off x="785880" y="765000"/>
            <a:ext cx="542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a 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um ato de boa vontade, mente aberta, sabedoria e humildade, pois ao contrário de que muitos pensam, a vida em si, não estão sob o nosso c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Imagem 4" descr="aceitar.jpg"/>
          <p:cNvPicPr/>
          <p:nvPr/>
        </p:nvPicPr>
        <p:blipFill>
          <a:blip r:embed="rId1"/>
          <a:stretch/>
        </p:blipFill>
        <p:spPr>
          <a:xfrm>
            <a:off x="971640" y="2276640"/>
            <a:ext cx="5011560" cy="26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CaixaDeTexto 3"/>
          <p:cNvSpPr/>
          <p:nvPr/>
        </p:nvSpPr>
        <p:spPr>
          <a:xfrm>
            <a:off x="1547640" y="162864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pessoas são como são, dificilmente mud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podemos contar com isso. A única pessoa que podemos mudar, somos nós mesmos, portanto, se não houver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,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que estaremos fazendo é insensato, é ins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Imagem 5" descr="aceitação.jpg"/>
          <p:cNvPicPr/>
          <p:nvPr/>
        </p:nvPicPr>
        <p:blipFill>
          <a:blip r:embed="rId1"/>
          <a:stretch/>
        </p:blipFill>
        <p:spPr>
          <a:xfrm>
            <a:off x="5219640" y="3500280"/>
            <a:ext cx="3048120" cy="27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CaixaDeTexto 6"/>
          <p:cNvSpPr/>
          <p:nvPr/>
        </p:nvSpPr>
        <p:spPr>
          <a:xfrm>
            <a:off x="1714680" y="1484280"/>
            <a:ext cx="62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 resistente, brigar, revoltar-se, negar, deprimir, desesperar, indignar-se, culpar, culpar-se são reações emocionais carregadas de raiva. Raiva do outro, raiva de si mesmo, raiva da vida. E a raiva destrói, fere, desagr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Imagem 7" descr="lUIolay1f.jpg"/>
          <p:cNvPicPr/>
          <p:nvPr/>
        </p:nvPicPr>
        <p:blipFill>
          <a:blip r:embed="rId1"/>
          <a:stretch/>
        </p:blipFill>
        <p:spPr>
          <a:xfrm>
            <a:off x="2195640" y="3141720"/>
            <a:ext cx="40100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CaixaDeTexto 6"/>
          <p:cNvSpPr/>
          <p:nvPr/>
        </p:nvSpPr>
        <p:spPr>
          <a:xfrm>
            <a:off x="714240" y="4429080"/>
            <a:ext cx="59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it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uma força que desconhecemos porque somos condicionados a lutar, a esbravejar, a brigar e fazer barulhos. Aceitar é paz, entendimento, levez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agem 5" descr="Liberdade1.jpg"/>
          <p:cNvPicPr/>
          <p:nvPr/>
        </p:nvPicPr>
        <p:blipFill>
          <a:blip r:embed="rId1"/>
          <a:stretch/>
        </p:blipFill>
        <p:spPr>
          <a:xfrm>
            <a:off x="684360" y="692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0:12:51Z</dcterms:created>
  <dc:creator>"Karin Izumi" &lt;karin.iz@hotmail.com&gt;</dc:creator>
  <dc:description/>
  <dc:language>en-US</dc:language>
  <cp:lastModifiedBy>Proprietario</cp:lastModifiedBy>
  <dcterms:modified xsi:type="dcterms:W3CDTF">2010-12-02T19:16:50Z</dcterms:modified>
  <cp:revision>47</cp:revision>
  <dc:subject/>
  <dc:title>Educar</dc:title>
</cp:coreProperties>
</file>