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ntrumental%20Piano%20-%20003.wav" ContentType="audio/x-wav"/>
  <Override PartName="/ppt/media/image14.jpeg" ContentType="image/jpeg"/>
  <Override PartName="/ppt/media/image13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8A9D-9892-4179-A7B8-86AC937C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608-31C8-47E8-BBDC-C08A9495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45F36-7033-4FD3-A499-302E2F78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405BE-7356-4550-81CE-A720C853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CE28F-C926-401C-AE38-96F14215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50585-A6E1-49C8-8CB6-97882926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9C378-BFA7-433D-9640-5C56945F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005C8-1A5F-4E74-A169-3B7A5063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A9350-31ED-4ABF-B45D-37184D17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17FD0-7217-4AA4-8929-2D61DD30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5716B-9630-4B43-ABD0-4AA07E1C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0DDFE-E426-4DA5-A940-667B8798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1EF-C4C1-4A92-96B4-23D2092A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AEE5E-DEC2-4D8E-A138-62BD5C26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D744A-D488-49E9-922D-493A6212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5FF6D-4170-4DC8-8FEF-09AB7D73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D99C1-4ED1-4EEE-B7DE-AAB7E420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EBE4D-7FAC-4B61-BB8D-B42A18F6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108D1-1582-41B7-9705-FFD1CD88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69133-B2D0-416D-80A2-89663794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E7CAD-6EB2-412B-9CB9-F828A38B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CB16E-A179-4F37-A09B-BAB7F540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EA86F-2477-40B9-9FEE-6709555F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A0C6-E221-4536-867C-8AB01716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F5E82-F74A-4457-93BA-C276FB7D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16E9C-B32D-42EA-ABC6-8E857405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66B4F-11D5-4529-9C0F-936A47B7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47283-1E88-4A33-9BED-75A58B90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B7FDF-0D7F-4A44-999D-B1C15B87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41BE9-129C-4EAD-96B6-EE7F26DA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0F8A5-27FD-4579-8F21-5EF6141F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D018D-EAFF-4C6C-A019-465842B6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BCE51-C412-4B92-9E02-65AD71AF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FB872-DAB3-42EA-A19B-530C1EC6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CF14-1B9F-49FB-948B-A4BE509A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5AE4A-1815-40D9-AFA5-239242B1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74680-9241-4010-B4F3-2B13A70D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9461C-0F07-4C61-B699-D2B05F9A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DBEE5-979E-4396-8F35-DECF5E72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CC709-2CB6-4233-A63D-3699CAD5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39A08-5D9E-4EA3-9EAD-B2716D84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1DE4B-8C27-4722-A0DD-D9CBDEA7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78CA4-5344-4C8A-B311-D04F75F9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C506C-93A4-44D6-B62D-9E152773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5A011-328B-4283-BEA3-D722589D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8E45-DCDF-469E-AEB1-0DE00F11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3405E-7DD0-4A9D-A766-BB0AD39F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4F479-64D2-4AED-8CED-341CF8A1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9A046-D733-4CA6-A463-D67DB984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30057-83C6-488A-A625-A3492ADA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07C0F-C032-40AC-B71A-000DA449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CE82-A715-4948-992F-D3826A6A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E051-BD6C-4595-AB44-48D8E9EA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3C96-EB73-4D35-BE78-45CB1F63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5790-08C5-4867-8047-5F54BEF3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ED95-02E1-47D3-AB92-D048DD78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503-9503-450A-9FA8-D36D1878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1E1F-3DD5-44B9-A336-3CF3F506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0CB1-9053-40A8-86A4-299540D8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1A92-3830-4187-95B7-5A5A96C8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2C08-9F24-4ECC-9E55-634C6E95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F76C-B716-4168-AF0F-181267A8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1422C-0A97-4AD4-961B-8606EBE6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95A96-AC22-4007-AD81-F64AB448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1B314E-9CEC-421F-AF3E-2B9499A1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D590A-1C81-4144-8CBE-9E0F4A8D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5E9AD-4475-49E0-811F-F70D9A9E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650-6E19-4203-BD5A-8F595F95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293BA-71EE-458B-B364-A5FF137E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E145F-65D5-4D0A-BBF2-009857A4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F9ACC-4335-4D3F-B3A9-9D4DD7F8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3ECC5-4598-49D8-9A2A-B82ADD4C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1109D-7F64-41AC-A6DC-173BCA9C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0292C-0BBE-489F-B19A-26A0BDA1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806DA-E6AB-4D3D-93FD-D0BF6CDC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2772E-4DB1-4AC4-94ED-0A0A0C17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A0411-40FD-4799-A574-0E616496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A2B95-8B04-433B-85CA-C668574F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9C26-2428-43AE-A5AD-0682DA56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44C90-983C-4E4C-B6DF-C421B5E1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5A194-390D-4B61-B0EF-1F9030BE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B0437-F295-4B10-B1B6-13921DDD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B74E5-5762-4BFE-BEDE-9FEE1A6B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5CBA5-DAA9-4928-895E-3D4D234A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E5210-4D9A-4EA2-AFE4-06888880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658B3-F27A-4CF9-B654-1F51D9A1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DC6D4-FAD6-4DCD-855B-3AACD6D0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F0091-208E-422B-A66A-1D5D97D2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51DCA-2250-4BD5-ABBD-2873A96A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A2B-0A37-403D-B8A4-81D9C577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14D27-4AB0-4383-A626-7DAC002D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B68F2-6403-4C97-A598-8E423B5F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641BC-2995-41FB-A12D-B73DDAC0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E1D59-4897-45DB-8120-F4B2BEE8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B0A46-537C-4709-A5F8-1EE6BB3F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BF71F-F710-4D5B-A862-A8B8E3BE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01341-8F9B-4EE5-9132-1894C372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BF771-A6E6-4F11-91FE-F8A8914F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2058C-41D6-4B79-ACBF-9D24BE13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5B84C-90C8-4854-893C-28B747A5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8B2-6A90-4BAF-A1C8-455A99AE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551E2-8AD9-48C4-8557-D7A4DDF5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3C9CA-66F2-4B8C-9E0F-731AB7C9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4B854-2EE6-4FE2-A514-F1F1A990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3FF91-07C4-4751-9A25-01283E23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B6DA4-B9D6-42E2-AA88-70956FC1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D10B5-E055-42FD-92EF-077BFE2B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284F6-A3D7-437F-9D84-062811A8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2F6B1-FF99-4692-8E6D-AEAF2E30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CB861-19A4-44F8-90FF-2ADA41D9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9558C-7CB3-479D-80A2-40E3054F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ACF-954D-4405-9E39-4F89901A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E881F-C5FB-46E9-A2DA-96CCC44F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005B7-89A4-4945-A2AD-71B54872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73CF8-976A-41C5-B359-B8FE4B67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30345-B93D-4F18-8B38-132EDEDF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C8C2B-130C-4501-869E-A898322A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CF27D-988E-4185-B807-D3811822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BF367-74DA-4118-BCE9-345137B5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B1138-E6A8-4CF8-AABE-7E3C9A50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FB5C7-8DCD-47D7-AD71-1331258E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2DC28-B479-4B1E-B511-79ED3EAB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74E-5827-49A8-A038-8DB604BC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2A7AE-8F16-4870-9CFF-3AE12D79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4143E-F2B1-4CE6-B6CD-534626D7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EAFC6-552F-4741-B5C7-5FA0160F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C51AB-9262-418B-9D04-373D3821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87F44-966E-404C-85F6-C7A15254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63158-1274-4EE2-9D71-5CFC17E0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089E7-0B13-401E-ACB4-CC78CE84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55ADD-2382-48F0-B342-1707005D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340EE-EED9-400E-A049-CE6638CF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C87B3-0CC6-4D92-A482-471BC931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DB1-165D-4380-B14B-8F73D6B2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AE432-C9BC-48EA-8BFA-0C9C95EB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82136-2062-49A7-928F-DDCC3ED4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9D892-0CFD-47D7-BCE8-0C12EB6E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4DBA6-5668-48F7-BF7D-B191EC4C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71146-BC8A-4EF0-A36F-0671189B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EA3FB-E1AE-492D-9FA4-4957FAA8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4774B-6D09-453C-A986-7C10D89F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A5A03-B088-4338-A8B8-87A803E0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2738C-D8BA-48C7-BEEA-40E1998E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45255-01BD-4955-8D68-2E3DD0E2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E2D8-89B3-4E3A-A1FD-D326024B1EA8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5593-D8E0-4E13-9A51-44786690BA03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D568-4307-4F99-9B67-5DF6F776A49D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2B59-7D07-4B61-B26C-2F091BCE8F4E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80F0-698F-4A0D-9A05-62A361DD570A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m 6" descr="aa.gif"/>
          <p:cNvPicPr/>
          <p:nvPr/>
        </p:nvPicPr>
        <p:blipFill>
          <a:blip r:embed="rId2"/>
          <a:stretch/>
        </p:blipFill>
        <p:spPr>
          <a:xfrm>
            <a:off x="4429080" y="6429240"/>
            <a:ext cx="285840" cy="290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5DE5-3D51-4CA8-9380-6F8D40349BE8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>
            <a:off x="3124080" y="6143400"/>
            <a:ext cx="28958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Times New Roman"/>
              </a:rPr>
              <a:t>Unidade - Serviço - Recuper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5DE7-6CB3-40B3-A3F5-BFFC828C8E69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B6E2-EDC4-4AE6-B2DB-56B7B4C44EAA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4E4F-4096-4934-9DDE-DB0264DA67AD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F102-9AB7-49F0-AE8F-63EF1F18B443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035C-837C-4E76-9032-A200AD3056D6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6432-F2FC-4423-A228-57E2CC658DB2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Intrumental%20Piano%20-%20003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CaixaDeTexto 3"/>
          <p:cNvSpPr/>
          <p:nvPr/>
        </p:nvSpPr>
        <p:spPr>
          <a:xfrm>
            <a:off x="1258920" y="2279520"/>
            <a:ext cx="662616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 e i t a ç ã 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início da trans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1" name="Intrumental%20Piano%20-%20003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CaixaDeTexto 6"/>
          <p:cNvSpPr/>
          <p:nvPr/>
        </p:nvSpPr>
        <p:spPr>
          <a:xfrm>
            <a:off x="4572000" y="3860640"/>
            <a:ext cx="4032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r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ão é desistir, nem tão pouco resignar-se. Aceitar é estar lúcido do momento presente  e se assim a vida se apresenta, assim deve 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ção é colocar-se pronto para ver a dificuldade de outro anglo de outro prisma. Sem o peso que nós colocamos ou imaginamos 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Imagem 3" descr="3167036-md.jpg"/>
          <p:cNvPicPr/>
          <p:nvPr/>
        </p:nvPicPr>
        <p:blipFill>
          <a:blip r:embed="rId1"/>
          <a:stretch/>
        </p:blipFill>
        <p:spPr>
          <a:xfrm>
            <a:off x="468360" y="333360"/>
            <a:ext cx="47102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CaixaDeTexto 6"/>
          <p:cNvSpPr/>
          <p:nvPr/>
        </p:nvSpPr>
        <p:spPr>
          <a:xfrm>
            <a:off x="4788000" y="1542960"/>
            <a:ext cx="3498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nstante em que aceitamos, desmaterializamos situações que foram criadas por nós, soluções surgem naturalmente através da intuição ou  fatos trazem as respostas e as saídas para o problema. Simples assi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Imagem 7" descr="auto-ajuda-aumente-forca-interior-460x345-br.jpg"/>
          <p:cNvPicPr/>
          <p:nvPr/>
        </p:nvPicPr>
        <p:blipFill>
          <a:blip r:embed="rId1"/>
          <a:stretch/>
        </p:blipFill>
        <p:spPr>
          <a:xfrm>
            <a:off x="684360" y="1197000"/>
            <a:ext cx="3725640" cy="2795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CaixaDeTexto 6"/>
          <p:cNvSpPr/>
          <p:nvPr/>
        </p:nvSpPr>
        <p:spPr>
          <a:xfrm>
            <a:off x="611280" y="620640"/>
            <a:ext cx="460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do é movimento. Nada é perman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ossa tendência “natural” é resistir, não aceitar, combater tudo o que nos contraria e o que nos gera sofrimento. Dessa forma prolongamos a situação. Resistir só nos mantém presos dentro da situação desconfortável, muitas vezes perpetuando e tornando tudo mais complicado e pes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Imagem 3" descr="corrente.jpg"/>
          <p:cNvPicPr/>
          <p:nvPr/>
        </p:nvPicPr>
        <p:blipFill>
          <a:blip r:embed="rId1"/>
          <a:stretch/>
        </p:blipFill>
        <p:spPr>
          <a:xfrm>
            <a:off x="5292720" y="4005360"/>
            <a:ext cx="3235320" cy="2344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CaixaDeTexto 6"/>
          <p:cNvSpPr/>
          <p:nvPr/>
        </p:nvSpPr>
        <p:spPr>
          <a:xfrm>
            <a:off x="2000160" y="428760"/>
            <a:ext cx="612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do não aceitamos nos tornamos amargos, revoltados, aprisionados, frustrados, insatisfeitos, cheios de rancor e tristeza, e esses padrões mentais e emocionais criam mais dificuldades, nunca trazem solu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muitas vezes achamos que os outros ou as coisas são responsáveis pelos acontecimentos. E não 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Imagem 4" descr="tempestade.jpg"/>
          <p:cNvPicPr/>
          <p:nvPr/>
        </p:nvPicPr>
        <p:blipFill>
          <a:blip r:embed="rId1"/>
          <a:stretch/>
        </p:blipFill>
        <p:spPr>
          <a:xfrm>
            <a:off x="857160" y="2571840"/>
            <a:ext cx="4946760" cy="371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CaixaDeTexto 6"/>
          <p:cNvSpPr/>
          <p:nvPr/>
        </p:nvSpPr>
        <p:spPr>
          <a:xfrm>
            <a:off x="2428920" y="4869000"/>
            <a:ext cx="631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r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é expandir a consciência e encontrar respostas, soluções, alívio.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r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é o que nos leva à F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ção é um passo concreto para deixar a vida mais leve, mais alegre e mais saudáv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Imagem 3" descr="prayer1.jpg"/>
          <p:cNvPicPr/>
          <p:nvPr/>
        </p:nvPicPr>
        <p:blipFill>
          <a:blip r:embed="rId1"/>
          <a:stretch/>
        </p:blipFill>
        <p:spPr>
          <a:xfrm>
            <a:off x="3132000" y="476280"/>
            <a:ext cx="553248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CaixaDeTexto 6"/>
          <p:cNvSpPr/>
          <p:nvPr/>
        </p:nvSpPr>
        <p:spPr>
          <a:xfrm>
            <a:off x="1000080" y="3643200"/>
            <a:ext cx="388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fundamental entender que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r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ão significa desistir e seguir adiante com otimism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 muitos propósitos a serem atingidos é nossa atitude saudável diante da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r grato colabora e muito para aprender a aceit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Imagem 4" descr="tristeza1.jpg"/>
          <p:cNvPicPr/>
          <p:nvPr/>
        </p:nvPicPr>
        <p:blipFill>
          <a:blip r:embed="rId1"/>
          <a:stretch/>
        </p:blipFill>
        <p:spPr>
          <a:xfrm>
            <a:off x="5286240" y="3643200"/>
            <a:ext cx="3135600" cy="2187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CaixaDeTexto 6"/>
          <p:cNvSpPr/>
          <p:nvPr/>
        </p:nvSpPr>
        <p:spPr>
          <a:xfrm>
            <a:off x="4643280" y="1916280"/>
            <a:ext cx="3457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r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refere ao momento presente, ao ag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nstante que você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,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ocê se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ga ao que a vida quer-lhe oferecer.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as idéias surgem para prosseguir na direção desejada, saindo do sofr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dizem; “A dor existe, mas sofrer é opcional, é uma escolh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Imagem 3" descr="gota_de_agua.jpg"/>
          <p:cNvPicPr/>
          <p:nvPr/>
        </p:nvPicPr>
        <p:blipFill>
          <a:blip r:embed="rId1"/>
          <a:stretch/>
        </p:blipFill>
        <p:spPr>
          <a:xfrm>
            <a:off x="826920" y="206064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CaixaDeTexto 6"/>
          <p:cNvSpPr/>
          <p:nvPr/>
        </p:nvSpPr>
        <p:spPr>
          <a:xfrm>
            <a:off x="1116000" y="3257640"/>
            <a:ext cx="698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 ser feli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ão se esqueça: Você só pode mudar você me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ó você é responsável por tudo que lhe ocorre e s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ita paz no dia de ho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Imagem 2" descr="serenidade.jpg"/>
          <p:cNvPicPr/>
          <p:nvPr/>
        </p:nvPicPr>
        <p:blipFill>
          <a:blip r:embed="rId1"/>
          <a:stretch/>
        </p:blipFill>
        <p:spPr>
          <a:xfrm>
            <a:off x="2714760" y="928800"/>
            <a:ext cx="3786120" cy="2324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Imagem 3" descr="oracao-pelos-meus-olho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CaixaDeTexto 6"/>
          <p:cNvSpPr/>
          <p:nvPr/>
        </p:nvSpPr>
        <p:spPr>
          <a:xfrm>
            <a:off x="857160" y="357120"/>
            <a:ext cx="698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06060"/>
                </a:solidFill>
                <a:latin typeface="Arial"/>
              </a:rPr>
              <a:t>ORAÇÃO DA SEREN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06060"/>
                </a:solidFill>
                <a:latin typeface="Arial"/>
              </a:rPr>
              <a:t>Deus, concedei-me a serenidade para </a:t>
            </a:r>
            <a:r>
              <a:rPr b="1" lang="pt-BR" sz="2000" spc="-1" strike="noStrike">
                <a:solidFill>
                  <a:srgbClr val="606060"/>
                </a:solidFill>
                <a:latin typeface="Arial"/>
              </a:rPr>
              <a:t>ACEI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06060"/>
                </a:solidFill>
                <a:latin typeface="Arial"/>
              </a:rPr>
              <a:t>as coisas que não posso modificar </a:t>
            </a:r>
            <a:br>
              <a:rPr sz="2000"/>
            </a:br>
            <a:r>
              <a:rPr b="1" lang="pt-BR" sz="2000" spc="-1" strike="noStrike">
                <a:solidFill>
                  <a:srgbClr val="606060"/>
                </a:solidFill>
                <a:latin typeface="Arial"/>
              </a:rPr>
              <a:t>CORAGEM</a:t>
            </a:r>
            <a:r>
              <a:rPr b="0" lang="pt-BR" sz="2000" spc="-1" strike="noStrike">
                <a:solidFill>
                  <a:srgbClr val="606060"/>
                </a:solidFill>
                <a:latin typeface="Arial"/>
              </a:rPr>
              <a:t> para modificar aquelas que posso </a:t>
            </a:r>
            <a:br>
              <a:rPr sz="2000"/>
            </a:br>
            <a:r>
              <a:rPr b="0" lang="pt-BR" sz="2000" spc="-1" strike="noStrike">
                <a:solidFill>
                  <a:srgbClr val="606060"/>
                </a:solidFill>
                <a:latin typeface="Arial"/>
              </a:rPr>
              <a:t>E </a:t>
            </a:r>
            <a:r>
              <a:rPr b="1" lang="pt-BR" sz="2000" spc="-1" strike="noStrike">
                <a:solidFill>
                  <a:srgbClr val="606060"/>
                </a:solidFill>
                <a:latin typeface="Arial"/>
              </a:rPr>
              <a:t>SABEDORIA</a:t>
            </a:r>
            <a:r>
              <a:rPr b="0" lang="pt-BR" sz="2000" spc="-1" strike="noStrike">
                <a:solidFill>
                  <a:srgbClr val="606060"/>
                </a:solidFill>
                <a:latin typeface="Arial"/>
              </a:rPr>
              <a:t> para perceber a diferen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CaixaDeTexto 3"/>
          <p:cNvSpPr/>
          <p:nvPr/>
        </p:nvSpPr>
        <p:spPr>
          <a:xfrm>
            <a:off x="4500720" y="3860640"/>
            <a:ext cx="3958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imeira impressão que temos quando ouvimos ou pensamos em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r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eja uma pessoa, um fato ou uma circunstância é de que estaremos nos submetendo ou nos subjugando, desistindo de lutar, sendo fra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Imagem 2" descr="acabou2.jpg"/>
          <p:cNvPicPr/>
          <p:nvPr/>
        </p:nvPicPr>
        <p:blipFill>
          <a:blip r:embed="rId1"/>
          <a:stretch/>
        </p:blipFill>
        <p:spPr>
          <a:xfrm>
            <a:off x="900000" y="620640"/>
            <a:ext cx="3343320" cy="3259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CaixaDeTexto 3"/>
          <p:cNvSpPr/>
          <p:nvPr/>
        </p:nvSpPr>
        <p:spPr>
          <a:xfrm>
            <a:off x="1116000" y="5013360"/>
            <a:ext cx="709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verdade, se quisermos modificar qualquer aspecto da nossa vida e de nós mesmos,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mos começar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ndo. Nos aceita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Imagem 2" descr="Aceitar+que+a+vida+é+CURTA,+é+APENAS+uma+forma+de+justificar+a+mesquinhez+egoísta+do+Homem..jpg"/>
          <p:cNvPicPr/>
          <p:nvPr/>
        </p:nvPicPr>
        <p:blipFill>
          <a:blip r:embed="rId1"/>
          <a:stretch/>
        </p:blipFill>
        <p:spPr>
          <a:xfrm>
            <a:off x="5292720" y="62064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CaixaDeTexto 3"/>
          <p:cNvSpPr/>
          <p:nvPr/>
        </p:nvSpPr>
        <p:spPr>
          <a:xfrm>
            <a:off x="1547640" y="765000"/>
            <a:ext cx="69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aceitação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é detentora de um poder transformador que só quem já experimentou pode avalia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Imagem 2" descr="aceitação 2.JPG"/>
          <p:cNvPicPr/>
          <p:nvPr/>
        </p:nvPicPr>
        <p:blipFill>
          <a:blip r:embed="rId1"/>
          <a:stretch/>
        </p:blipFill>
        <p:spPr>
          <a:xfrm>
            <a:off x="714240" y="2214720"/>
            <a:ext cx="3810240" cy="3800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CaixaDeTexto 3"/>
          <p:cNvSpPr/>
          <p:nvPr/>
        </p:nvSpPr>
        <p:spPr>
          <a:xfrm>
            <a:off x="324000" y="2852640"/>
            <a:ext cx="4535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difícil aceitar uma pe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l ou afeti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a dificuldade financeira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a doença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a humilhação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a trai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Imagem 5" descr="perdas3.jpg"/>
          <p:cNvPicPr/>
          <p:nvPr/>
        </p:nvPicPr>
        <p:blipFill>
          <a:blip r:embed="rId1"/>
          <a:stretch/>
        </p:blipFill>
        <p:spPr>
          <a:xfrm>
            <a:off x="5148360" y="2492280"/>
            <a:ext cx="244800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CaixaDeTexto 3"/>
          <p:cNvSpPr/>
          <p:nvPr/>
        </p:nvSpPr>
        <p:spPr>
          <a:xfrm>
            <a:off x="785880" y="765000"/>
            <a:ext cx="5429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 a a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itação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é um ato de boa vontade, mente aberta, sabedoria e humildade, pois ao contrário de que muitos pensam, a vida em si, não estão sob o nosso contr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Imagem 4" descr="aceitar.jpg"/>
          <p:cNvPicPr/>
          <p:nvPr/>
        </p:nvPicPr>
        <p:blipFill>
          <a:blip r:embed="rId1"/>
          <a:stretch/>
        </p:blipFill>
        <p:spPr>
          <a:xfrm>
            <a:off x="971640" y="2276640"/>
            <a:ext cx="5011560" cy="2697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CaixaDeTexto 3"/>
          <p:cNvSpPr/>
          <p:nvPr/>
        </p:nvSpPr>
        <p:spPr>
          <a:xfrm>
            <a:off x="1547640" y="1628640"/>
            <a:ext cx="34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pessoas são como são, dificilmente mud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ão podemos contar com isso. A única pessoa que podemos mudar, somos nós mesmos, portanto, se não houver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ção,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 que estaremos fazendo é insensato, é ins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Imagem 5" descr="aceitação.jpg"/>
          <p:cNvPicPr/>
          <p:nvPr/>
        </p:nvPicPr>
        <p:blipFill>
          <a:blip r:embed="rId1"/>
          <a:stretch/>
        </p:blipFill>
        <p:spPr>
          <a:xfrm>
            <a:off x="5219640" y="3500280"/>
            <a:ext cx="3048120" cy="2705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CaixaDeTexto 6"/>
          <p:cNvSpPr/>
          <p:nvPr/>
        </p:nvSpPr>
        <p:spPr>
          <a:xfrm>
            <a:off x="1714680" y="1484280"/>
            <a:ext cx="6242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 resistente, brigar, revoltar-se, negar, deprimir, desesperar, indignar-se, culpar, culpar-se são reações emocionais carregadas de raiva. Raiva do outro, raiva de si mesmo, raiva da vida. E a raiva destrói, fere, desagre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Imagem 7" descr="lUIolay1f.jpg"/>
          <p:cNvPicPr/>
          <p:nvPr/>
        </p:nvPicPr>
        <p:blipFill>
          <a:blip r:embed="rId1"/>
          <a:stretch/>
        </p:blipFill>
        <p:spPr>
          <a:xfrm>
            <a:off x="2195640" y="3141720"/>
            <a:ext cx="401004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CaixaDeTexto 6"/>
          <p:cNvSpPr/>
          <p:nvPr/>
        </p:nvSpPr>
        <p:spPr>
          <a:xfrm>
            <a:off x="714240" y="4429080"/>
            <a:ext cx="59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ção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é uma força que desconhecemos porque somos condicionados a lutar, a esbravejar, a brigar e fazer barulhos. Aceitar é paz, entendimento, levez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Imagem 5" descr="Liberdade1.jpg"/>
          <p:cNvPicPr/>
          <p:nvPr/>
        </p:nvPicPr>
        <p:blipFill>
          <a:blip r:embed="rId1"/>
          <a:stretch/>
        </p:blipFill>
        <p:spPr>
          <a:xfrm>
            <a:off x="684360" y="6922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20:12:51Z</dcterms:created>
  <dc:creator>"Karin Izumi" &lt;karin.iz@hotmail.com&gt;</dc:creator>
  <dc:description/>
  <dc:language>en-US</dc:language>
  <cp:lastModifiedBy>Proprietario</cp:lastModifiedBy>
  <dcterms:modified xsi:type="dcterms:W3CDTF">2010-12-02T19:16:50Z</dcterms:modified>
  <cp:revision>47</cp:revision>
  <dc:subject/>
  <dc:title>Educar</dc:title>
</cp:coreProperties>
</file>