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our%20violino.wav" ContentType="audio/x-wav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AA0-51DC-411B-A4E8-E872E85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94B-134D-4AE1-B723-F1C48B71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953-D11F-45F8-9027-4F14796A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71B-A095-4B9A-80D4-9F9446D4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2A7-D3C0-4E75-B608-D0F9416A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040-CDDF-434B-BFD5-6C07D81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7FE-183D-4D45-8991-DA43337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270-64E5-4F15-80B5-27C855FC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54A-D0B2-4849-BA23-AAC5D881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448-B9E3-4D3C-93D9-808BEC2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395-78C4-4B48-866A-6EF03B1C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909-DD98-412B-8801-740A30F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B9E-8E32-4110-9F3A-53EAE25E11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ur%20violin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2590920"/>
            <a:ext cx="807696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edica 2 minutos da tua vida a esta leitur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PT" sz="4400" spc="-1" strike="noStrike">
                <a:solidFill>
                  <a:srgbClr val="000000"/>
                </a:solidFill>
                <a:latin typeface="Verdana"/>
              </a:rPr>
              <a:t>... é muito lind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276720"/>
            <a:ext cx="861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proximou-se da cama e colocou a lingerie perto de outros objectos que levaria para o cemitér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676520"/>
            <a:ext cx="8839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 sua esposa havia morrido de repente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O meu amigo olhou para mim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 diss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198108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Nunca guardes nada à espera de uma ocasião especial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cada dia que vivemos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é uma ocasião especial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403848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Verdana"/>
              </a:rPr>
              <a:t>Ainda estou pensando nas palavras que ele me disse e como mudaram a minh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2362320"/>
            <a:ext cx="88390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gora leio mais, e dedico menos tempo à limpeza da casa.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nto-me na varanda e admiro a paisagem, sem reparar se o jardim tem ou não ervas daninh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289548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Passo mais tempo em companhia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a minha família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 dos meus amigos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 bem menos tempo trabalhando para os outr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809880"/>
            <a:ext cx="883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ei-me conta que a vida é um conjunto de experiências para serem apreciadas e não sobrevivi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39625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gora já não guardo quase na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Uso os copos de cristal todos os d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4343400"/>
            <a:ext cx="8686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Visto roupas novas para ir fazer compras no supermercado, se estiver com  vontade de vesti-l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733920"/>
            <a:ext cx="87631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Não guardo o melhor frasco de perfume para as festas especiais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mas uso quando quero sentir a sua fragrânc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42900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ntes de iniciar, fica sabendo que não é uma bobagem qualquer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 que somente as pessoas que possuem uma alma nobre, poderão apreciá-l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3429000"/>
            <a:ext cx="883908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s frases 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...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e 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”, estão desaparecendo do meu vocabulário, se vale a pena ver e ouvir é ag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3200400"/>
            <a:ext cx="883908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Não sei o que a esposa do meu amigo teria feito, se soubesse que não haveria amanhã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 mesmo 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manhã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” que todos nós levamos tão pouco a sé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114800"/>
            <a:ext cx="883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 ela soubesse, talvez poderia ter falado com todos os seus familiares e amigos mais próxim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4952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733920"/>
            <a:ext cx="8839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, talvez, poderia ter chamado os velhos amigos para se desculpar, para fazer as pazes pelos mal entendidos do pass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3886200"/>
            <a:ext cx="883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Gosto de pensar que, ela poderia ter ido degustar o seu prato preferido naquele restaurante chinês que tanto gosta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3581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ão estas pequenas coisas da vida não cumpridas que me chateariam se soubesse que tenho as horas contad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3429000"/>
            <a:ext cx="89154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hatear-me-ia pensar que deixei de abraçar os bons amigos que </a:t>
            </a:r>
            <a:br>
              <a:rPr sz="3600"/>
            </a:b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reencontrari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3429000"/>
            <a:ext cx="853452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hatear-me-ia pensar que não escrevi as cartas que queria porque a intenção de escrevê-las era 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s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...”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3124080"/>
            <a:ext cx="8839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hatear-me-ia, e deixar-me-ia ainda mais triste, saber que deixei de dizer aos meus filhos e irmãos, com suficiente frequência, o quanto os a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12408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gora procuro não retardar, esquecer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 conservar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algo mais que poderia acrescentar sorrisos de felicidade e alegria à minha vida.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4956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Se tu tens a certeza de quem és, lê atentame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04812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ada dia que passa, digo para mim mesmo, que este é um dia muito especial.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Cada dia, cada hora, cada minuto que passa... é espec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429000"/>
            <a:ext cx="87631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 tu recebeste esta mensagem, é porque alguém gosta de ti e te quer bem, e porque há pessoas que tu também gostas e am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3581280"/>
            <a:ext cx="8534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 estiveres muito ocupado para dedicar alguns minutos do teu tempo e encaminhar a mensagem para outras pesso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3048120"/>
            <a:ext cx="8915400" cy="34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 se tu disseres para ti mesmo que 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assim que tiver um tempinho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a enviarás,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pt-PT" sz="4200" spc="-1" strike="noStrike">
                <a:solidFill>
                  <a:srgbClr val="000000"/>
                </a:solidFill>
                <a:latin typeface="Verdana"/>
              </a:rPr>
              <a:t>um dia destes</a:t>
            </a: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 poderá demorar muit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962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000000"/>
                </a:solidFill>
                <a:latin typeface="Bookman Old Style"/>
              </a:rPr>
              <a:t>ou </a:t>
            </a:r>
            <a:r>
              <a:rPr b="0" i="1" lang="pt-PT" sz="6600" spc="-1" strike="noStrike">
                <a:solidFill>
                  <a:srgbClr val="000000"/>
                </a:solidFill>
                <a:latin typeface="Bookman Old Style"/>
              </a:rPr>
              <a:t>nunca chegar</a:t>
            </a:r>
            <a:r>
              <a:rPr b="0" lang="pt-PT" sz="6600" spc="-1" strike="noStrike">
                <a:solidFill>
                  <a:srgbClr val="000000"/>
                </a:solidFill>
                <a:latin typeface="Bookman Old Style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3429000"/>
            <a:ext cx="883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ste TANTRA veio da Índ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Sejas tu supersticioso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u não, dedica-o a ti mesm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600" spc="-1" strike="noStrike">
                <a:solidFill>
                  <a:srgbClr val="000000"/>
                </a:solidFill>
                <a:latin typeface="Verdana"/>
              </a:rPr>
              <a:t>são somente alguns momentos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sta mensagem contém alimento para a tua a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362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É um TOTEM TANTRA NEPALENSE para chamar a a boa sor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1160" y="4800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Já deu a volta ao mundo 10 vez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990720"/>
            <a:ext cx="883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Não guardes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sta mensagem,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o TOTEM TANTRA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eve estar longe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de teus olhos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m 96 hor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Faz circulá-lo e observa o que vai acontecer nos próximos quatro di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267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vais receber uma surpresa agradá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43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0" spc="-1" strike="noStrike">
                <a:solidFill>
                  <a:srgbClr val="000000"/>
                </a:solidFill>
                <a:latin typeface="Bookman Old Style"/>
              </a:rPr>
              <a:t>É </a:t>
            </a:r>
            <a:r>
              <a:rPr b="1" i="1" lang="pt-PT" sz="8000" spc="-1" strike="noStrike">
                <a:solidFill>
                  <a:srgbClr val="000000"/>
                </a:solidFill>
                <a:latin typeface="Bookman Old Style"/>
              </a:rPr>
              <a:t>verdade</a:t>
            </a:r>
            <a:r>
              <a:rPr b="1" lang="pt-PT" sz="8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mesmo que </a:t>
            </a:r>
            <a:r>
              <a:rPr b="0" i="1" lang="pt-PT" sz="4400" spc="-1" strike="noStrike">
                <a:solidFill>
                  <a:srgbClr val="000000"/>
                </a:solidFill>
                <a:latin typeface="Verdana"/>
              </a:rPr>
              <a:t>não sejas supersticioso</a:t>
            </a: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osa%20branca%20Porcelain%20Vandella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9144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6600" spc="-1" strike="noStrike">
                <a:solidFill>
                  <a:srgbClr val="000000"/>
                </a:solidFill>
                <a:latin typeface="Bookman Old Style"/>
              </a:rPr>
              <a:t>Uma Históri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6600" spc="-1" strike="noStrike">
                <a:solidFill>
                  <a:srgbClr val="000000"/>
                </a:solidFill>
                <a:latin typeface="Bookman Old Style"/>
              </a:rPr>
              <a:t>Indiana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343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Era uma vez </a:t>
            </a:r>
            <a:br>
              <a:rPr sz="3600"/>
            </a:br>
            <a:r>
              <a:rPr b="0" lang="pt-PT" sz="3600" spc="-1" strike="noStrike">
                <a:solidFill>
                  <a:srgbClr val="000000"/>
                </a:solidFill>
                <a:latin typeface="Verdana"/>
              </a:rPr>
              <a:t>um amigo meu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990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Verdana"/>
              </a:rPr>
              <a:t>E agora, a melhor part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Envia esta mensagem para pelo menos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5 pessoas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e a tua vida vai melho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8600" y="1460520"/>
            <a:ext cx="86104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Para 0-4 pessoas: a tua vida vai melhorar, mas devaga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Para 5-9 pessoas: a tua vida vai melhorar, conforme as tuas expectativ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18584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Para 9-14 pessoas: vais receber pelo menos 5 boas surpresas nas próximas 3 sem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Verdana"/>
              </a:rPr>
              <a:t>E para 15 ou mais pessoas: a tua vida vai melhorar drasticamen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osa%20branca%20Porcelain%20Vandella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762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Tudo aquilo que tu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29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Bookman Old Style"/>
              </a:rPr>
              <a:t>sempre sonhaste, </a:t>
            </a:r>
            <a:br>
              <a:rPr sz="6000"/>
            </a:br>
            <a:r>
              <a:rPr b="0" lang="pt-PT" sz="6000" spc="-1" strike="noStrike">
                <a:solidFill>
                  <a:srgbClr val="000000"/>
                </a:solidFill>
                <a:latin typeface="Bookman Old Style"/>
              </a:rPr>
              <a:t>vai finalmente </a:t>
            </a:r>
            <a:br>
              <a:rPr sz="6000"/>
            </a:br>
            <a:r>
              <a:rPr b="0" lang="pt-PT" sz="6000" spc="-1" strike="noStrike">
                <a:solidFill>
                  <a:srgbClr val="000000"/>
                </a:solidFill>
                <a:latin typeface="Bookman Old Style"/>
              </a:rPr>
              <a:t>realizar-s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85800"/>
            <a:ext cx="883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Um certo dia, um amigo meu abriu a gaveta da mesa de cabeceira da sua esposa e apanhou um pacote embrulhado em papel de arro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20040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ste - disse o meu amigo - não é um pacote qualquer, é uma peça íntima, uma lingerie finíssima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2666880"/>
            <a:ext cx="815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briu o pacote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jogou fora o papel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pegou na peça, e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cariciou a seda macia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 a ren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312408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la comprou esta lingerie a primeira vez que estivemos em New Yorque...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uns 8 ou 9 anos atrás.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Nunca a usou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osa%20branca%20Life%20is%20a%20Learning%20Process!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2057400"/>
            <a:ext cx="8229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Estava esperando o momento certo,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a ocasião especial </a:t>
            </a:r>
            <a:br>
              <a:rPr sz="4400"/>
            </a:b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para poder usá-l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Verdana"/>
              </a:rPr>
              <a:t>Bom, acho que a hora chegou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>.......... da Mágica</dc:creator>
  <dc:description/>
  <dc:language>en-US</dc:language>
  <cp:lastModifiedBy>Walter</cp:lastModifiedBy>
  <dcterms:modified xsi:type="dcterms:W3CDTF">2006-01-18T19:47:46Z</dcterms:modified>
  <cp:revision>34</cp:revision>
  <dc:subject>Tantra e Chakra </dc:subject>
  <dc:title> Dedique dois minutos para esta leitura, é muito bonita!</dc:title>
</cp:coreProperties>
</file>