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mour%20violino.wav" ContentType="audio/x-wav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F104-167E-4EEC-9279-E9A75323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D78-A7A1-429B-B140-1FFBE2CF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F5E-97E7-4143-9CF0-9D3CDD77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8DCF-9027-425F-9755-A1AAE3D4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30B-9784-4F29-835B-2A8823F5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0C6-A19F-4B00-A9BD-CE0E353D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2C8A-E911-4070-B732-FDBE68ED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72D-0713-4714-90E5-5B0B0249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57E-A6CF-46EC-B74D-381A6982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DC1-FBE7-47B9-B97D-17CEDEFF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FC6E-6BF6-4832-A37C-7B27D75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290-BF52-4BC2-A385-DCDB25DD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75DE-1369-4D95-87D8-7AFF468FEC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our%20violin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osa%20branca%20Porcelain%20Vandella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2590920"/>
            <a:ext cx="8076960" cy="37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Dedica 2 minutos da tua vida a esta leitur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PT" sz="4400" spc="-1" strike="noStrike">
                <a:solidFill>
                  <a:srgbClr val="000000"/>
                </a:solidFill>
                <a:latin typeface="Verdana"/>
              </a:rPr>
              <a:t>... é muito lind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osa%20branca%20Life%20is%20a%20Learning%20Process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3276720"/>
            <a:ext cx="8610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Aproximou-se da cama e colocou a lingerie perto de outros objectos que levaria para o cemitér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osa%20branca%20Life%20is%20a%20Learning%20Process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676520"/>
            <a:ext cx="8839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A sua esposa havia morrido de repente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O meu amigo olhou para mim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e disse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osa%20branca%20Life%20is%20a%20Learning%20Process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1981080"/>
            <a:ext cx="81532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Nunca guardes nada à espera de uma ocasião especial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cada dia que vivemos,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é uma ocasião especial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403848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Verdana"/>
              </a:rPr>
              <a:t>Ainda estou pensando nas palavras que ele me disse e como mudaram a minha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2362320"/>
            <a:ext cx="88390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Agora leio mais, e dedico menos tempo à limpeza da casa.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Sento-me na varanda e admiro a paisagem, sem reparar se o jardim tem ou não ervas daninh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2895480"/>
            <a:ext cx="883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Passo mais tempo em companhia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da minha família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 dos meus amigos,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 bem menos tempo trabalhando para os outr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3809880"/>
            <a:ext cx="8839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Dei-me conta que a vida é um conjunto de experiências para serem apreciadas e não sobrevivid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3962520"/>
            <a:ext cx="88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Agora já não guardo quase na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Uso os copos de cristal todos os di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4343400"/>
            <a:ext cx="86868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Visto roupas novas para ir fazer compras no supermercado, se estiver com  vontade de vesti-l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3733920"/>
            <a:ext cx="87631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Não guardo o melhor frasco de perfume para as festas especiais,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mas uso quando quero sentir a sua fragrânc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osa%20branca%20Porcelain%20Vandella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3429000"/>
            <a:ext cx="883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Antes de iniciar, fica sabendo que não é uma bobagem qualquer,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 que somente as pessoas que possuem uma alma nobre, poderão apreciá-l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3429000"/>
            <a:ext cx="883908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As frases 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pt-PT" sz="4200" spc="-1" strike="noStrike">
                <a:solidFill>
                  <a:srgbClr val="000000"/>
                </a:solidFill>
                <a:latin typeface="Verdana"/>
              </a:rPr>
              <a:t>um dia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...”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 e “</a:t>
            </a:r>
            <a:r>
              <a:rPr b="0" i="1" lang="pt-PT" sz="4200" spc="-1" strike="noStrike">
                <a:solidFill>
                  <a:srgbClr val="000000"/>
                </a:solidFill>
                <a:latin typeface="Verdana"/>
              </a:rPr>
              <a:t>um dia destes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”, estão desaparecendo do meu vocabulário, se vale a pena ver e ouvir é ago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3200400"/>
            <a:ext cx="883908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Não sei o que a esposa do meu amigo teria feito, se soubesse que não haveria amanhã,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o mesmo “</a:t>
            </a: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amanhã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” que todos nós levamos tão pouco a sér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4114800"/>
            <a:ext cx="8839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Se ela soubesse, talvez poderia ter falado com todos os seus familiares e amigos mais próxim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4952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3733920"/>
            <a:ext cx="8839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Ou, talvez, poderia ter chamado os velhos amigos para se desculpar, para fazer as pazes pelos mal entendidos do pass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4920" y="3886200"/>
            <a:ext cx="8839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Gosto de pensar que, ela poderia ter ido degustar o seu prato preferido naquele restaurante chinês que tanto gostav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358128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São estas pequenas coisas da vida não cumpridas que me chateariam se soubesse que tenho as horas contad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3429000"/>
            <a:ext cx="891540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Chatear-me-ia pensar que deixei de abraçar os bons amigos que </a:t>
            </a:r>
            <a:br>
              <a:rPr sz="3600"/>
            </a:b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pt-PT" sz="4200" spc="-1" strike="noStrike">
                <a:solidFill>
                  <a:srgbClr val="000000"/>
                </a:solidFill>
                <a:latin typeface="Verdana"/>
              </a:rPr>
              <a:t>um dia destes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 reencontrari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3429000"/>
            <a:ext cx="853452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Chatear-me-ia pensar que não escrevi as cartas que queria porque a intenção de escrevê-las era 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pt-PT" sz="4200" spc="-1" strike="noStrike">
                <a:solidFill>
                  <a:srgbClr val="000000"/>
                </a:solidFill>
                <a:latin typeface="Verdana"/>
              </a:rPr>
              <a:t>um dias destes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...”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3124080"/>
            <a:ext cx="8839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Chatear-me-ia, e deixar-me-ia ainda mais triste, saber que deixei de dizer aos meus filhos e irmãos, com suficiente frequência, o quanto os am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3520" y="312408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Agora procuro não retardar, esquecer,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ou conservar,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algo mais que poderia acrescentar sorrisos de felicidade e alegria à minha vida.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sa%20branca%20Porcelain%20Vandella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449568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Se tu tens a certeza de quem és, lê atentament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3048120"/>
            <a:ext cx="883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Cada dia que passa, digo para mim mesmo, que este é um dia muito especial.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Cada dia, cada hora, cada minuto que passa... é especi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3429000"/>
            <a:ext cx="87631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Se tu recebeste esta mensagem, é porque alguém gosta de ti e te quer bem, e porque há pessoas que tu também gostas e am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3581280"/>
            <a:ext cx="85345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Se estiveres muito ocupado para dedicar alguns minutos do teu tempo e encaminhar a mensagem para outras pessoa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" y="3048120"/>
            <a:ext cx="8915400" cy="34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ou se tu disseres para ti mesmo que 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pt-PT" sz="4200" spc="-1" strike="noStrike">
                <a:solidFill>
                  <a:srgbClr val="000000"/>
                </a:solidFill>
                <a:latin typeface="Verdana"/>
              </a:rPr>
              <a:t>assim que tiver um tempinho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 a enviarás,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pt-PT" sz="4200" spc="-1" strike="noStrike">
                <a:solidFill>
                  <a:srgbClr val="000000"/>
                </a:solidFill>
                <a:latin typeface="Verdana"/>
              </a:rPr>
              <a:t>um dia destes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 poderá demorar muit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39625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600" spc="-1" strike="noStrike">
                <a:solidFill>
                  <a:srgbClr val="000000"/>
                </a:solidFill>
                <a:latin typeface="Bookman Old Style"/>
              </a:rPr>
              <a:t>ou </a:t>
            </a:r>
            <a:r>
              <a:rPr b="0" i="1" lang="pt-PT" sz="6600" spc="-1" strike="noStrike">
                <a:solidFill>
                  <a:srgbClr val="000000"/>
                </a:solidFill>
                <a:latin typeface="Bookman Old Style"/>
              </a:rPr>
              <a:t>nunca chegar</a:t>
            </a:r>
            <a:r>
              <a:rPr b="0" lang="pt-PT" sz="6600" spc="-1" strike="noStrike">
                <a:solidFill>
                  <a:srgbClr val="000000"/>
                </a:solidFill>
                <a:latin typeface="Bookman Old Style"/>
              </a:rPr>
              <a:t>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3429000"/>
            <a:ext cx="88390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ste TANTRA veio da Índi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Sejas tu supersticioso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ou não, dedica-o a ti mesm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são somente alguns momentos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sta mensagem contém alimento para a tua al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3623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É um TOTEM TANTRA NEPALENSE para chamar a a boa sor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81160" y="48006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Já deu a volta ao mundo 10 vez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990720"/>
            <a:ext cx="88390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Não guardes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sta mensagem,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o TOTEM TANTRA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deve estar longe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de teus olhos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m 96 hor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457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Faz circulá-lo e observa o que vai acontecer nos próximos quatro di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267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vais receber uma surpresa agradá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143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0" spc="-1" strike="noStrike">
                <a:solidFill>
                  <a:srgbClr val="000000"/>
                </a:solidFill>
                <a:latin typeface="Bookman Old Style"/>
              </a:rPr>
              <a:t>É </a:t>
            </a:r>
            <a:r>
              <a:rPr b="1" i="1" lang="pt-PT" sz="8000" spc="-1" strike="noStrike">
                <a:solidFill>
                  <a:srgbClr val="000000"/>
                </a:solidFill>
                <a:latin typeface="Bookman Old Style"/>
              </a:rPr>
              <a:t>verdade</a:t>
            </a:r>
            <a:r>
              <a:rPr b="1" lang="pt-PT" sz="80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42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mesmo que </a:t>
            </a:r>
            <a:r>
              <a:rPr b="0" i="1" lang="pt-PT" sz="4400" spc="-1" strike="noStrike">
                <a:solidFill>
                  <a:srgbClr val="000000"/>
                </a:solidFill>
                <a:latin typeface="Verdana"/>
              </a:rPr>
              <a:t>não sejas supersticioso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osa%20branca%20Porcelain%20Vandella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80880"/>
            <a:ext cx="9144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6600" spc="-1" strike="noStrike">
                <a:solidFill>
                  <a:srgbClr val="000000"/>
                </a:solidFill>
                <a:latin typeface="Bookman Old Style"/>
              </a:rPr>
              <a:t>Uma História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6600" spc="-1" strike="noStrike">
                <a:solidFill>
                  <a:srgbClr val="000000"/>
                </a:solidFill>
                <a:latin typeface="Bookman Old Style"/>
              </a:rPr>
              <a:t>Indiana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43434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ra uma vez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um amigo meu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990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Verdana"/>
              </a:rPr>
              <a:t>E agora, a melhor parte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267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Verdana"/>
              </a:rPr>
              <a:t>Envia esta mensagem para pelo menos 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Verdana"/>
              </a:rPr>
              <a:t>5 pessoas 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Verdana"/>
              </a:rPr>
              <a:t>e a tua vida vai melhor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1460520"/>
            <a:ext cx="86104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Verdana"/>
              </a:rPr>
              <a:t>Para 0-4 pessoas: a tua vida vai melhorar, mas devaga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Verdana"/>
              </a:rPr>
              <a:t>Para 5-9 pessoas: a tua vida vai melhorar, conforme as tuas expectativa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8600" y="1185840"/>
            <a:ext cx="8686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Verdana"/>
              </a:rPr>
              <a:t>Para 9-14 pessoas: vais receber pelo menos 5 boas surpresas nas próximas 3 sema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Verdana"/>
              </a:rPr>
              <a:t>E para 15 ou mais pessoas: a tua vida vai melhorar drasticamen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762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Tudo aquilo que tu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429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000000"/>
                </a:solidFill>
                <a:latin typeface="Bookman Old Style"/>
              </a:rPr>
              <a:t>sempre sonhaste, </a:t>
            </a:r>
            <a:br>
              <a:rPr sz="6000"/>
            </a:br>
            <a:r>
              <a:rPr b="0" lang="pt-PT" sz="6000" spc="-1" strike="noStrike">
                <a:solidFill>
                  <a:srgbClr val="000000"/>
                </a:solidFill>
                <a:latin typeface="Bookman Old Style"/>
              </a:rPr>
              <a:t>vai finalmente </a:t>
            </a:r>
            <a:br>
              <a:rPr sz="6000"/>
            </a:br>
            <a:r>
              <a:rPr b="0" lang="pt-PT" sz="6000" spc="-1" strike="noStrike">
                <a:solidFill>
                  <a:srgbClr val="000000"/>
                </a:solidFill>
                <a:latin typeface="Bookman Old Style"/>
              </a:rPr>
              <a:t>realizar-s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osa%20branca%20Life%20is%20a%20Learning%20Process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685800"/>
            <a:ext cx="883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Um certo dia, um amigo meu abriu a gaveta da mesa de cabeceira da sua esposa e apanhou um pacote embrulhado em papel de arro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osa%20branca%20Life%20is%20a%20Learning%20Process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20040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Este - disse o meu amigo - não é um pacote qualquer, é uma peça íntima, uma lingerie finíssima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osa%20branca%20Life%20is%20a%20Learning%20Process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2666880"/>
            <a:ext cx="8153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Abriu o pacote,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jogou fora o papel,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pegou na peça, e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acariciou a seda macia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e a ren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osa%20branca%20Life%20is%20a%20Learning%20Process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312408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Ela comprou esta lingerie a primeira vez que estivemos em New Yorque...,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uns 8 ou 9 anos atrás.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Nunca a usou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osa%20branca%20Life%20is%20a%20Learning%20Process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2057400"/>
            <a:ext cx="82296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Estava esperando o momento certo,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a ocasião especial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para poder usá-la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Bom, acho que a hora chegou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16:53:44Z</dcterms:created>
  <dc:creator>.......... da Mágica</dc:creator>
  <dc:description/>
  <dc:language>en-US</dc:language>
  <cp:lastModifiedBy>Walter</cp:lastModifiedBy>
  <dcterms:modified xsi:type="dcterms:W3CDTF">2006-01-18T19:47:46Z</dcterms:modified>
  <cp:revision>34</cp:revision>
  <dc:subject>Tantra e Chakra </dc:subject>
  <dc:title> Dedique dois minutos para esta leitura, é muito bonita!</dc:title>
</cp:coreProperties>
</file>