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06%20She's%20Out%20Of%20My%20Life.wav" ContentType="audio/x-wav"/>
  <Override PartName="/ppt/media/image5.jpeg" ContentType="image/jpeg"/>
  <Override PartName="/ppt/media/image10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D58E-16F2-4135-ACBE-AA220D4F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A90E-63FF-4F7A-991A-EEB5B302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5DE-6BAC-4D45-8BE0-C7CF56C9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31BD-A9F6-4C6B-BBDD-8C99BBE5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C38B-E86F-4CE7-A5D2-2A738E73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DEF-1667-43AE-A5A2-803D372C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D464-40CF-496A-B8ED-E885C513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9564-8566-4097-9869-7F577DBA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3CD-287A-45C7-BCC3-AEDB4994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D17-29F3-441E-8986-AC609F7B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867-E81E-4FF8-B50C-A1CFB425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B36-B2E3-4555-81CA-F603A5CA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A2AF-14FE-4DF6-90B6-990FCCAAD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06%20She&apos;s%20Out%20Of%20My%20Life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mailto:bethnorling@globo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672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09600" y="1828800"/>
            <a:ext cx="6724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666699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VOZ DO SILÊNCIO</a:t>
            </a:r>
            <a:endParaRPr b="0" lang="en-US" sz="4800" spc="1" strike="noStrike">
              <a:ln w="9360">
                <a:solidFill>
                  <a:srgbClr val="666699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38600" y="3657600"/>
            <a:ext cx="346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66699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tícia Thompson</a:t>
            </a:r>
            <a:endParaRPr b="0" lang="en-US" sz="2800" spc="1" strike="noStrike">
              <a:ln w="9360">
                <a:solidFill>
                  <a:srgbClr val="666699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6722" r="0" b="112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5040" y="2205000"/>
            <a:ext cx="816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sso faz parte da matur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essoas maduras chegam na hora certa e partem na hora certa nos encontros marcados da vida. Dizem o que deve ser dito e ouvem cal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ensam seriamente no que o outro diz sem ficar obstinadas com as próprias idéias. Elas se comunicam, dão e recebem. Crescem em sabedoria e contribuem para que o mundo seja um lugar mais agradável de se estar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grayscl/>
          </a:blip>
          <a:srcRect l="0" t="6722" r="0" b="112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06440" y="1413000"/>
            <a:ext cx="6721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Texto: Letícia Thompson – A voz do silên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úsica: She’s out of my l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bethnorling@globo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713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5040" y="2554200"/>
            <a:ext cx="839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O silêncio na hora certa vale ouro. Ele pode falar mais que mil palavras, dar mil conselhos e evitar uma situação constrangedora. Temos o hábito de falar demais e nos esquecemos que não há retorno para o que foi d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Muitas vezes quando não falamos acabamos dizendo mu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8000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100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040" y="2362320"/>
            <a:ext cx="839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7d"/>
                </a:solidFill>
                <a:latin typeface="Arial"/>
              </a:rPr>
              <a:t>Quando há atrito entre duas ou mais pessoas e elas n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7d"/>
                </a:solidFill>
                <a:latin typeface="Arial"/>
              </a:rPr>
              <a:t>conseguem se conter, acabam por dizer coisas que, de maneira refletida, não diriam. Uma discussão é como uma fogueira e as palavras são o vento que aviva a brasa; quanto mais se fala, mais a brasa arde; quanto mais as pessoas dizem nessa situação, menos refletem e acabam por alterar a voz, de maneira que no fim das contas o que se ouve são grit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3000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960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040" y="3087720"/>
            <a:ext cx="832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7d"/>
                </a:solidFill>
                <a:latin typeface="Arial"/>
              </a:rPr>
              <a:t>Quantas e quantas pessoas não estragam uma relação só porque não souberam a hora certa de falar e a de calar! Quantos desentendimentos por que, querendo se comunicar, acabaram simplesmente cortando a comunicação com palavras vazias e irrefletid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782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5040" y="725400"/>
            <a:ext cx="82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Quando falamos rápido demais, corremos o risco de dizer o que não diríamos se tivéssemos pensado duas vezes. Magoamos assim as pessoas e nos magoamos. O arrependimento que vem em seguida não apaga as palavras, não corrige os erros e deveria nos servir de lição... o que nem sempre aconte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6722" r="0" b="0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5040" y="725400"/>
            <a:ext cx="5426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Poderíamos aprender a contar até 10 ou mesmo 100 antes de responder bruscamente a algo que nos afetou. A resposta não será certamente a mesma depois de passado um tempo. Mas para as pessoas que não conseguem se conter numa discussão, o melhor é o afastamento temporá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É muito melhor pensar sem falar que falar sem pens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8000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1015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1360" y="4221000"/>
            <a:ext cx="837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Uma boa noite de sono pode ser excelente para acalmar. Costuma-se dizer que a noite dá conselhos. Penso que, sobretudo, ela nos dá a oportunidade de, sozinhos, colocar em ordem nossa cabeç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1006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7680" y="2060640"/>
            <a:ext cx="816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ensar duas vezes antes de falar, sim. Mesmo três ou dez se necessário. Ficar em silêncio quando a melhor resposta é o silêncio é dar ao outro a chance de pensar um pouco sobre a situação. Em muitas brigas onde as palavras correm como as águas do rio, freqüentemente chegam a discussão coisas que nem deveriam estar lá. Vai-se desenterrando o passado com palavras e lembranças e isso ao invés de ajudar o presente, só pi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1027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19720" y="649440"/>
            <a:ext cx="448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7d"/>
                </a:solidFill>
                <a:latin typeface="Arial"/>
              </a:rPr>
              <a:t>Às vezes a melhor res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7d"/>
                </a:solidFill>
                <a:latin typeface="Arial"/>
              </a:rPr>
              <a:t>é o silêncio, desde que não seja prolongado o bastante para cortar a comunicação. Ficar dias sem falar com uma pessoa só porque esta está em desacordo com nossa opinião é imaturo. Uma noite é e deve ser o suficiente para que duas pessoas possam se olhar de frente e conversar como adul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9000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17:44:08Z</dcterms:created>
  <dc:creator>Beth Norling</dc:creator>
  <dc:description/>
  <dc:language>en-US</dc:language>
  <cp:lastModifiedBy>Beth Norling</cp:lastModifiedBy>
  <dcterms:modified xsi:type="dcterms:W3CDTF">2007-03-04T20:01:23Z</dcterms:modified>
  <cp:revision>6</cp:revision>
  <dc:subject/>
  <dc:title>A Voz do Silêncio</dc:title>
</cp:coreProperties>
</file>