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26-Pie%20Jesu%20-%20Sarah%20Brightman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04F-F1E6-439E-95B7-D5F9662B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3D1-FC43-413A-A5EE-4F04F6B8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311-7146-4D4E-8D97-C2A1D260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0A2-33A6-4771-9678-BE47933D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6FE-6A54-4AA4-8176-80D94AD8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8FB-98B8-4962-B9FC-16388733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F4A-CA3C-4C04-B45A-A7AC291F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690-0754-4560-98B4-28952205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E0E-E14C-4458-A53F-A586C652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445-377C-4D7F-A71C-9C05285B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C3A-E76F-4D8C-B0B0-1B254D48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A17-9D4F-4753-9F65-B966C7D5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F659-A45E-4440-86E3-57F93E3BF5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3.png"/><Relationship Id="rId6" Type="http://schemas.openxmlformats.org/officeDocument/2006/relationships/audio" Target="../media/26-Pie%20Jesu%20-%20Sarah%20Brightman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87280" y="260280"/>
            <a:ext cx="6985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Apelo em favor dos animais</a:t>
            </a:r>
            <a:endParaRPr b="0" lang="en-US" sz="2400" spc="1" strike="noStrike">
              <a:ln w="1584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42" name="Picture 8" descr="serluz"/>
          <p:cNvPicPr/>
          <p:nvPr/>
        </p:nvPicPr>
        <p:blipFill>
          <a:blip r:embed="rId3"/>
          <a:stretch/>
        </p:blipFill>
        <p:spPr>
          <a:xfrm>
            <a:off x="3348000" y="1484280"/>
            <a:ext cx="2674800" cy="374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anjauau"/>
          <p:cNvPicPr/>
          <p:nvPr/>
        </p:nvPicPr>
        <p:blipFill>
          <a:blip r:embed="rId4"/>
          <a:stretch/>
        </p:blipFill>
        <p:spPr>
          <a:xfrm>
            <a:off x="4427640" y="4724280"/>
            <a:ext cx="1008000" cy="797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"/>
          <p:cNvSpPr/>
          <p:nvPr/>
        </p:nvSpPr>
        <p:spPr>
          <a:xfrm>
            <a:off x="73440" y="5784840"/>
            <a:ext cx="281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ndara"/>
              </a:rPr>
              <a:t>Autor do texto: Cairbar Schu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ndara"/>
              </a:rPr>
              <a:t>Criação de slides: Fabiani Ricob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Candara"/>
              </a:rPr>
              <a:t>Música: Pie Jesu - Sarah Bright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aixaDeTexto 8"/>
          <p:cNvSpPr/>
          <p:nvPr/>
        </p:nvSpPr>
        <p:spPr>
          <a:xfrm>
            <a:off x="3645000" y="6435720"/>
            <a:ext cx="36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Arial Narrow"/>
              </a:rPr>
              <a:t>(Avanço manual, use o mouse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f_Tomorrow_Never_Comes.mp3" descr=""/>
          <p:cNvPicPr/>
          <p:nvPr/>
        </p:nvPicPr>
        <p:blipFill>
          <a:blip r:embed="rId5"/>
          <a:stretch/>
        </p:blipFill>
        <p:spPr>
          <a:xfrm>
            <a:off x="3348000" y="643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6" name="26-Pie%20Jesu%20-%20Sarah%20Brightma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velhice"/>
          <p:cNvPicPr/>
          <p:nvPr/>
        </p:nvPicPr>
        <p:blipFill>
          <a:blip r:embed="rId1"/>
          <a:stretch/>
        </p:blipFill>
        <p:spPr>
          <a:xfrm>
            <a:off x="2195640" y="1341360"/>
            <a:ext cx="4968720" cy="2735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2032920" y="4724280"/>
            <a:ext cx="52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... e repouso na velhic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ovelhinhas"/>
          <p:cNvPicPr/>
          <p:nvPr/>
        </p:nvPicPr>
        <p:blipFill>
          <a:blip r:embed="rId1"/>
          <a:stretch/>
        </p:blipFill>
        <p:spPr>
          <a:xfrm>
            <a:off x="2195640" y="2205000"/>
            <a:ext cx="4973400" cy="3311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71640" y="836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Lembrai-vos de que os animais são seres vivo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118810"/>
          <p:cNvPicPr/>
          <p:nvPr/>
        </p:nvPicPr>
        <p:blipFill>
          <a:blip r:embed="rId1"/>
          <a:stretch/>
        </p:blipFill>
        <p:spPr>
          <a:xfrm>
            <a:off x="3059280" y="692280"/>
            <a:ext cx="3082680" cy="4109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3152160" y="5300640"/>
            <a:ext cx="28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sente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olhar1"/>
          <p:cNvPicPr/>
          <p:nvPr/>
        </p:nvPicPr>
        <p:blipFill>
          <a:blip r:embed="rId1"/>
          <a:stretch/>
        </p:blipFill>
        <p:spPr>
          <a:xfrm>
            <a:off x="3132000" y="1484280"/>
            <a:ext cx="3089520" cy="4321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211920" y="404640"/>
            <a:ext cx="29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pensa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nanando"/>
          <p:cNvPicPr/>
          <p:nvPr/>
        </p:nvPicPr>
        <p:blipFill>
          <a:blip r:embed="rId1"/>
          <a:stretch/>
        </p:blipFill>
        <p:spPr>
          <a:xfrm>
            <a:off x="1692360" y="620640"/>
            <a:ext cx="5832360" cy="3600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783160" y="4365720"/>
            <a:ext cx="349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se cansa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burrinho"/>
          <p:cNvPicPr/>
          <p:nvPr/>
        </p:nvPicPr>
        <p:blipFill>
          <a:blip r:embed="rId1"/>
          <a:stretch/>
        </p:blipFill>
        <p:spPr>
          <a:xfrm>
            <a:off x="3059280" y="1628640"/>
            <a:ext cx="3136680" cy="4292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2053440" y="549360"/>
            <a:ext cx="51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tem força limitad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o1"/>
          <p:cNvPicPr/>
          <p:nvPr/>
        </p:nvPicPr>
        <p:blipFill>
          <a:blip r:embed="rId1"/>
          <a:stretch/>
        </p:blipFill>
        <p:spPr>
          <a:xfrm>
            <a:off x="2124000" y="981000"/>
            <a:ext cx="5156280" cy="3443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083040" y="4941720"/>
            <a:ext cx="32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adoece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olhinhos"/>
          <p:cNvPicPr/>
          <p:nvPr/>
        </p:nvPicPr>
        <p:blipFill>
          <a:blip r:embed="rId1"/>
          <a:stretch/>
        </p:blipFill>
        <p:spPr>
          <a:xfrm>
            <a:off x="2195640" y="1989000"/>
            <a:ext cx="4895640" cy="3360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696040" y="907920"/>
            <a:ext cx="40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envelhecem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so"/>
          <p:cNvPicPr/>
          <p:nvPr/>
        </p:nvPicPr>
        <p:blipFill>
          <a:blip r:embed="rId1"/>
          <a:stretch/>
        </p:blipFill>
        <p:spPr>
          <a:xfrm>
            <a:off x="2124000" y="907920"/>
            <a:ext cx="4867200" cy="4030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279440" y="5300640"/>
            <a:ext cx="66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sentem falta de carinh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pedindo"/>
          <p:cNvPicPr/>
          <p:nvPr/>
        </p:nvPicPr>
        <p:blipFill>
          <a:blip r:embed="rId1"/>
          <a:stretch/>
        </p:blipFill>
        <p:spPr>
          <a:xfrm>
            <a:off x="2916360" y="1484280"/>
            <a:ext cx="3405240" cy="4537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364400" y="404640"/>
            <a:ext cx="64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sentem falta de atençã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isne1"/>
          <p:cNvPicPr/>
          <p:nvPr/>
        </p:nvPicPr>
        <p:blipFill>
          <a:blip r:embed="rId1"/>
          <a:stretch/>
        </p:blipFill>
        <p:spPr>
          <a:xfrm>
            <a:off x="2340000" y="620640"/>
            <a:ext cx="4608360" cy="3672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95280" y="501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Vós que vedes luzes nestas letras que traçam a evolução espiritual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espiada"/>
          <p:cNvPicPr/>
          <p:nvPr/>
        </p:nvPicPr>
        <p:blipFill>
          <a:blip r:embed="rId1"/>
          <a:stretch/>
        </p:blipFill>
        <p:spPr>
          <a:xfrm>
            <a:off x="2268360" y="907920"/>
            <a:ext cx="4469040" cy="3111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755640" y="458136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Os animais são vossos companhei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de existência terrest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olhar"/>
          <p:cNvPicPr/>
          <p:nvPr/>
        </p:nvPicPr>
        <p:blipFill>
          <a:blip r:embed="rId1"/>
          <a:stretch/>
        </p:blipFill>
        <p:spPr>
          <a:xfrm>
            <a:off x="2268360" y="2060640"/>
            <a:ext cx="4392720" cy="3514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187280" y="620640"/>
            <a:ext cx="64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Como vós, eles vieram progredir, estudar, aprende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eiguice"/>
          <p:cNvPicPr/>
          <p:nvPr/>
        </p:nvPicPr>
        <p:blipFill>
          <a:blip r:embed="rId1"/>
          <a:stretch/>
        </p:blipFill>
        <p:spPr>
          <a:xfrm>
            <a:off x="1979640" y="765000"/>
            <a:ext cx="5111640" cy="3830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685160" y="5013360"/>
            <a:ext cx="599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Sede seus anjos tutelare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voo"/>
          <p:cNvPicPr/>
          <p:nvPr/>
        </p:nvPicPr>
        <p:blipFill>
          <a:blip r:embed="rId1"/>
          <a:stretch/>
        </p:blipFill>
        <p:spPr>
          <a:xfrm>
            <a:off x="1258920" y="2133720"/>
            <a:ext cx="6638760" cy="35589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755640" y="40464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Sede benevolentes para com el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como é benevolente para com todo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o nosso Pai que está nos céus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-100440" y="630864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Monotype Corsiva"/>
              </a:rPr>
              <a:t>Texto: Cairbar Schut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cristo006"/>
          <p:cNvPicPr/>
          <p:nvPr/>
        </p:nvPicPr>
        <p:blipFill>
          <a:blip r:embed="rId1"/>
          <a:stretch/>
        </p:blipFill>
        <p:spPr>
          <a:xfrm>
            <a:off x="2987640" y="333360"/>
            <a:ext cx="3382920" cy="3975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539640" y="449892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Nosso Divino Mestre Jesus, foi a expressão máxima da doçura para com todos os seres viv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Que possamos seguir-lhes este exempl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njauau"/>
          <p:cNvPicPr/>
          <p:nvPr/>
        </p:nvPicPr>
        <p:blipFill>
          <a:blip r:embed="rId1"/>
          <a:stretch/>
        </p:blipFill>
        <p:spPr>
          <a:xfrm>
            <a:off x="3203640" y="333360"/>
            <a:ext cx="2590560" cy="2048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468360" y="265572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eorgia"/>
              </a:rPr>
              <a:t>Dedico esta mensagem a todos os animais e aqueles meus anjos amigos que já partiram para o plano espiritua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39640" y="3933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eorgia"/>
              </a:rPr>
              <a:t>Que Deus abençoe todos vocês e que possam contribuir para a conscientização da importância de ajudar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eorgia"/>
              </a:rPr>
              <a:t>os animais em sua evolução, repassando esta mens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eorgia"/>
              </a:rPr>
              <a:t>a todos seus amig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2440" y="5950080"/>
            <a:ext cx="77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eorgia"/>
              </a:rPr>
              <a:t>Meu muito obrigada!  Um abraço fraterno... Fabia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Figura1"/>
          <p:cNvPicPr/>
          <p:nvPr/>
        </p:nvPicPr>
        <p:blipFill>
          <a:blip r:embed="rId1"/>
          <a:stretch/>
        </p:blipFill>
        <p:spPr>
          <a:xfrm>
            <a:off x="2627280" y="2349360"/>
            <a:ext cx="4021200" cy="332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478800" y="1268280"/>
            <a:ext cx="83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tende compaixão dos pobres animai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avalo1"/>
          <p:cNvPicPr/>
          <p:nvPr/>
        </p:nvPicPr>
        <p:blipFill>
          <a:blip r:embed="rId1"/>
          <a:stretch/>
        </p:blipFill>
        <p:spPr>
          <a:xfrm>
            <a:off x="1908000" y="1052640"/>
            <a:ext cx="5588280" cy="33145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1827720" y="494172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Sede bons para com el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908"/>
          <p:cNvPicPr/>
          <p:nvPr/>
        </p:nvPicPr>
        <p:blipFill>
          <a:blip r:embed="rId1"/>
          <a:stretch/>
        </p:blipFill>
        <p:spPr>
          <a:xfrm>
            <a:off x="2195640" y="2492280"/>
            <a:ext cx="4762440" cy="3162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468360" y="765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como desejais que o Pai Celestial vos cer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de carinho e de amo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passarinho"/>
          <p:cNvPicPr/>
          <p:nvPr/>
        </p:nvPicPr>
        <p:blipFill>
          <a:blip r:embed="rId1"/>
          <a:stretch/>
        </p:blipFill>
        <p:spPr>
          <a:xfrm>
            <a:off x="2916360" y="620640"/>
            <a:ext cx="3600360" cy="3465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290520" y="4724280"/>
            <a:ext cx="863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Não encerreis os pássaros em gaiol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Renunciai às caçad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cães"/>
          <p:cNvPicPr/>
          <p:nvPr/>
        </p:nvPicPr>
        <p:blipFill>
          <a:blip r:embed="rId1"/>
          <a:stretch/>
        </p:blipFill>
        <p:spPr>
          <a:xfrm>
            <a:off x="3276720" y="1773360"/>
            <a:ext cx="2765160" cy="4103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553760" y="765000"/>
            <a:ext cx="60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Acariciai os vossos animai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quieto"/>
          <p:cNvPicPr/>
          <p:nvPr/>
        </p:nvPicPr>
        <p:blipFill>
          <a:blip r:embed="rId1"/>
          <a:stretch/>
        </p:blipFill>
        <p:spPr>
          <a:xfrm>
            <a:off x="2268360" y="1052640"/>
            <a:ext cx="4724640" cy="3149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643680" y="4869000"/>
            <a:ext cx="79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Dai-lhes remédios na enfermidad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linda"/>
          <p:cNvPicPr/>
          <p:nvPr/>
        </p:nvPicPr>
        <p:blipFill>
          <a:blip r:embed="rId1"/>
          <a:stretch/>
        </p:blipFill>
        <p:spPr>
          <a:xfrm>
            <a:off x="2195640" y="2133720"/>
            <a:ext cx="4757760" cy="3235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1112760" y="907920"/>
            <a:ext cx="69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Monotype Corsiva"/>
              </a:rPr>
              <a:t>...alimento para matar a fom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21:10:05Z</dcterms:created>
  <dc:creator>Humberto A. Silva</dc:creator>
  <dc:description/>
  <cp:keywords>Fabiani Ricobom</cp:keywords>
  <dc:language>en-US</dc:language>
  <cp:lastModifiedBy>Humberto A. Silva</cp:lastModifiedBy>
  <dcterms:modified xsi:type="dcterms:W3CDTF">2010-12-19T21:12:12Z</dcterms:modified>
  <cp:revision>1</cp:revision>
  <dc:subject>Animais</dc:subject>
  <dc:title>Slide 1</dc:title>
</cp:coreProperties>
</file>