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Almir%20Satter%20-%20Tocando%20em%20Frente.wav" ContentType="audio/x-wav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0D8-C5BB-4A65-8181-4C00BEA0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7B1-7811-4507-8D46-F522A931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B1D-3D33-466A-BF60-0CA64A6C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8A0-E220-4F8E-A71D-C085F76B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B0C-D8ED-4B32-AA0E-0913698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DDA-505E-4A24-83F5-9B84F023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8C6-2296-4121-9332-A9C21E10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508-6B50-4F06-8207-2A558DEA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101-AE74-4614-A7F4-2DAA2081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9E8-940D-4A53-82FE-8455B4C0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CCD-4098-4B7A-A67A-800D749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26F-791A-46E1-AE22-75FC7E2F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7F4F-1082-472C-8BAC-E978B60A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9.gif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audio" Target="../media/Almir%20Satter%20-%20Tocando%20em%20Frente.wav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44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46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47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49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60640"/>
            <a:ext cx="9144000" cy="1933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adfee"/>
                </a:solidFill>
                <a:latin typeface="Marquardt"/>
              </a:rPr>
              <a:t>Tocando em Fren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adfee"/>
                </a:solidFill>
                <a:latin typeface="Marquardt"/>
              </a:rPr>
              <a:t>Almir S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52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53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69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70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71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72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74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75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427640" y="3213000"/>
            <a:ext cx="4248000" cy="392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Todo mundo 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Um dia todo mundo ch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Um dia a gente ch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No outro vai emb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78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79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8000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83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84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85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86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87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88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40360" y="2852640"/>
            <a:ext cx="4606920" cy="34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ada um de nó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ompõe a sua 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 cada ser em si car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O dom de ser ca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5661000"/>
            <a:ext cx="468000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De ser fel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92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93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100"/>
                            </p:stCondLst>
                            <p:childTnLst>
                              <p:par>
                                <p:cTn id="1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97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98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99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00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01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02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03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00720" y="3068640"/>
            <a:ext cx="4101840" cy="379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Conhecer as man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as manhã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O sabor das mas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das maçã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06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07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11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12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13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14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15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16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643280" y="2924280"/>
            <a:ext cx="40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m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pul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p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so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3280" y="5661000"/>
            <a:ext cx="403236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 chuva para flo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20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21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25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26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27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28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29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30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31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3141720"/>
            <a:ext cx="58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Ando dev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orque já tive pr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levo esse sorr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orque já chorei de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34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35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39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40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41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42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43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44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140360" y="2852640"/>
            <a:ext cx="4606920" cy="34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ada um de nó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ompõe a sua 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 cada ser em si car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O dom de ser ca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5661000"/>
            <a:ext cx="468000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De ser fel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48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49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100"/>
                            </p:stCondLst>
                            <p:childTnLst>
                              <p:par>
                                <p:cTn id="19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53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254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55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256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257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258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259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pic>
        <p:nvPicPr>
          <p:cNvPr id="260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61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262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endshow"/>
          </p:cNvPr>
          <p:cNvSpPr/>
          <p:nvPr/>
        </p:nvSpPr>
        <p:spPr>
          <a:xfrm>
            <a:off x="6442200" y="4870440"/>
            <a:ext cx="685800" cy="36036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87" h="21600">
                <a:moveTo>
                  <a:pt x="0" y="0"/>
                </a:moveTo>
                <a:lnTo>
                  <a:pt x="41087" y="0"/>
                </a:lnTo>
                <a:lnTo>
                  <a:pt x="41087" y="21600"/>
                </a:lnTo>
                <a:lnTo>
                  <a:pt x="0" y="21600"/>
                </a:lnTo>
                <a:close/>
              </a:path>
              <a:path fill="lightenLess" w="41087" h="21600">
                <a:moveTo>
                  <a:pt x="0" y="0"/>
                </a:moveTo>
                <a:lnTo>
                  <a:pt x="41087" y="0"/>
                </a:lnTo>
                <a:lnTo>
                  <a:pt x="39687" y="1400"/>
                </a:lnTo>
                <a:lnTo>
                  <a:pt x="1400" y="1400"/>
                </a:lnTo>
                <a:close/>
              </a:path>
              <a:path fill="darken" w="41087" h="21600">
                <a:moveTo>
                  <a:pt x="41087" y="0"/>
                </a:moveTo>
                <a:lnTo>
                  <a:pt x="41087" y="21600"/>
                </a:lnTo>
                <a:lnTo>
                  <a:pt x="39687" y="20200"/>
                </a:lnTo>
                <a:lnTo>
                  <a:pt x="39687" y="1400"/>
                </a:lnTo>
                <a:close/>
              </a:path>
              <a:path fill="darkenLess" w="41087" h="21600">
                <a:moveTo>
                  <a:pt x="41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7" y="20200"/>
                </a:lnTo>
                <a:close/>
              </a:path>
              <a:path fill="lighten" w="41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7" h="21600">
                <a:moveTo>
                  <a:pt x="24043" y="10800"/>
                </a:moveTo>
                <a:lnTo>
                  <a:pt x="13537" y="17806"/>
                </a:lnTo>
                <a:lnTo>
                  <a:pt x="13537" y="3794"/>
                </a:lnTo>
                <a:close/>
              </a:path>
              <a:path fill="darken" w="41087" h="21600">
                <a:moveTo>
                  <a:pt x="25888" y="3794"/>
                </a:moveTo>
                <a:lnTo>
                  <a:pt x="25888" y="17806"/>
                </a:lnTo>
                <a:lnTo>
                  <a:pt x="27550" y="17806"/>
                </a:lnTo>
                <a:lnTo>
                  <a:pt x="27550" y="3794"/>
                </a:lnTo>
                <a:close/>
              </a:path>
            </a:pathLst>
          </a:custGeom>
          <a:solidFill>
            <a:srgbClr val="cadfee">
              <a:alpha val="70000"/>
            </a:srgbClr>
          </a:solidFill>
          <a:ln w="6480">
            <a:solidFill>
              <a:srgbClr val="295f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5433840" y="4870440"/>
            <a:ext cx="685800" cy="36036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1087" h="21600">
                <a:moveTo>
                  <a:pt x="0" y="0"/>
                </a:moveTo>
                <a:lnTo>
                  <a:pt x="41087" y="0"/>
                </a:lnTo>
                <a:lnTo>
                  <a:pt x="41087" y="21600"/>
                </a:lnTo>
                <a:lnTo>
                  <a:pt x="0" y="21600"/>
                </a:lnTo>
                <a:close/>
              </a:path>
              <a:path fill="lightenLess" w="41087" h="21600">
                <a:moveTo>
                  <a:pt x="0" y="0"/>
                </a:moveTo>
                <a:lnTo>
                  <a:pt x="41087" y="0"/>
                </a:lnTo>
                <a:lnTo>
                  <a:pt x="39687" y="1400"/>
                </a:lnTo>
                <a:lnTo>
                  <a:pt x="1400" y="1400"/>
                </a:lnTo>
                <a:close/>
              </a:path>
              <a:path fill="darken" w="41087" h="21600">
                <a:moveTo>
                  <a:pt x="41087" y="0"/>
                </a:moveTo>
                <a:lnTo>
                  <a:pt x="41087" y="21600"/>
                </a:lnTo>
                <a:lnTo>
                  <a:pt x="39687" y="20200"/>
                </a:lnTo>
                <a:lnTo>
                  <a:pt x="39687" y="1400"/>
                </a:lnTo>
                <a:close/>
              </a:path>
              <a:path fill="darkenLess" w="41087" h="21600">
                <a:moveTo>
                  <a:pt x="41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7" y="20200"/>
                </a:lnTo>
                <a:close/>
              </a:path>
              <a:path fill="lighten" w="41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7" h="21600">
                <a:moveTo>
                  <a:pt x="13537" y="10800"/>
                </a:moveTo>
                <a:lnTo>
                  <a:pt x="27550" y="3794"/>
                </a:lnTo>
                <a:lnTo>
                  <a:pt x="27550" y="17806"/>
                </a:lnTo>
                <a:close/>
              </a:path>
            </a:pathLst>
          </a:custGeom>
          <a:solidFill>
            <a:srgbClr val="cadfee">
              <a:alpha val="70000"/>
            </a:srgbClr>
          </a:solidFill>
          <a:ln w="6480">
            <a:solidFill>
              <a:srgbClr val="295f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1486080" cy="466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57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58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59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60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61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62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63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16360" y="3141720"/>
            <a:ext cx="58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Ando dev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orque já tive pre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levo esse sorr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orque já chorei de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66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67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2000">
    <p:split dir="out" orient="vert"/>
    <p:sndAc>
      <p:stSnd>
        <p:snd r:embed="rId14" name="Almir%20Satter%20-%20Tocando%20em%20Frente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71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72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73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74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75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76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4000" y="2997360"/>
            <a:ext cx="64785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Hoje me sinto mais for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Mais feliz, quem sa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u só levo a cert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De que muito pouco eu 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5661000"/>
            <a:ext cx="468000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u nada s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80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81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3000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400"/>
                            </p:stCondLst>
                            <p:childTnLst>
                              <p:par>
                                <p:cTn id="3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85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86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87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88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90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91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76720" y="3068640"/>
            <a:ext cx="3598920" cy="379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Conhecer as man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as manhã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O sabor das mas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das maçã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94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95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99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01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02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04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3280" y="2924280"/>
            <a:ext cx="40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m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pul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p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so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5661000"/>
            <a:ext cx="403236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 chuva para flo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08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09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2000"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13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14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15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16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17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18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19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51280" y="3213000"/>
            <a:ext cx="4680000" cy="348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Penso que cumprir a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Seja simples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Compreender a mar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Ir tocando em 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22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23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27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28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29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30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31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32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56000" y="2924280"/>
            <a:ext cx="4175280" cy="392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Como um velho boiadei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Levando a bo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u vou tocando os 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ela longa estrada eu vou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5589720"/>
            <a:ext cx="417528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E estrada eu s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36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37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4000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300"/>
                            </p:stCondLst>
                            <p:childTnLst>
                              <p:par>
                                <p:cTn id="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8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41" name="Animssation1" descr=""/>
          <p:cNvPicPr/>
          <p:nvPr/>
        </p:nvPicPr>
        <p:blipFill>
          <a:blip r:embed="rId4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42" name="Passaros e Aves (172)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43" name="Passaros e Aves (171)" descr=""/>
          <p:cNvPicPr/>
          <p:nvPr/>
        </p:nvPicPr>
        <p:blipFill>
          <a:blip r:embed="rId6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44" name="Passaros e Aves (174)" descr=""/>
          <p:cNvPicPr/>
          <p:nvPr/>
        </p:nvPicPr>
        <p:blipFill>
          <a:blip r:embed="rId7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45" name="Passaros e Aves (170)" descr=""/>
          <p:cNvPicPr/>
          <p:nvPr/>
        </p:nvPicPr>
        <p:blipFill>
          <a:blip r:embed="rId8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46" name="Passaros e Aves (172)" descr=""/>
          <p:cNvPicPr/>
          <p:nvPr/>
        </p:nvPicPr>
        <p:blipFill>
          <a:blip r:embed="rId9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47" name="Passaros e Aves (172)" descr=""/>
          <p:cNvPicPr/>
          <p:nvPr/>
        </p:nvPicPr>
        <p:blipFill>
          <a:blip r:embed="rId10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00720" y="3068640"/>
            <a:ext cx="4101840" cy="379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Conhecer as man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as manhã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O sabor das mass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ec"/>
                </a:solidFill>
                <a:latin typeface="Marquardt"/>
              </a:rPr>
              <a:t>E das maçã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if - Coração (9)" descr=""/>
          <p:cNvPicPr/>
          <p:nvPr/>
        </p:nvPicPr>
        <p:blipFill>
          <a:blip r:embed="rId11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50" name="Gif - Coração (9)" descr=""/>
          <p:cNvPicPr/>
          <p:nvPr/>
        </p:nvPicPr>
        <p:blipFill>
          <a:blip r:embed="rId12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51" name="Gif - Coração (9)" descr=""/>
          <p:cNvPicPr/>
          <p:nvPr/>
        </p:nvPicPr>
        <p:blipFill>
          <a:blip r:embed="rId13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565360"/>
            <a:ext cx="9144000" cy="39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1132600">
            <a:off x="1080720" y="333000"/>
            <a:ext cx="2735280" cy="3600360"/>
          </a:xfrm>
          <a:prstGeom prst="rect">
            <a:avLst/>
          </a:prstGeom>
          <a:solidFill>
            <a:srgbClr val="295f83">
              <a:alpha val="80000"/>
            </a:srgbClr>
          </a:solidFill>
          <a:ln w="38160">
            <a:solidFill>
              <a:srgbClr val="bfd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nimssation1" descr=""/>
          <p:cNvPicPr/>
          <p:nvPr/>
        </p:nvPicPr>
        <p:blipFill>
          <a:blip r:embed="rId3"/>
          <a:stretch/>
        </p:blipFill>
        <p:spPr>
          <a:xfrm rot="21131400">
            <a:off x="0" y="333000"/>
            <a:ext cx="4968720" cy="3684600"/>
          </a:xfrm>
          <a:prstGeom prst="rect">
            <a:avLst/>
          </a:prstGeom>
          <a:ln w="0">
            <a:noFill/>
          </a:ln>
        </p:spPr>
      </p:pic>
      <p:pic>
        <p:nvPicPr>
          <p:cNvPr id="155" name="Passaros e Aves (172)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assaros e Aves (174)" descr=""/>
          <p:cNvPicPr/>
          <p:nvPr/>
        </p:nvPicPr>
        <p:blipFill>
          <a:blip r:embed="rId5"/>
          <a:stretch/>
        </p:blipFill>
        <p:spPr>
          <a:xfrm rot="20255400">
            <a:off x="-468360" y="333000"/>
            <a:ext cx="4762440" cy="447840"/>
          </a:xfrm>
          <a:prstGeom prst="rect">
            <a:avLst/>
          </a:prstGeom>
          <a:ln w="0">
            <a:noFill/>
          </a:ln>
        </p:spPr>
      </p:pic>
      <p:pic>
        <p:nvPicPr>
          <p:cNvPr id="157" name="Passaros e Aves (170)" descr=""/>
          <p:cNvPicPr/>
          <p:nvPr/>
        </p:nvPicPr>
        <p:blipFill>
          <a:blip r:embed="rId6"/>
          <a:stretch/>
        </p:blipFill>
        <p:spPr>
          <a:xfrm flipH="1">
            <a:off x="6119280" y="620640"/>
            <a:ext cx="3024360" cy="1527120"/>
          </a:xfrm>
          <a:prstGeom prst="rect">
            <a:avLst/>
          </a:prstGeom>
          <a:ln w="0">
            <a:noFill/>
          </a:ln>
        </p:spPr>
      </p:pic>
      <p:pic>
        <p:nvPicPr>
          <p:cNvPr id="158" name="Passaros e Aves (171)" descr=""/>
          <p:cNvPicPr/>
          <p:nvPr/>
        </p:nvPicPr>
        <p:blipFill>
          <a:blip r:embed="rId7"/>
          <a:stretch/>
        </p:blipFill>
        <p:spPr>
          <a:xfrm>
            <a:off x="3635280" y="765000"/>
            <a:ext cx="3333960" cy="409680"/>
          </a:xfrm>
          <a:prstGeom prst="rect">
            <a:avLst/>
          </a:prstGeom>
          <a:ln w="0">
            <a:noFill/>
          </a:ln>
        </p:spPr>
      </p:pic>
      <p:pic>
        <p:nvPicPr>
          <p:cNvPr id="159" name="Passaros e Aves (172)" descr=""/>
          <p:cNvPicPr/>
          <p:nvPr/>
        </p:nvPicPr>
        <p:blipFill>
          <a:blip r:embed="rId8"/>
          <a:stretch/>
        </p:blipFill>
        <p:spPr>
          <a:xfrm>
            <a:off x="4427640" y="6308640"/>
            <a:ext cx="5364000" cy="266760"/>
          </a:xfrm>
          <a:prstGeom prst="rect">
            <a:avLst/>
          </a:prstGeom>
          <a:ln w="0">
            <a:noFill/>
          </a:ln>
        </p:spPr>
      </p:pic>
      <p:pic>
        <p:nvPicPr>
          <p:cNvPr id="160" name="Passaros e Aves (172)" descr=""/>
          <p:cNvPicPr/>
          <p:nvPr/>
        </p:nvPicPr>
        <p:blipFill>
          <a:blip r:embed="rId9"/>
          <a:stretch/>
        </p:blipFill>
        <p:spPr>
          <a:xfrm flipH="1">
            <a:off x="-973080" y="6308640"/>
            <a:ext cx="5400720" cy="268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3280" y="2924280"/>
            <a:ext cx="4032360" cy="261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m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pul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p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Pra poder sor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5661000"/>
            <a:ext cx="4032360" cy="97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63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2edf6"/>
                </a:solidFill>
                <a:latin typeface="Marquardt"/>
              </a:rPr>
              <a:t>É preciso a chuva para flo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if - Coração (9)" descr=""/>
          <p:cNvPicPr/>
          <p:nvPr/>
        </p:nvPicPr>
        <p:blipFill>
          <a:blip r:embed="rId10"/>
          <a:stretch/>
        </p:blipFill>
        <p:spPr>
          <a:xfrm>
            <a:off x="25236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64" name="Gif - Coração (9)" descr=""/>
          <p:cNvPicPr/>
          <p:nvPr/>
        </p:nvPicPr>
        <p:blipFill>
          <a:blip r:embed="rId11"/>
          <a:stretch/>
        </p:blipFill>
        <p:spPr>
          <a:xfrm>
            <a:off x="108000" y="6308640"/>
            <a:ext cx="142920" cy="119160"/>
          </a:xfrm>
          <a:prstGeom prst="rect">
            <a:avLst/>
          </a:prstGeom>
          <a:ln w="0">
            <a:noFill/>
          </a:ln>
        </p:spPr>
      </p:pic>
      <p:pic>
        <p:nvPicPr>
          <p:cNvPr id="165" name="Gif - Coração (9)" descr=""/>
          <p:cNvPicPr/>
          <p:nvPr/>
        </p:nvPicPr>
        <p:blipFill>
          <a:blip r:embed="rId12"/>
          <a:stretch/>
        </p:blipFill>
        <p:spPr>
          <a:xfrm>
            <a:off x="395280" y="6308640"/>
            <a:ext cx="142920" cy="119160"/>
          </a:xfrm>
          <a:prstGeom prst="rect">
            <a:avLst/>
          </a:prstGeom>
          <a:ln w="0">
            <a:noFill/>
          </a:ln>
        </p:spPr>
      </p:pic>
    </p:spTree>
  </p:cSld>
  <p:transition advTm="13000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7.40741E-007 L 0 -0.02269 E">
                                      <p:cBhvr>
                                        <p:cTn id="1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9:13:01Z</dcterms:created>
  <dc:creator>hudson</dc:creator>
  <dc:description/>
  <dc:language>en-US</dc:language>
  <cp:lastModifiedBy>hudson</cp:lastModifiedBy>
  <dcterms:modified xsi:type="dcterms:W3CDTF">2010-03-17T19:15:54Z</dcterms:modified>
  <cp:revision>1</cp:revision>
  <dc:subject>GotasdeCrystal@gmail.com - Crystais@pop.com.br</dc:subject>
  <dc:title>Slide 1</dc:title>
</cp:coreProperties>
</file>