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4.jpeg" ContentType="image/jpeg"/>
  <Override PartName="/ppt/media/image13.gif" ContentType="image/gif"/>
  <Override PartName="/ppt/media/image2.png" ContentType="image/png"/>
  <Override PartName="/ppt/media/image4.jpeg" ContentType="image/jpeg"/>
  <Override PartName="/ppt/media/image1.gif" ContentType="image/gif"/>
  <Override PartName="/ppt/media/Ney%20Matogrosso%20-%20Rosa%20de%20Hiroshimaw.wav" ContentType="audio/x-wav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8360" y="652464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Verdana"/>
              </a:rPr>
              <a:t>Colacio.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Ney%20Matogrosso%20-%20Rosa%20de%20Hiroshimaw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308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421000"/>
            <a:ext cx="6842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OLACIO. J 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PRES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2421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4720" y="5589360"/>
            <a:ext cx="729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guarde a rolagem automática dos slide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  <p:sndAc>
      <p:stSnd>
        <p:snd r:embed="rId3" name="Ney%20Matogrosso%20-%20Rosa%20de%20Hiroshima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89000"/>
            <a:ext cx="842472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ROSHIMA RECONSTR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”... Único prédio que suportou a potência de 220 mil toneladas de dinamite da explosão...  Tornou-se o símbolo da reconstruçã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94172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“Dome” foi construído em 1915.  Galeria de Promoção Industrial de Hiroshima, estava a apenas 160 metros do epicentro da bomba, e hoje, simboliza a determinação com que os japoneses souberam superar os horrores de uma épo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que da paz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62064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enotáfio Comemorativo, onde o silêncio e a reverência predominam, fica bem em frente ao Museu da Paz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4869000"/>
            <a:ext cx="8785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É um ponto de oração em nome dos mortos de 1945. Todos os anos, na cerimônia realizada no dia 6 de agosto, são acrescentados os nomes dos últimos que morrem por doenças provocadas pela radi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8900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 sino da paz é tocado pelos visitantes como parte do desejo de paz. A forma de campanário, simboliza o univers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869000"/>
            <a:ext cx="79930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 sino pesa mais de uma tonelada. Ao seu redor está desenhado um mapa do mundo sem os limites nacionais, simbolizando um só mundo... sem fronteir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5300640"/>
            <a:ext cx="93348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260280"/>
            <a:ext cx="78487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ma tocha permanece acesa durante o ano inteiro... “A Chama da Paz”...                          Hiroshima só pretende apagá-la quando todas as armas nucleares sumirem da Ter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22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Paz na Terr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372360" y="5300640"/>
            <a:ext cx="933480" cy="66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6028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AZ NÃO É A AUSÊNCIA DE GUERR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 SIM A PRESENÇA DO AMOR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084640"/>
            <a:ext cx="85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M AVENTURADOS OS PACIFICADORES, 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S SERÃO CHAMADOS  FILHOS DE DEUS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51577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Arial"/>
              </a:rPr>
              <a:t>Apresentação: Colacio.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Arial"/>
              </a:rPr>
              <a:t>Contato: colacio.j@super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Arial"/>
              </a:rPr>
              <a:t>01/08/2009 - 18:00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3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heço Autor d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ens da :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úsica: Rosa de Hiroshima  -  Ney Matogr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20000" y="306864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2781360"/>
            <a:ext cx="48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Monotype Corsiva"/>
              </a:rPr>
              <a:t>HIROSHI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44392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X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CEBIDO POR E-MAIL, DESCONHEÇO A AUTORIA DO MESMO:  CASO VOCÊ CONHEÇA  O AUTOR, ENTRE EM CONTATO QUE LHE DAREI OS DEVIDOS CRÉDITO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89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de agosto de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2ª guerra mundial estava no fi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idade de Hiroshima permanecia intacta. O governo incentivava todos a manter as atividades cotidi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08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japoneses ouviram o alarme indicando a aproximação de um avião inimigo. Às 8h45, a primeira bomba atômica foi lançada sobre um alvo human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189000"/>
            <a:ext cx="7921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exato instante da explosã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édios e vegetação foram desintegrados...          Num raio de 2 quilômetros, do epicentro da explosão, tudo ficou destruído...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157720"/>
            <a:ext cx="79218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ma onda de calor intenso, emitia raios térmicos e radiação ultravioleta. Em segundos... Hiroshima tornou-se um desert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89000"/>
            <a:ext cx="864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s sobreviventes vagavam sem saber o que havia atingido a cidade. Quem estava a um quilômetro do epicentro da explosão teve seu corpo desintegrado. O que aumentou o desespero dos que nunca vieram a confirmar a morte de seus familiar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084640"/>
            <a:ext cx="86421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uem sobreviveu, foi obrigado a conviver com males terríveis.    O calor intenso levou a roupa e a pele das vítimas. Vários incêndios foram causados pelos intensos raios de calor emitidos pela explosão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47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ros e metais derreteram como lavas.                                    Uma chuva preta, oleosa e pesada, caiu ao longo    do d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084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uva radioativa contaminou áreas distantes, matando peixes em lagoas e rios e pessoas que beberam a água contaminada tiveram sérios problemas durante vários m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33336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enário de morte era assustador!                                                   As queimaduras eram tratadas com mercúrio cromo pela falta de medicamento adequ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08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ão se sabe exatamente porque Hiroshima foi escolhida como alvo inaugural da bomba atômica. Uma explicação considerada plausível, é pelo fato de a cidade estar centrada em um v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404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montanhas fariam uma barreira natural, o que ampliaria o poder de impacto da bomba. Conseqüente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8464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heceriam a capacidade de destruição nuclear com mais precisão e aliado à proteção das montanhas, daria a medida exata da destruição da bomba nunca antes tes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508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404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concreto, sobraram os horrores de uma arma nuclear, com potência equivalente a 20 mil tonel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122800"/>
            <a:ext cx="79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nda hoje, passados 64 anos da explosão da 1ª bomba atômica, o número de vítimas continua sendo contabilizado.  Já são 350 mil mo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0304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2:54:15Z</dcterms:created>
  <dc:creator>Colacio.j Slides</dc:creator>
  <dc:description>Desconheço Autor do texto
Imagens da : Internet
Música: Rosa de Hiroshima  -  Ney Matogrosso
Apresentação: Colacio.j
Contato: colacio.j@superig.com.br
Criado em: 01/08/2009 - 18:00hs
</dc:description>
  <dc:language>en-US</dc:language>
  <cp:lastModifiedBy>terminal</cp:lastModifiedBy>
  <dcterms:modified xsi:type="dcterms:W3CDTF">2009-08-01T22:22:35Z</dcterms:modified>
  <cp:revision>21</cp:revision>
  <dc:subject>Apresentção slide</dc:subject>
  <dc:title>Hiroshima</dc:title>
</cp:coreProperties>
</file>