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LIB419~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77840">
            <a:solidFill>
              <a:srgbClr val="0033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72360" y="652464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en-US" sz="800" spc="-1" strike="noStrike">
                <a:solidFill>
                  <a:srgbClr val="ffcc99"/>
                </a:solidFill>
                <a:latin typeface="Arial"/>
              </a:rPr>
              <a:t>Colacio.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9280" y="189000"/>
            <a:ext cx="8785440" cy="3744720"/>
          </a:xfrm>
          <a:prstGeom prst="rect">
            <a:avLst/>
          </a:prstGeom>
          <a:noFill/>
          <a:ln w="63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audio" Target="../media/LIB419~1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4005360"/>
            <a:ext cx="72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COLACIO. J 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PRES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53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Aguarde a rolagem automática dos slid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4076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236000" y="4076640"/>
            <a:ext cx="599760" cy="600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d"/>
    <p:sndAc>
      <p:stSnd>
        <p:snd r:embed="rId3" name="LIB419~1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40000" y="450864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Por favor, limpe o meu interior, me torne melhor, mais cheia de brand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4076640"/>
            <a:ext cx="74185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99"/>
                </a:solidFill>
                <a:latin typeface="바탕"/>
              </a:rPr>
              <a:t>Permita que cresça em mim a humildade, para que através de atos e palavras, eu transforme a rudeza em sensibilidad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99"/>
                </a:solidFill>
                <a:latin typeface="바탕"/>
              </a:rPr>
              <a:t>a inveja em compreensão, a competição em igualdade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바탕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3280" y="4221000"/>
            <a:ext cx="66960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E quando chegar a hora de partir, que leve na bagagem as virtudes da bondade, do amor universal, do despojamento materia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99"/>
                </a:solidFill>
                <a:latin typeface="바탕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63640" y="3962520"/>
            <a:ext cx="568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Quem sabe assim, na escada da evolução, consiga subir um degrau em sua dire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Tenhamos todos uma noite de paz, abençoada por Deus!</a:t>
            </a:r>
            <a:r>
              <a:rPr b="0" lang="en-US" sz="2800" spc="-1" strike="noStrike">
                <a:solidFill>
                  <a:srgbClr val="ffcc99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005360"/>
            <a:ext cx="79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99"/>
                </a:solidFill>
                <a:latin typeface="바탕"/>
              </a:rPr>
              <a:t>Autora Texto: Ilze Soa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99"/>
                </a:solidFill>
                <a:latin typeface="바탕"/>
              </a:rPr>
              <a:t>Imagem da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99"/>
                </a:solidFill>
                <a:latin typeface="바탕"/>
              </a:rPr>
              <a:t>Apresentação: Colacio.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99"/>
                </a:solidFill>
                <a:latin typeface="바탕"/>
              </a:rPr>
              <a:t>Contato: colacio.j@superig.com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99"/>
                </a:solidFill>
                <a:latin typeface="바탕"/>
              </a:rPr>
              <a:t>Visite o site:  http://www.ilzesoares.recantodasletras.com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99"/>
                </a:solidFill>
                <a:latin typeface="바탕"/>
              </a:rPr>
              <a:t>23/11/2010 - 22:00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4221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바탕"/>
              </a:rPr>
              <a:t>Jesus, mestre ama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바탕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164360" y="429264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7560" y="616572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Verdana"/>
              </a:rPr>
              <a:t>Autora Texto: Ilze So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43657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Envolva-me com seu manto de bondade, aumente minha compreensão, reabasteça minhas energia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443700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Me ensine a perdoar e a esquecer as ofensas, limpando  minh'alma para que o amor fl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03280" y="443700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Mestre querido, me dê força e coragem para vencer as provas de cada dia, sem deixar que o fracasso me desanime e me faça desis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4149720"/>
            <a:ext cx="74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Não permita, Senhor, que o ódio e a vingança façam morada em meu coração; que sejam esquecidas todas as decepções, e que o amor me faça entender que somos todos irmão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4292640"/>
            <a:ext cx="58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Não deixe que eu me perca na escuridão da insensibilidade, sem ver o sofrimento dos que me rodei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63640" y="4365720"/>
            <a:ext cx="59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Que eu aprenda a estender a mão, a levar conforto espiritual a quem está, momentaneamente, mais carente do qu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414972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Não permita que a minha fé esmoreça um só instante, pois preciso dela para espalhar o otimismo e a alegria da particip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바탕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22:08:05Z</dcterms:created>
  <dc:creator>Colacio.j Slides</dc:creator>
  <dc:description>Autora Texto: Ilze Soares 
Imagem da internet
Apresentação: Colacio.j
Contato: colacio.j@superig.com.br
Visite o site:  http://www.ilzesoares.recantodasletras.com.br
Criado em:23/11/2010 - 
</dc:description>
  <dc:language>en-US</dc:language>
  <cp:lastModifiedBy>terminal</cp:lastModifiedBy>
  <dcterms:modified xsi:type="dcterms:W3CDTF">2010-11-23T12:05:34Z</dcterms:modified>
  <cp:revision>12</cp:revision>
  <dc:subject>Apresentação slide</dc:subject>
  <dc:title>Jesus Mestre amado - Ilze Soares</dc:title>
</cp:coreProperties>
</file>