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ohn%20williams%20-%20Moon%20river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1D7-798F-4F95-8FEF-537FF5D3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A18-A368-4C85-B5C1-20500C68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5F4-4314-4656-A149-1AEB01C7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6A1-69BE-45ED-8FCC-1463EAA4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7CC-83BB-444E-8212-BDE98CBC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7093-BC26-4E4F-AA93-E6D35E8F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191-9893-4786-B7BC-0EB4DF03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DC1-7078-4504-9DB4-9E53F06F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B36-EBCC-461B-86B1-5905E22D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94B-70AE-4852-86B8-F7132BB1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DEC-4948-47A7-BDFC-455A8764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071-F19A-403A-864B-B4626678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E278-A14F-44AD-8B7F-4B76E6045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ohn%20williams%20-%20Moon%20riv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64000" y="0"/>
            <a:ext cx="374472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 que trazemos e o que levam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Osho </a:t>
            </a:r>
            <a:br>
              <a:rPr sz="2000"/>
            </a:b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Do livro "Mais Pepitas de Ouro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Você vem ao mundo sem coisa alguma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ssim, uma coisa é certa: nada lhe pertence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Você vem absolutamente despido, porém com ilus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É por isso que toda criança nasce com as mãos fechadas, cerradas, acreditando que está trazendo tesouro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- e aqueles punhos estão vazios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randomBar dir="vert"/>
    <p:sndAc>
      <p:stSnd>
        <p:snd r:embed="rId2" name="john%20williams%20-%20Moon%20riv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0"/>
            <a:ext cx="4249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E todos morrem com as mãos aberta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ente morrer com as mãos cerradas - até o momento ninguém consegui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Ou tente nascer com as mãos abertas - ninguém conseguiu també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Nada lhe pertence, então você está preocupado com qual inseguranç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Nada pode ser roubado, nada pode ser tirado de você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udo o que você está usando pertence ao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E um dia você terá que deixar tudo aqu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Você não será capaz de levar coisa alguma com você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5280" y="0"/>
            <a:ext cx="3745080" cy="69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erá que estou no caminho certo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s indicações de que você está no caminho certo são muito simples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)Suas tensões começam a desaparecer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b) Você fica mais e mais senhor de si. Mais e mais calmo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) Encontrará beleza em coisas que jamais concebeu pudessem ser bela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) As menores coisas começarão a ter imenso significado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e) O mundo inteiro se tornará mais e mais misterioso a cada dia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2000">
    <p:randomBa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476280"/>
            <a:ext cx="43196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f) Você se tornará menos e menos culto e mais e mais inocente - como uma criança correndo atrás de borboletas, ou pegando conchas do mar numa praia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g) Você sentirá a vida não como um problema, mas como uma dádiva, uma benção, uma gra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Essas indicações crescerão continuamente se você estiver na pista ce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Baste-se!  Não dependa de nada para ser fel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Você tem a VID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4797360"/>
            <a:ext cx="2737080" cy="1128960"/>
          </a:xfrm>
          <a:prstGeom prst="rect">
            <a:avLst/>
          </a:prstGeom>
          <a:solidFill>
            <a:srgbClr val="ffff99">
              <a:alpha val="15000"/>
            </a:srgbClr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Música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john williams - Moon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Montagem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99"/>
                </a:solidFill>
                <a:latin typeface="Arial"/>
              </a:rPr>
              <a:t>maricarusocunha@terra.com.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99"/>
                </a:solidFill>
                <a:latin typeface="Arial"/>
              </a:rPr>
              <a:t>www.pranos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11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83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2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2:14:29Z</dcterms:created>
  <dc:creator>MARI CARUSO CUNHA</dc:creator>
  <dc:description/>
  <dc:language>en-US</dc:language>
  <cp:lastModifiedBy>MARI</cp:lastModifiedBy>
  <dcterms:modified xsi:type="dcterms:W3CDTF">2005-10-19T13:26:52Z</dcterms:modified>
  <cp:revision>6</cp:revision>
  <dc:subject>Comportamento II</dc:subject>
  <dc:title>O Que Trazemos E O Que Levamos</dc:title>
</cp:coreProperties>
</file>