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Jim%20Brickman%20-%20One%20And%20Only.cut16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C7C-8CA9-4D46-8C78-6FA3D74C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F93-1FD4-4B45-9DB8-DB1DBC23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803-3A64-4B03-B2CA-CE385705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E5B-3587-4563-B4E8-1D72F548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574-2A84-4934-A043-92FD3C85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049-41E0-4D65-A0D3-CF1AC308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7C0-05F6-42E0-A2A1-8A9046B0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61E-4E86-4D46-8850-A85E8AA0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918-292C-4D16-B8EB-E7FC8BB5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4A9-BD84-4EDA-A314-C72114D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183-F128-4A40-8CDD-E1D3150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719-0251-4DD9-A55B-DD3B546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A2A3-25BD-48DC-99CF-875B485EC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Jim%20Brickman%20-%20One%20And%20Only.cut1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611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b3409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2590920" y="464832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989898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9898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762120"/>
            <a:ext cx="7162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989898"/>
                  </a:outerShdw>
                </a:effectLst>
                <a:latin typeface="Book Antiqua"/>
              </a:rPr>
              <a:t>Ano novo, vida nova</a:t>
            </a:r>
            <a:endParaRPr b="1" i="1" lang="en-US" sz="72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9898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762120"/>
            <a:ext cx="7162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000098"/>
                  </a:outerShdw>
                </a:effectLst>
                <a:latin typeface="Book Antiqua"/>
              </a:rPr>
              <a:t>Ano novo, vida nova</a:t>
            </a:r>
            <a:endParaRPr b="1" i="1" lang="en-US" sz="7200" spc="1" strike="noStrike">
              <a:ln w="0">
                <a:noFill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0000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90920" y="464832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000098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000098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18000">
    <p:randomBar dir="vert"/>
    <p:sndAc>
      <p:stSnd>
        <p:snd r:embed="rId2" name="Jim%20Brickman%20-%20One%20And%20Only.cut16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d0583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33520"/>
            <a:ext cx="6934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8bd83"/>
                </a:solidFill>
                <a:latin typeface="Copperplate Gothic Light"/>
              </a:rPr>
              <a:t>E por alguns segundos o mundo faz uma pausa... conta-se regressivamente até que explodam nos céus fogos de artifício anunciando um novo ano!... E tudo recomeça!!! Aparentemente nada mudou. Um dia não faz diferença do outro, mesmo se as datas mudam, se o ano muda. Mas somos nós sim, hoje, mais vividos e experientes que ontem. Somos nós trazendo na bagagem nossas histórias que, querendo ou não, acabam contribuindo para a história da humanidade. Somos nós cheios de promessas a nós, aos outr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2d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8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00122665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8580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bd83"/>
                </a:solidFill>
                <a:latin typeface="Copperplate Gothic Light"/>
                <a:ea typeface="Arial"/>
              </a:rPr>
              <a:t>Para se recomeçar alguma coisa, é necessário estabelecer metas, criar sonhos, se inventar objetivos, fazer planos e trabalhar por eles. Sem isso, estacamos e a vida perde o senso. Se alguém se perde num oceano e não vê nada, se afoga, mas enquanto tiver a visão de uma ilha, ele vai lutar para chegar a ela. E nesse mar da vida, nossa ilha são nossos objetivos, que nos motivam e dão sentido a tudo o que fazemos. Certo, tudo o que planejamos não se realizará nos próximos trezentos e sessenta e cinco di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ae3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e9920-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76212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8bd83"/>
                </a:solidFill>
                <a:latin typeface="Copperplate Gothic Light"/>
                <a:ea typeface="Arial"/>
              </a:rPr>
              <a:t>Mas quão grande é a alegria do jardineiro ao ver brotar ao menos uma flor na terra onde laborou com todo o seu coração!!! Se pelo menos um dos nossos grandes sonhos for levado adiante, por ele vai ter valido a pena todo o esforço da caminhada. Nunca diga que seu sonho é inacessível se você ainda não deu o máximo do que pode por ele! Não pense que uma estrela é inalcançável por que você está na terra e ela no céu. A vida tem mistérios insondáveis e poder apreciar o brilho dela já é o primeiro passo para trazê-la até voc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9e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1807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088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bd83"/>
                </a:solidFill>
                <a:latin typeface="Copperplate Gothic Light"/>
                <a:ea typeface="Arial"/>
              </a:rPr>
              <a:t>Deus nos fornece todas as ferramentas de que precisamos para construir nossa vida, mas a nós cabe o uso dessas. Lembre-se que o amor é a única chave que abre todas as portas. Não olhe para os lados para ver se seu vizinho corre mais que você, constrói melhor ou pior. O tempo que você perde com isso poderia ser aproveitado para que você avance. Concentre-se no seu trabalho e na sua meta. O mais importante é chegar ao fim. Um ano novo pode não significar uma vida nova, mas nada impede que você tenha uma vida renov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257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bd83"/>
                </a:solidFill>
                <a:latin typeface="Copperplate Gothic Light"/>
              </a:rPr>
              <a:t>E isso é tudo o que eu desejo para você! Tenha um renovado Ano Nov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9e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3808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cc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cc"/>
                </a:solidFill>
                <a:latin typeface="Times New Roman"/>
              </a:rPr>
              <a:t>Jim Brickman - 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1600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99cc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cc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99cc"/>
                </a:solidFill>
                <a:uFillTx/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99cc"/>
                </a:solidFill>
                <a:uFillTx/>
                <a:latin typeface="Times New Roman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9cc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38:39Z</dcterms:created>
  <dc:creator>ssoliver@terra.com.br </dc:creator>
  <dc:description>Texto: Letícia Thompson 
Natal, Ano novo</dc:description>
  <dc:language>en-US</dc:language>
  <cp:lastModifiedBy>Sérgio S. Oliver</cp:lastModifiedBy>
  <dcterms:modified xsi:type="dcterms:W3CDTF">2004-11-24T01:52:50Z</dcterms:modified>
  <cp:revision>3</cp:revision>
  <dc:subject>PPS</dc:subject>
  <dc:title>Ano novo, vida nova</dc:title>
</cp:coreProperties>
</file>