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Jim%20Brickman%20-%20One%20And%20Only.cut16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CFF-5DB0-4F83-8552-A7E82A55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0D9-941E-4CCB-8B11-75C61B51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4A4-33BA-4355-86B6-C1B2DD34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AF0-83CC-4A8B-9F7D-D3D86B4B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108-8F0E-46DA-9B39-9A8DC037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DAF-D120-49BC-8653-7A17981B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448-5F49-4077-93F1-6C02137E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9AA-F508-442E-A306-78D263A7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F35-E46E-4BAB-AF1F-C8AC8846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8F5-D67A-4F68-AEE6-C61C9285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8A5-D62D-4A36-9928-B793FB4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472-2A04-4D92-9BC1-8269F2BD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03B8-D26F-4B2B-98FF-FD2858E5B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Jim%20Brickman%20-%20One%20And%20Only.cut1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611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b3409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2590920" y="464832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989898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9898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762120"/>
            <a:ext cx="7162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effectLst>
                  <a:outerShdw dist="17819" dir="2700000" blurRad="0" rotWithShape="0">
                    <a:srgbClr val="989898"/>
                  </a:outerShdw>
                </a:effectLst>
                <a:latin typeface="Book Antiqua"/>
              </a:rPr>
              <a:t>Ano novo, vida nova</a:t>
            </a:r>
            <a:endParaRPr b="1" i="1" lang="en-US" sz="72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effectLst>
                <a:outerShdw dist="17819" dir="2700000" blurRad="0" rotWithShape="0">
                  <a:srgbClr val="9898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762120"/>
            <a:ext cx="71629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000098"/>
                  </a:outerShdw>
                </a:effectLst>
                <a:latin typeface="Book Antiqua"/>
              </a:rPr>
              <a:t>Ano novo, vida nova</a:t>
            </a:r>
            <a:endParaRPr b="1" i="1" lang="en-US" sz="7200" spc="1" strike="noStrike">
              <a:ln w="0">
                <a:noFill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0000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90920" y="464832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000098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000098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18000">
    <p:randomBar dir="vert"/>
    <p:sndAc>
      <p:stSnd>
        <p:snd r:embed="rId2" name="Jim%20Brickman%20-%20One%20And%20Only.cut16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d0583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33520"/>
            <a:ext cx="6934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8bd83"/>
                </a:solidFill>
                <a:latin typeface="Copperplate Gothic Light"/>
              </a:rPr>
              <a:t>E por alguns segundos o mundo faz uma pausa... conta-se regressivamente até que explodam nos céus fogos de artifício anunciando um novo ano!... E tudo recomeça!!! Aparentemente nada mudou. Um dia não faz diferença do outro, mesmo se as datas mudam, se o ano muda. Mas somos nós sim, hoje, mais vividos e experientes que ontem. Somos nós trazendo na bagagem nossas histórias que, querendo ou não, acabam contribuindo para a história da humanidade. Somos nós cheios de promessas a nós, aos outr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2d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8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00122665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8580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bd83"/>
                </a:solidFill>
                <a:latin typeface="Copperplate Gothic Light"/>
                <a:ea typeface="Arial"/>
              </a:rPr>
              <a:t>Para se recomeçar alguma coisa, é necessário estabelecer metas, criar sonhos, se inventar objetivos, fazer planos e trabalhar por eles. Sem isso, estacamos e a vida perde o senso. Se alguém se perde num oceano e não vê nada, se afoga, mas enquanto tiver a visão de uma ilha, ele vai lutar para chegar a ela. E nesse mar da vida, nossa ilha são nossos objetivos, que nos motivam e dão sentido a tudo o que fazemos. Certo, tudo o que planejamos não se realizará nos próximos trezentos e sessenta e cinco di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ae3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e9920-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76212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8bd83"/>
                </a:solidFill>
                <a:latin typeface="Copperplate Gothic Light"/>
                <a:ea typeface="Arial"/>
              </a:rPr>
              <a:t>Mas quão grande é a alegria do jardineiro ao ver brotar ao menos uma flor na terra onde laborou com todo o seu coração!!! Se pelo menos um dos nossos grandes sonhos for levado adiante, por ele vai ter valido a pena todo o esforço da caminhada. Nunca diga que seu sonho é inacessível se você ainda não deu o máximo do que pode por ele! Não pense que uma estrela é inalcançável por que você está na terra e ela no céu. A vida tem mistérios insondáveis e poder apreciar o brilho dela já é o primeiro passo para trazê-la até voc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9e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1807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088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bd83"/>
                </a:solidFill>
                <a:latin typeface="Copperplate Gothic Light"/>
                <a:ea typeface="Arial"/>
              </a:rPr>
              <a:t>Deus nos fornece todas as ferramentas de que precisamos para construir nossa vida, mas a nós cabe o uso dessas. Lembre-se que o amor é a única chave que abre todas as portas. Não olhe para os lados para ver se seu vizinho corre mais que você, constrói melhor ou pior. O tempo que você perde com isso poderia ser aproveitado para que você avance. Concentre-se no seu trabalho e na sua meta. O mais importante é chegar ao fim. Um ano novo pode não significar uma vida nova, mas nada impede que você tenha uma vida renov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257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bd83"/>
                </a:solidFill>
                <a:latin typeface="Copperplate Gothic Light"/>
              </a:rPr>
              <a:t>E isso é tudo o que eu desejo para você! Tenha um renovado Ano Nov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9e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3808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cc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cc"/>
                </a:solidFill>
                <a:latin typeface="Times New Roman"/>
              </a:rPr>
              <a:t>Jim Brickman - 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160020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99cc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cc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99cc"/>
                </a:solidFill>
                <a:uFillTx/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99cc"/>
                </a:solidFill>
                <a:uFillTx/>
                <a:latin typeface="Times New Roman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99cc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38:39Z</dcterms:created>
  <dc:creator>ssoliver@terra.com.br </dc:creator>
  <dc:description>Texto: Letícia Thompson 
Natal, Ano novo</dc:description>
  <dc:language>en-US</dc:language>
  <cp:lastModifiedBy>Sérgio S. Oliver</cp:lastModifiedBy>
  <dcterms:modified xsi:type="dcterms:W3CDTF">2004-11-24T01:52:50Z</dcterms:modified>
  <cp:revision>3</cp:revision>
  <dc:subject>PPS</dc:subject>
  <dc:title>Ano novo, vida nova</dc:title>
</cp:coreProperties>
</file>