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Gloria%20Stefan%20-%20Reach%20(Tema%20Olimpiadas)1.wav" ContentType="audio/x-wav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FE2-5779-4AE3-8F10-E7BB98A3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602-DF4B-439D-B809-572DB389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E74-463F-4A7A-A8E0-988AB4B5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E94A-79B5-45BA-BA7B-28D38F1F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5DA-A113-4DD9-988C-23EA2E8A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AE3F-846E-493C-87E3-D9D0AF55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0C0D-FACE-44D8-820E-25A24331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31C8-5378-47AD-9839-C47D2574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51B-B090-49FF-99AD-3DD66E61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A85-AB5D-4E2D-9D3F-F9124356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57F5-2F70-4B57-939C-FE768176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E4F3-43C8-4E69-B363-5227F19F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8BF6-F793-4E44-BDF3-B002E77A1E5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Gloria%20Stefan%20-%20Reach%20(Tema%20Olimpiadas)1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mailto:ssoliver@terra.com.br" TargetMode="External"/><Relationship Id="rId3" Type="http://schemas.openxmlformats.org/officeDocument/2006/relationships/hyperlink" Target="mailto:ssoliver@terra.com.br" TargetMode="External"/><Relationship Id="rId4" Type="http://schemas.openxmlformats.org/officeDocument/2006/relationships/hyperlink" Target="http://www.leticiathompson.net/" TargetMode="External"/><Relationship Id="rId5" Type="http://schemas.openxmlformats.org/officeDocument/2006/relationships/hyperlink" Target="http://www.leticiathompson.net/" TargetMode="External"/><Relationship Id="rId6" Type="http://schemas.openxmlformats.org/officeDocument/2006/relationships/image" Target="../media/image8.jpeg"/><Relationship Id="rId7" Type="http://schemas.openxmlformats.org/officeDocument/2006/relationships/hyperlink" Target="mailto:ssoliver@terra.com.br?Body=Envio somente de mensagens em pps.&amp;Subject=Desejo receber outras mensagens." TargetMode="External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20837400">
            <a:off x="457200" y="1143000"/>
            <a:ext cx="384804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Tempo!</a:t>
            </a:r>
            <a:endParaRPr b="1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Bar dir="vert"/>
    <p:sndAc>
      <p:stSnd>
        <p:snd r:embed="rId4" name="Gloria%20Stefan%20-%20Reach%20(Tema%20Olimpiadas)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3124080"/>
            <a:ext cx="6629400" cy="327672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200400"/>
            <a:ext cx="7162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pperplate Gothic Bold"/>
                <a:ea typeface="Times New Roman"/>
              </a:rPr>
              <a:t>Tempo! Bendito tempo, que as dores sempre acalma, que aquieta as más lembranças, que preserva a criança</a:t>
            </a:r>
            <a:br>
              <a:rPr sz="2400"/>
            </a:br>
            <a:r>
              <a:rPr b="1" lang="en-US" sz="2400" spc="-1" strike="noStrike">
                <a:solidFill>
                  <a:srgbClr val="99cc00"/>
                </a:solidFill>
                <a:latin typeface="Copperplate Gothic Bold"/>
                <a:ea typeface="Times New Roman"/>
              </a:rPr>
              <a:t>que levo escondida n’alma. Tempo! Maldito tempo, que marca meu rosto com garras, que passa sobre meus sonhos, que rasga a mágica tênue da vida que se esvai nas flo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276720"/>
            <a:ext cx="8305920" cy="320040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35268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pperplate Gothic Bold"/>
                <a:ea typeface="Times New Roman"/>
              </a:rPr>
              <a:t>Tempo, pudesse te dominar, sem medo, sem pejo de nada, um tango iria dançar e enfeitar de alegria os minutos que em mim se abrindo nunca iriam passar. Ah, tempo, pudesse te segurar bem firme entre meus dedos, fixaria poentes com cores de obra-prima, teceria belos casulos de luar e de neblina para meus segredos guard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228600"/>
            <a:ext cx="8153280" cy="358128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049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cc00"/>
                </a:solidFill>
                <a:latin typeface="Copperplate Gothic Bold"/>
                <a:ea typeface="Times New Roman"/>
              </a:rPr>
              <a:t>E os bem-te-vís, os ouviria cantar, sem pressa, parada no cais, lembrando quem bem-me-viu, tu levaste em tuas asas para o mundo do nunca mais. Tempo, não tires assim meu alento, preciso já construir as pontes dos bons intentos, romper distâncias, calar o pranto enquanto busco o amor, que tu de maldade escondeste nas trevas do desencon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7000">
    <p:randomBa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228600"/>
            <a:ext cx="8305920" cy="327672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0492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pperplate Gothic Bold"/>
                <a:ea typeface="Times New Roman"/>
              </a:rPr>
              <a:t>Tempo, fique mais, quero rever o mar, de longe e de perto amar desfolhar muitos azuis, resplandecer em auroras esquecida que nas horas estás sempre a passar. Por fim, como anjo vadio, planando sem eira nem beira, sobre abismos de saudade, hei de mostrar-te a verdade: não podes comigo, tempo, sou filha da etern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42591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pperplate Gothic Bold"/>
                <a:ea typeface="Times New Roman"/>
              </a:rPr>
              <a:t>Maria Lucia Vi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8000"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600"/>
                            </p:stCondLst>
                            <p:childTnLst>
                              <p:par>
                                <p:cTn id="5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66ff"/>
                </a:solidFill>
                <a:latin typeface="Garamond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66ff"/>
                </a:solidFill>
                <a:latin typeface="Garamond"/>
              </a:rPr>
              <a:t>Gloria Stefan - Reach</a:t>
            </a:r>
            <a:r>
              <a:rPr b="1" lang="pt-BR" sz="2400" spc="-1" strike="noStrike">
                <a:solidFill>
                  <a:srgbClr val="cccc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2590920"/>
            <a:ext cx="701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soliver@terra.com.</a:t>
            </a:r>
            <a:r>
              <a:rPr b="0" lang="pt-BR" sz="6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65760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66ff"/>
                </a:solidFill>
                <a:latin typeface="Garamond"/>
              </a:rPr>
              <a:t>Visite o Site: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BE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</a:t>
            </a:r>
            <a:r>
              <a:rPr b="0" lang="fr-BE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leticiathompson.ne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20825400">
            <a:off x="3266640" y="1220400"/>
            <a:ext cx="282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Garamond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5334120"/>
            <a:ext cx="2571840" cy="550440"/>
          </a:xfrm>
          <a:prstGeom prst="flowChartAlternateProcess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P/ receber outras mensa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486400"/>
            <a:ext cx="2320920" cy="623160"/>
          </a:xfrm>
          <a:prstGeom prst="flowChartAlternateProcess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Garamond"/>
              </a:rPr>
              <a:t>Reinic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5486400"/>
            <a:ext cx="2362320" cy="561600"/>
          </a:xfrm>
          <a:prstGeom prst="flowChartAlternateProcess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100"/>
                            </p:stCondLst>
                            <p:childTnLst>
                              <p:par>
                                <p:cTn id="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4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800"/>
                            </p:stCondLst>
                            <p:childTnLst>
                              <p:par>
                                <p:cTn id="7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825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125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625"/>
                            </p:stCondLst>
                            <p:childTnLst>
                              <p:par>
                                <p:cTn id="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05:50:05Z</dcterms:created>
  <dc:creator>ssoliver@terra.com.br </dc:creator>
  <dc:description/>
  <dc:language>en-US</dc:language>
  <cp:lastModifiedBy>Leticia Thompson</cp:lastModifiedBy>
  <dcterms:modified xsi:type="dcterms:W3CDTF">2004-11-02T21:51:33Z</dcterms:modified>
  <cp:revision>6</cp:revision>
  <dc:subject>PPS</dc:subject>
  <dc:title>Tempo</dc:title>
</cp:coreProperties>
</file>