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Ernesto%20Cortazar%20-%20Good%20Morning%20My%20Love26.wav" ContentType="audio/x-wav"/>
  <Override PartName="/ppt/media/image21.jpeg" ContentType="image/jpeg"/>
  <Override PartName="/ppt/media/image6.jpeg" ContentType="image/jpeg"/>
  <Override PartName="/ppt/media/image27.jpeg" ContentType="image/jpeg"/>
  <Override PartName="/ppt/media/image33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3.gif" ContentType="image/gif"/>
  <Override PartName="/ppt/media/image2.jpeg" ContentType="image/jpeg"/>
  <Override PartName="/ppt/media/image23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32FF-40ED-4F33-A825-5E3CEACD7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5A8A-B441-4699-B2D1-CD5EA656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D92E-3526-4584-8F61-F1E80FDB5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3B1C-8E4B-4ADB-BA83-29336CC98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512C-734A-4A6C-BEFE-F3799A7F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4649-25D5-4B40-8594-644092BE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C815-7013-4397-ACBF-3DFDCFDB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ABBE-55DE-47E2-ACD9-02D841D7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14D3-4BFE-4DBD-9D90-46B028B9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AC2A-684D-49B7-AC1C-1BA35098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7852-FF73-488B-8554-F29D2A9B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759B-88F6-4486-AF6E-75AE0993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1C15-0A00-4D67-A510-DE3FC0F7F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audio" Target="../media/Ernesto%20Cortazar%20-%20Good%20Morning%20My%20Love26.wav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mailto:joserobertocordeiro@gmail.com" TargetMode="External"/><Relationship Id="rId3" Type="http://schemas.openxmlformats.org/officeDocument/2006/relationships/hyperlink" Target="http://robertogenio38.4shared.com/" TargetMode="External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539640" y="404640"/>
            <a:ext cx="8136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53753" dir="2700000" blurRad="0" rotWithShape="0">
                    <a:srgbClr val="ffffff">
                      <a:alpha val="50000"/>
                    </a:srgbClr>
                  </a:outerShdw>
                </a:effectLst>
                <a:latin typeface="Arial Black"/>
              </a:rPr>
              <a:t>VENDE-SE ILH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53753" dir="2700000" blurRad="0" rotWithShape="0">
                  <a:srgbClr val="ffff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0" y="5950080"/>
            <a:ext cx="1143000" cy="761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7715160" y="5952960"/>
            <a:ext cx="1428840" cy="905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6" name="Ernesto%20Cortazar%20-%20Good%20Morning%20My%20Love26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69120"/>
            <a:ext cx="9036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lha Particular – Angra dos Reis         Localização: Na baia da Ilha Grande , Afastada 2,3 km do Continente e a Somente 80 metros da Ilha da Gipóia , em Angra dos Reis.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mensões: Um total 114.000 m2 de área , 100% particular,sendo aproximadamente 99% de mata atlântica e 1.380  m2 de área construída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comodações: Casa Sede Composta de Sala de Estar , Jantar , Jogos , Home Theather , Academia , Spa, Sauna , Úmida , e Adega Subterrânea  5 Suítes com Arandas em Bangalôs sendo a Suíte Máster de 135m2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ila de Serviço com Oficina  Lavanderia e Acomodações para 12 Funcionários Acomodações para Marinheiros e Pilotos.  Pier de Atracação para Qualquer Tamanho de Embarcação.  .Heliponto Homologado pela ANAC Diurno e Noturno (iluminado)  5 Toneladas para 2 Helicópteros 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rilhas e Caminhadas com  2,6km de extensão 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 Píer com Profundidade para Embarcações de todos os tipos de Calado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uz e Água Potável.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EÇO:  (12.000.000,00  DOZE MILHÕES DE EUROS)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958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147760" y="4941720"/>
            <a:ext cx="4848480" cy="146556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Formatação: </a:t>
            </a: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oserobertocordeiro@g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</a:rPr>
              <a:t>http://www,slideshare.net/JRCordeiroP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robertogenio38.4shared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Música: Good Morning/ E. Cortaz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Baia da Ilha Grande/Rio de Janeiro/Bras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7T17:31:41Z</dcterms:created>
  <dc:creator>Roberto</dc:creator>
  <dc:description/>
  <dc:language>en-US</dc:language>
  <cp:lastModifiedBy>Roberto</cp:lastModifiedBy>
  <dcterms:modified xsi:type="dcterms:W3CDTF">2008-09-27T18:37:10Z</dcterms:modified>
  <cp:revision>3</cp:revision>
  <dc:subject/>
  <dc:title>Slide 1</dc:title>
</cp:coreProperties>
</file>