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3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sound001-andromeda.wav" ContentType="audio/x-wav"/>
  <Override PartName="/ppt/media/image1.jpeg" ContentType="image/jpeg"/>
  <Override PartName="/ppt/media/image7.png" ContentType="image/png"/>
  <Override PartName="/ppt/media/image1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05A4-AF4B-4A92-9551-7EB9099ED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2C75-2AF2-43BF-B64E-4228A281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220D-C21B-44C4-898A-717C2DBDC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27EC-34A5-4990-BD86-70DAA78BA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B684-E3E8-4832-9270-1B1895E5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86CB-5EF6-4D42-B7A9-79F034F3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B17D-B831-48C6-8A99-2722B098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AB1C-7846-49DB-ABE8-E93D1A8B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F6E4-82F5-420D-A711-88369296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3523-00D1-4978-8C4E-FDF2390D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3BCD-7ECF-4BF3-984A-E5EC304D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2EC2-AB02-4923-BA76-EC7D07A9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7EE5-D06C-472D-957F-D12B72662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sound001-andromeda.wav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4000" y="1916280"/>
            <a:ext cx="358452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ei da Caus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140360" y="692280"/>
            <a:ext cx="1060200" cy="5730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0" y="3213000"/>
            <a:ext cx="266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 rot="20665200">
            <a:off x="5866920" y="3141720"/>
            <a:ext cx="226692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19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fei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914400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4" name="sound001-andromed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7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84360" y="1268280"/>
            <a:ext cx="7775280" cy="4389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7596360" y="404640"/>
            <a:ext cx="1049040" cy="5724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539640" y="476280"/>
            <a:ext cx="1049400" cy="5724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2268360" y="2492280"/>
            <a:ext cx="4535640" cy="1919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0"/>
            <a:ext cx="914400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84360" y="1268280"/>
            <a:ext cx="7775280" cy="4389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7596360" y="404640"/>
            <a:ext cx="1049040" cy="5724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539640" y="476280"/>
            <a:ext cx="1049400" cy="5724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2050920" y="2133720"/>
            <a:ext cx="4973760" cy="2528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0"/>
            <a:ext cx="89647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971640" y="1341360"/>
            <a:ext cx="7343640" cy="43894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987640" y="2781360"/>
            <a:ext cx="32400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exto: Deepak Chopra</a:t>
            </a:r>
            <a:endParaRPr b="0" lang="en-US" sz="2000" spc="1" strike="noStrike">
              <a:ln w="1260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   </a:t>
            </a:r>
            <a:r>
              <a:rPr b="0" lang="en-US" sz="2000" spc="1" strike="noStrike">
                <a:ln w="1260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3ª parte   </a:t>
            </a:r>
            <a:endParaRPr b="0" lang="en-US" sz="2000" spc="1" strike="noStrike">
              <a:ln w="12600">
                <a:solidFill>
                  <a:srgbClr val="ff66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66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ormatação: Mary Costa</a:t>
            </a:r>
            <a:endParaRPr b="0" lang="en-US" sz="2000" spc="1" strike="noStrike">
              <a:ln w="12600">
                <a:solidFill>
                  <a:srgbClr val="ff6600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1"/>
          <a:stretch/>
        </p:blipFill>
        <p:spPr>
          <a:xfrm>
            <a:off x="3924360" y="549360"/>
            <a:ext cx="1060560" cy="5730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2"/>
          <a:stretch/>
        </p:blipFill>
        <p:spPr>
          <a:xfrm>
            <a:off x="3780000" y="692280"/>
            <a:ext cx="1223640" cy="5730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0"/>
            <a:ext cx="9144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77778E-006 3.33333E-006 L -0.3809 0.00208 E">
                                      <p:cBhvr>
                                        <p:cTn id="99" dur="5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1198 -0.01875 L 0.40573 -0.00833 E">
                                      <p:cBhvr>
                                        <p:cTn id="101" dur="5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6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26920" y="1197000"/>
            <a:ext cx="7490160" cy="4389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411280" y="2133720"/>
            <a:ext cx="4321440" cy="2528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924360" y="404640"/>
            <a:ext cx="1049400" cy="5724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3924360" y="404640"/>
            <a:ext cx="1049400" cy="5724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" dur="7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11111E-006 L -0.38802 0.00255 E">
                                      <p:cBhvr>
                                        <p:cTn id="22" dur="7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81481E-006 L 0.40955 4.81481E-006 E">
                                      <p:cBhvr>
                                        <p:cTn id="24" dur="7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4360" y="1268280"/>
            <a:ext cx="7775280" cy="4389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596360" y="404640"/>
            <a:ext cx="1049040" cy="5724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39640" y="476280"/>
            <a:ext cx="1049400" cy="5724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2195640" y="2133720"/>
            <a:ext cx="4754520" cy="2528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0"/>
            <a:ext cx="896472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84360" y="1268280"/>
            <a:ext cx="7775280" cy="4389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596360" y="404640"/>
            <a:ext cx="1049040" cy="5724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539640" y="476280"/>
            <a:ext cx="1049400" cy="5724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2124000" y="2133720"/>
            <a:ext cx="4827600" cy="2528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0"/>
            <a:ext cx="9144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84360" y="1268280"/>
            <a:ext cx="7775280" cy="4389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7596360" y="404640"/>
            <a:ext cx="1049040" cy="5724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539640" y="476280"/>
            <a:ext cx="1049400" cy="5724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556000" y="2492280"/>
            <a:ext cx="4035240" cy="1919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0"/>
            <a:ext cx="914400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84360" y="1268280"/>
            <a:ext cx="7775280" cy="4389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596360" y="404640"/>
            <a:ext cx="1049040" cy="5724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539640" y="476280"/>
            <a:ext cx="1049400" cy="5724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1547640" y="1844640"/>
            <a:ext cx="6046920" cy="31384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111240"/>
            <a:ext cx="9144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84360" y="1268280"/>
            <a:ext cx="7775280" cy="438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7596360" y="404640"/>
            <a:ext cx="1049040" cy="5724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539640" y="476280"/>
            <a:ext cx="1049400" cy="5724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2124000" y="2492280"/>
            <a:ext cx="4900680" cy="1925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84360" y="1268280"/>
            <a:ext cx="7775280" cy="43894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7596360" y="404640"/>
            <a:ext cx="1049040" cy="5724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539640" y="476280"/>
            <a:ext cx="1049400" cy="5724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619280" y="206064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mel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619280" y="1700280"/>
            <a:ext cx="5900760" cy="3382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0"/>
            <a:ext cx="914400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84360" y="1268280"/>
            <a:ext cx="7775280" cy="43894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7596360" y="404640"/>
            <a:ext cx="1049040" cy="5724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39640" y="476280"/>
            <a:ext cx="1049400" cy="5724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2084400" y="2163600"/>
            <a:ext cx="4973760" cy="2529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0"/>
            <a:ext cx="914400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14:08:02Z</dcterms:created>
  <dc:creator>MARY COSTA</dc:creator>
  <dc:description/>
  <dc:language>en-US</dc:language>
  <cp:lastModifiedBy>Mary</cp:lastModifiedBy>
  <dcterms:modified xsi:type="dcterms:W3CDTF">2014-09-25T22:38:42Z</dcterms:modified>
  <cp:revision>43</cp:revision>
  <dc:subject/>
  <dc:title>Slide 1</dc:title>
</cp:coreProperties>
</file>