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sound001-andromeda.wav" ContentType="audio/x-wav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5DD-BAD5-4B68-BC20-43FBC5CA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6EF-BB9C-4B6E-983E-E39D75E7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9DD-3C03-4BD4-9554-DD9EE1F7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369-1FB3-4F8B-9797-CC0D97B6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76B-EC4F-460B-8518-DC518304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39B-5F4A-4621-BBD1-24B39656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4D3-FB69-40D8-98B3-2A03CEBF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AE0-CEBE-48DE-A90A-AEC1847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B0A-E18A-442B-8438-7493A16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089-B10F-4936-9626-78D82E7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E78-473A-45B9-9F52-CFE0D811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A7F-3AD8-40E4-B0D2-9C3CCE4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F1EE-3FD9-40A4-86D8-8AD42D6B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ound001-andromeda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916280"/>
            <a:ext cx="358452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i da Caus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1060200" cy="5730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0" y="321300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20665200">
            <a:off x="5866920" y="3141720"/>
            <a:ext cx="22669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fei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4" name="sound001-andromed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268360" y="2492280"/>
            <a:ext cx="4535640" cy="191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050920" y="2133720"/>
            <a:ext cx="4973760" cy="2528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8964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71640" y="1341360"/>
            <a:ext cx="7343640" cy="4389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987640" y="2781360"/>
            <a:ext cx="3240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xto: Deepak Chopra</a:t>
            </a:r>
            <a:endParaRPr b="0" lang="en-US" sz="2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 </a:t>
            </a: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ª parte   </a:t>
            </a:r>
            <a:endParaRPr b="0" lang="en-US" sz="2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matação: Mary Costa</a:t>
            </a:r>
            <a:endParaRPr b="0" lang="en-US" sz="2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3924360" y="549360"/>
            <a:ext cx="1060560" cy="573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3780000" y="692280"/>
            <a:ext cx="1223640" cy="573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3.33333E-006 L -0.3809 0.00208 E">
                                      <p:cBhvr>
                                        <p:cTn id="99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98 -0.01875 L 0.40573 -0.00833 E">
                                      <p:cBhvr>
                                        <p:cTn id="101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490160" cy="438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411280" y="2133720"/>
            <a:ext cx="4321440" cy="252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24360" y="404640"/>
            <a:ext cx="1049400" cy="572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924360" y="404640"/>
            <a:ext cx="1049400" cy="572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7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-0.38802 0.00255 E">
                                      <p:cBhvr>
                                        <p:cTn id="22" dur="7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0.40955 4.81481E-006 E">
                                      <p:cBhvr>
                                        <p:cTn id="24" dur="7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195640" y="2133720"/>
            <a:ext cx="4754520" cy="252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8964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124000" y="2133720"/>
            <a:ext cx="4827600" cy="252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56000" y="2492280"/>
            <a:ext cx="4035240" cy="19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547640" y="1844640"/>
            <a:ext cx="6046920" cy="3138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112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2124000" y="2492280"/>
            <a:ext cx="4900680" cy="192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19280" y="2060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mel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619280" y="1700280"/>
            <a:ext cx="5900760" cy="3382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084400" y="2163600"/>
            <a:ext cx="4973760" cy="2529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4:08:02Z</dcterms:created>
  <dc:creator>MARY COSTA</dc:creator>
  <dc:description/>
  <dc:language>en-US</dc:language>
  <cp:lastModifiedBy>Mary</cp:lastModifiedBy>
  <dcterms:modified xsi:type="dcterms:W3CDTF">2014-09-25T22:38:42Z</dcterms:modified>
  <cp:revision>43</cp:revision>
  <dc:subject/>
  <dc:title>Slide 1</dc:title>
</cp:coreProperties>
</file>