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%20Cortazar%20-%20t113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A9F-86F5-4F19-819C-65BB6189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2A7-E109-43EF-AA14-FFACB95F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53F-0AAB-4696-9F5D-072E54EA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580-F9E6-4700-860E-44901560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F45-C1DC-4685-B560-5AF3862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016-69EF-4E50-854D-19C41B59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394-A15C-4142-A26F-C6D29043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13A-DA5B-4570-B976-E846FD9A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E1F-E263-412F-B5E1-ACBB3867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F88-A4C0-4BEB-AB56-F25E568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B3A-1CA4-435E-AF14-CFA1CF7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E3E-B2F6-47DF-BA5C-41281C6F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10F-562F-4882-88CE-08600BE8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t11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262484" descr=""/>
          <p:cNvPicPr/>
          <p:nvPr/>
        </p:nvPicPr>
        <p:blipFill>
          <a:blip r:embed="rId1"/>
          <a:srcRect l="0" t="9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5000" y="2136600"/>
            <a:ext cx="4734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PRENDENDO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AS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DAS 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5410080"/>
            <a:ext cx="3466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  <p:sndAc>
      <p:stSnd>
        <p:snd r:embed="rId2" name="Ernesto%20Cortazar%20-%20t113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188119-001" descr=""/>
          <p:cNvPicPr/>
          <p:nvPr/>
        </p:nvPicPr>
        <p:blipFill>
          <a:blip r:embed="rId1"/>
          <a:srcRect l="0" t="0" r="0" b="89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7680" y="2209680"/>
            <a:ext cx="816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r que será que nos lamentamos tanto quando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cepcionamos, perdemos e erramos? O mundo não acaba quando nos enganamos; ele muda, talvez, de direção. Mas precisamos tirar partido dos nossos er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rque tudo teria que ser correto, coerente, sem falhas? As quedas fazem parte da vida e do nosso aprendizado d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191852-001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360" y="1335240"/>
            <a:ext cx="870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dói, dói. Ah! Isso não posso negar! Dói 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gulho, principalmente. E quanto mais gente envolvida, mais nosso orgulho dói. Portanto, o humilh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é cair, mas permanecer no chão enquanto a vida continua seu curso. O problema é que julgamos o mundo segundo nossa própria maneira de olhar e nos esquecemos que existem milhões e milhões de olhares diferentes do no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251045-001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209700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 não está obrigatoriamente errado quem pen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ferente da gente só porque pensa diferente. E nem obrigatoriamente certo. Todo mundo é livre de ver e tirar suas próprias conclusões sobre a vida e sobre o mundo. Às vezes acertamos, outras erramos. E somos normais assim. Então, numa discussão, numa briga, pare um segundo e pense: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 se eu estiver errado?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é uma possibilidade na qual raramente queremos pen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343928-001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1030320"/>
            <a:ext cx="839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sso “eu” nos cega muitas vezes. Nosso ciúme, n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gulho e até, por que não, nosso amor. Não vemos o lado do outro e nem queremos ver. E somos assim, muitas vezes injustos tanto com o outro quanto com a gente mesmo, já que nos recusamos a oportunidade de aprender alguma coisa com algué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00265516-001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360" y="801720"/>
            <a:ext cx="816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é porque tanta gente se mantém nessa posiçã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istem desavenças, guerras, separações. Ninguém cede e as pessoas acabam ficando sozin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de que adianta ter sempre razão, saber de tudo, se no fim o que nos resta é a solidão? Vida é partilha. E não há partilha sem humildade, sem generosidade, sem amor n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00188120-001" descr=""/>
          <p:cNvPicPr/>
          <p:nvPr/>
        </p:nvPicPr>
        <p:blipFill>
          <a:blip r:embed="rId1"/>
          <a:srcRect l="0" t="0" r="0" b="96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040" y="1411200"/>
            <a:ext cx="839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escola, só aprendemos porque somos cons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 que estamos lá porque não sabemos ainda; na vida é exatamente a mesma coisa. Se nos fecharmos, se fecharmos nossa alma e nosso coração, nada vai entrar. E será que conseguiremos nos bastar a nós mesmos? Eu duv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andamos em cordas bambas o tempo todo, mas às vezes é o único meio de atravessar. Somos bem mais resistentes do que julgamos; a própria vida nos ensina a sobreviver, viver sobre tudo e sobretu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080" y="95400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nca duvide do seu poder de sobrevivência! Se voc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uvida, cai. Aprenda com o apóstolo Pedro que enquanto acreditou, andou sobre o mar, mas começou a afundar quando sentiu me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30114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tão, afundar ou andar sobre as águas? Depen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ós, depende de cada um em particular. Podemos nos unir em força na oração para ajudar alguém, mas só esse alguém pode decidir a ter fé, força e coragem para continuar essa maravilhosa jornada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5257800"/>
            <a:ext cx="3216240" cy="9464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Música: Ernesto Corta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1:50:42Z</dcterms:created>
  <dc:creator>Beth Norling</dc:creator>
  <dc:description/>
  <dc:language>en-US</dc:language>
  <cp:lastModifiedBy>Usuário</cp:lastModifiedBy>
  <dcterms:modified xsi:type="dcterms:W3CDTF">2006-10-24T18:13:29Z</dcterms:modified>
  <cp:revision>8</cp:revision>
  <dc:subject/>
  <dc:title>Aprendendo nas Quedas</dc:title>
</cp:coreProperties>
</file>