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4F9-9785-4A80-AD16-FB60BB0B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8C3-2B45-4EB6-8084-EFAC12A8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007-0D4E-4AAD-850A-75B03115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8EE-ADB1-4068-A2DA-EF37AB31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F3B2-DB29-4E4A-B9B6-E50553B6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4440-65AD-4E46-BAF9-1CC7C69B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4344-7F15-494B-AC88-164E195E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264E-A1B9-4117-9169-CAFAF87D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A440-360E-4CF7-96AF-564683E8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39DD-4D62-4449-A62C-AC6DC804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94BA-962D-4052-A384-B334975F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BC9-89A7-424E-8CBA-9ACE1C1A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C14A-9504-4471-8335-26D77BA9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966E-B25E-4E2E-96DD-1F874C88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B865-D05C-4A19-A8CC-AC175E9F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C67C-8D3C-4EB9-B8E2-5C288E1E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A173-1ECF-490B-8118-997DE7E2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B18-DB51-4561-B6A4-F0E2751D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953-32DD-424F-B0C2-0D7A336F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7D6-ACAC-47E7-82C9-C05C02C9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53E-C12F-4ECF-A409-38F6EB98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6C3-BB0E-49F5-B898-64DBF39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AE4-BC44-4338-B151-3F7F23BF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999-4F32-48C5-9737-8761A794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D43E-AF78-4064-9F8F-03D235EA3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B10E-37F9-48AA-B69D-8812A977E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cc"/>
                </a:solidFill>
                <a:latin typeface="Tahoma"/>
              </a:rPr>
              <a:t>O dia nacional do </a:t>
            </a:r>
            <a:br>
              <a:rPr sz="3600"/>
            </a:br>
            <a:r>
              <a:rPr b="0" lang="pt-BR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lang="pt-BR" sz="3600" spc="-1" strike="noStrike">
                <a:solidFill>
                  <a:srgbClr val="ffffcc"/>
                </a:solidFill>
                <a:latin typeface="Tahoma"/>
              </a:rPr>
              <a:t>eu te amo</a:t>
            </a:r>
            <a:r>
              <a:rPr b="0" lang="pt-BR" sz="3600" spc="-1" strike="noStrike">
                <a:solidFill>
                  <a:srgbClr val="ffffcc"/>
                </a:solidFill>
                <a:latin typeface="Tahoma"/>
              </a:rPr>
              <a:t>” foi lançado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1280" y="3429000"/>
            <a:ext cx="792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e você recebeu esta mensag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é que alguém te ama.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nvie esta mensagem a 10 amigos (inclusive para mim se eu fizer parte) e amanhã será o mais belo dia de sua vida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quando você acorda,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14360" y="1484280"/>
            <a:ext cx="6515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... ele ouve sua música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59040" y="1341360"/>
            <a:ext cx="36241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se vocês estão de mal, ele volta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82680" y="1844640"/>
            <a:ext cx="65786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... é seu amigo para sempr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1679400"/>
            <a:ext cx="50421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com você ele tem paciênci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32000" y="1467000"/>
            <a:ext cx="64800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32000" y="1486080"/>
            <a:ext cx="64800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32000" y="1492200"/>
            <a:ext cx="648000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332000" y="1590840"/>
            <a:ext cx="64800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aib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que é difícil encontrar um bom amigo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duro de abandoná-l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 impossível esquecê-lo!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259524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vie este e-mail a todos seus amigo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u já enviei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62360" y="1706400"/>
            <a:ext cx="34192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Amigo não tem tamanho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74680" y="1628640"/>
            <a:ext cx="67946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Você pode apoiar-se nele..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12840" y="1484280"/>
            <a:ext cx="67183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...ele respeita sua criatividade</a:t>
            </a:r>
            <a:br>
              <a:rPr sz="3600"/>
            </a:b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mesmo se você estiver sonhando..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1773360"/>
            <a:ext cx="7162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... ele está aí</a:t>
            </a:r>
            <a:br>
              <a:rPr sz="3600"/>
            </a:b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 quando você precisa de um ombro..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11280" y="1557360"/>
            <a:ext cx="61200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... quando você precisa de um abraço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73280" y="1052640"/>
            <a:ext cx="39974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ele te entende..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06360" y="1628640"/>
            <a:ext cx="673128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... e não é racista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0920" y="1584360"/>
            <a:ext cx="50421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8:33:01Z</dcterms:created>
  <dc:creator/>
  <dc:description/>
  <dc:language>en-US</dc:language>
  <cp:lastModifiedBy/>
  <dcterms:modified xsi:type="dcterms:W3CDTF">2008-10-03T19:53:57Z</dcterms:modified>
  <cp:revision>3</cp:revision>
  <dc:subject/>
  <dc:title>Journée du je t'aime</dc:title>
</cp:coreProperties>
</file>