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C1B-D512-44E3-A685-5749D3D4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D95-C3D7-41BC-BB7A-D36BF770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4CE-B32F-4CE4-84B1-4367B290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34B-FEFA-484D-9A9D-3095A412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F662-E3C9-489F-8835-98075E65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F337-2297-4A03-B1B0-C4E9C76D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3CF6-2620-47B8-A4C9-95F7BA70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DEDB-3771-4C34-85B3-EBACD0C0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DDF5-C852-47AB-9CA5-3BBAE57A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84BC-4B60-49C5-A617-9C7860A2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378B-79D8-49C9-BCD0-0DC58C9F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4AF-810A-4C73-BF08-D0988847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1F23-714F-4FC2-BCC2-57760DA8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6E65-AD88-41B7-B7CE-AC3CF792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40A0-E41D-40C5-B438-4A9B966A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FF37-4D4B-405A-8A9B-A00DB8D9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EF8D-BDC1-4487-AAEF-7AE33581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06D-462C-48C8-8F44-6978D57F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09D-DC7E-426F-A3DF-A627FD07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A69-9E91-4D4F-BB62-0E5FFD07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AC39-4FB8-4B0A-BF20-4AF129E1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D6F-EDB2-470F-A83C-E8A69F60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176-DCEB-487F-AB99-0B24EB7F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DC9-6B67-4402-98F9-121331A9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3704-D183-4D61-AE0B-74F42A0AD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C61C-1D00-4611-8081-BD1E1ABD0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cc"/>
                </a:solidFill>
                <a:latin typeface="Tahoma"/>
              </a:rPr>
              <a:t>O dia nacional do </a:t>
            </a:r>
            <a:br>
              <a:rPr sz="3600"/>
            </a:br>
            <a:r>
              <a:rPr b="0" lang="pt-BR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1" lang="pt-BR" sz="3600" spc="-1" strike="noStrike">
                <a:solidFill>
                  <a:srgbClr val="ffffcc"/>
                </a:solidFill>
                <a:latin typeface="Tahoma"/>
              </a:rPr>
              <a:t>eu te amo</a:t>
            </a:r>
            <a:r>
              <a:rPr b="0" lang="pt-BR" sz="3600" spc="-1" strike="noStrike">
                <a:solidFill>
                  <a:srgbClr val="ffffcc"/>
                </a:solidFill>
                <a:latin typeface="Tahoma"/>
              </a:rPr>
              <a:t>” foi lançado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1280" y="3429000"/>
            <a:ext cx="792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e você recebeu esta mensag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é que alguém te ama.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nvie esta mensagem a 10 amigos (inclusive para mim se eu fizer parte) e amanhã será o mais belo dia de sua vida.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quando você acorda,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314360" y="1484280"/>
            <a:ext cx="6515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... ele ouve sua música.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59040" y="1341360"/>
            <a:ext cx="36241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se vocês estão de mal, ele volta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82680" y="1844640"/>
            <a:ext cx="65786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... é seu amigo para sempr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0920" y="1679400"/>
            <a:ext cx="50421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com você ele tem paciênci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32000" y="1467000"/>
            <a:ext cx="64800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32000" y="1486080"/>
            <a:ext cx="64800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32000" y="1492200"/>
            <a:ext cx="648000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332000" y="1590840"/>
            <a:ext cx="64800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saib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que é difícil encontrar um bom amigo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duro de abandoná-l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e impossível esquecê-lo!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259524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nvie este e-mail a todos seus amigo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u já enviei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62360" y="1706400"/>
            <a:ext cx="34192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Amigo não tem tamanho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74680" y="1628640"/>
            <a:ext cx="67946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Você pode apoiar-se nele...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12840" y="1484280"/>
            <a:ext cx="67183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...ele respeita sua criatividade</a:t>
            </a:r>
            <a:br>
              <a:rPr sz="3600"/>
            </a:b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mesmo se você estiver sonhando...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1773360"/>
            <a:ext cx="7162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... ele está aí</a:t>
            </a:r>
            <a:br>
              <a:rPr sz="3600"/>
            </a:b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 quando você precisa de um ombro...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11280" y="1557360"/>
            <a:ext cx="61200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... quando você precisa de um abraço.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73280" y="1052640"/>
            <a:ext cx="399744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ele te entende...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06360" y="1628640"/>
            <a:ext cx="673128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Tahoma"/>
              </a:rPr>
              <a:t>... e não é racista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0920" y="1584360"/>
            <a:ext cx="50421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8:33:01Z</dcterms:created>
  <dc:creator/>
  <dc:description/>
  <dc:language>en-US</dc:language>
  <cp:lastModifiedBy/>
  <dcterms:modified xsi:type="dcterms:W3CDTF">2008-10-03T19:53:57Z</dcterms:modified>
  <cp:revision>3</cp:revision>
  <dc:subject/>
  <dc:title>Journée du je t'aime</dc:title>
</cp:coreProperties>
</file>