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3.png" ContentType="image/png"/>
  <Override PartName="/ppt/media/image14.jpeg" ContentType="image/jpeg"/>
  <Override PartName="/ppt/media/image5.gif" ContentType="image/gif"/>
  <Override PartName="/ppt/media/image6.gif" ContentType="image/gif"/>
  <Override PartName="/ppt/media/Ernesto%20Cortazar-The%20language%20of%20love.wav" ContentType="audio/x-wav"/>
  <Override PartName="/ppt/media/image8.jpeg" ContentType="image/jpeg"/>
  <Override PartName="/ppt/media/image10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C21-D11E-4926-B8D4-0200A3C4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380-5251-4DD6-A381-B4BAD695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553-5C47-4A09-A64D-25948DB9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959-ACE8-48CC-97DC-68A56920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6421-BD91-4A42-B6AB-B0C955FC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C78-4297-4E85-818D-7568BE8C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E43-D209-4B4E-ADDB-7E2FEDF1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F40-EA69-4209-888D-4212428D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06A-CD4E-4C3B-AAB1-04ED6945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DB8-2DF3-4D92-A402-D0AF7A56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687-49BE-4FB3-A620-A1BA2C12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FF0-98CD-4F41-84BC-C2721E2D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A2EF-FD7A-43CF-BD0A-3687B7DD5DF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audio" Target="../media/Ernesto%20Cortazar-The%20language%20of%20love.wav"/><Relationship Id="rId4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hyperlink" Target="http://www.leticiathompson.net/" TargetMode="External"/><Relationship Id="rId44" Type="http://schemas.openxmlformats.org/officeDocument/2006/relationships/hyperlink" Target="mailto:bethnorling@globo.com" TargetMode="External"/><Relationship Id="rId4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8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9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0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1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2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3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4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5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92280"/>
            <a:ext cx="8353440" cy="5473440"/>
          </a:xfrm>
          <a:prstGeom prst="octagon">
            <a:avLst>
              <a:gd name="adj" fmla="val 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765000"/>
            <a:ext cx="820728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124000" y="2421000"/>
            <a:ext cx="50292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A GENEROSIDADE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132000" y="3933720"/>
            <a:ext cx="2962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5280" y="692280"/>
            <a:ext cx="8353440" cy="5473440"/>
          </a:xfrm>
          <a:prstGeom prst="octagon">
            <a:avLst>
              <a:gd name="adj" fmla="val 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8360" y="765000"/>
            <a:ext cx="820728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023840" y="2193840"/>
            <a:ext cx="72201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43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Ernesto Cortazar -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language of l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44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2280"/>
            <a:ext cx="4032360" cy="5473440"/>
          </a:xfrm>
          <a:prstGeom prst="octagon">
            <a:avLst>
              <a:gd name="adj" fmla="val 1366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765000"/>
            <a:ext cx="3887640" cy="5328000"/>
          </a:xfrm>
          <a:prstGeom prst="octagon">
            <a:avLst>
              <a:gd name="adj" fmla="val 407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003640" y="1773360"/>
            <a:ext cx="376416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anto mais caminho, mais percebo o quanto o mundo anda sedento. As pessoas correm, sofrem, se desesperam e continuam buscando a felicidade como se essa fosse apenas uma miragem nesse imenso deserto que a vida se transform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692280"/>
            <a:ext cx="4032360" cy="5473440"/>
          </a:xfrm>
          <a:prstGeom prst="octagon">
            <a:avLst>
              <a:gd name="adj" fmla="val 1366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765000"/>
            <a:ext cx="388764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788000" y="1557360"/>
            <a:ext cx="403380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á muita gente no mundo, milhares e milhares. Portanto, a solidão continua assolando vidas, maltratando corações que, no fim do dia e das contas acabam desacreditando nas portas que se abr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e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ada qual pensa no próprio eu e todo mundo se iso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692280"/>
            <a:ext cx="4032360" cy="5473440"/>
          </a:xfrm>
          <a:prstGeom prst="octagon">
            <a:avLst>
              <a:gd name="adj" fmla="val 352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765000"/>
            <a:ext cx="388764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788000" y="1557360"/>
            <a:ext cx="405108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nquanto isso, a vida continua, cresce a indiferença, cresce o desamor, multiplicam-se as depressões e incompreensões. As pessoas sentem-se vazias e reagem como pessoas vazias. Vazias, pelo menos, de amor e caridade, mas cheias de tristezas e desilus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692280"/>
            <a:ext cx="4032360" cy="5473440"/>
          </a:xfrm>
          <a:prstGeom prst="octagon">
            <a:avLst>
              <a:gd name="adj" fmla="val 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765000"/>
            <a:ext cx="388764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788000" y="907920"/>
            <a:ext cx="4052880" cy="46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á, portanto, dentro de cada um de nós um poço de possibilidades e compartilhar de si é deixar-se um pouquinho em cada um. Só não tem nada para oferecer quem possui um coração vazio, não as mãos. E acabar com a solidão de alguém é contribuir para o fim da própria solidão. Oferecer a esperança é dar-se a si uma nova chance, é reabrir portas, é descobrir o novo e entregar-se a 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92280"/>
            <a:ext cx="4105440" cy="5473440"/>
          </a:xfrm>
          <a:prstGeom prst="octagon">
            <a:avLst>
              <a:gd name="adj" fmla="val 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765000"/>
            <a:ext cx="395928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859280" y="1576440"/>
            <a:ext cx="396072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á melhor presente no mundo que o dom de si? Há coisa mais bonita que saciar o coração de alguém? Devolver a esperança, por menor que seja ela, é dar às pessoas a oportunidade de descobrir o outro lado da vida, aquele que, embora um pouco esquecido, ainda exis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692280"/>
            <a:ext cx="4105440" cy="5473440"/>
          </a:xfrm>
          <a:prstGeom prst="octagon">
            <a:avLst>
              <a:gd name="adj" fmla="val 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765000"/>
            <a:ext cx="395928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716360" y="1341360"/>
            <a:ext cx="4124520" cy="375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dia tem 24 horas e parece muitas vezes que são insuficientes para fazermos tudo o que temos que fazer. Lamentamos a falta de tempo para isso ou aquilo e pensamos que um dia, quem sabe, se atingirmos a bênção da velhice tranqüila, poderemos dar um pouco mais de nós aos outros. Quanto engano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5280" y="692280"/>
            <a:ext cx="4105440" cy="5473440"/>
          </a:xfrm>
          <a:prstGeom prst="octagon">
            <a:avLst>
              <a:gd name="adj" fmla="val 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8360" y="765000"/>
            <a:ext cx="395928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4716360" y="1773360"/>
            <a:ext cx="412596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odemos dar de nós a cada dia e a cada hora, agindo com o coração e tendo uma atitude que nos torna diferentes em qualquer lugar. Pode-se resistir ao ódio por muito tempo, mas quem resiste à ternura, ao afeto, ao amor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à boa-vont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5280" y="692280"/>
            <a:ext cx="4105440" cy="5473440"/>
          </a:xfrm>
          <a:prstGeom prst="octagon">
            <a:avLst>
              <a:gd name="adj" fmla="val 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765000"/>
            <a:ext cx="395928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788000" y="1341360"/>
            <a:ext cx="4052880" cy="375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ando as pesso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girem com menos egoísmo e ao invés de ruminarem a própria infelicidade começarem a agir para o bem do próximo, as doenças da alma começarão a encontrar a cura e o amanhecer terá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ada um de nós um outro rosto, mais sereno, mais amigo e mais espe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randomBa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0:53:50Z</dcterms:created>
  <dc:creator>Beth Norling</dc:creator>
  <dc:description/>
  <dc:language>en-US</dc:language>
  <cp:lastModifiedBy>Beth Norling</cp:lastModifiedBy>
  <dcterms:modified xsi:type="dcterms:W3CDTF">2008-06-25T23:01:41Z</dcterms:modified>
  <cp:revision>11</cp:revision>
  <dc:subject/>
  <dc:title>A_generosidade</dc:title>
</cp:coreProperties>
</file>