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4.png" ContentType="image/png"/>
  <Override PartName="/ppt/media/image23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Gal%20Costa%20-%20Canta%20Brasil.wav" ContentType="audio/x-wav"/>
  <Override PartName="/ppt/media/image25.png" ContentType="image/png"/>
  <Override PartName="/ppt/media/image11.png" ContentType="image/png"/>
  <Override PartName="/ppt/media/image9.jpeg" ContentType="image/jpeg"/>
  <Override PartName="/ppt/media/image32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jpeg" ContentType="image/jpeg"/>
  <Override PartName="/ppt/media/image3.gif" ContentType="image/gif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B5B1-944A-4E24-9930-6CF63FCF1DA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asília  48 An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6291360"/>
            <a:ext cx="307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eydecastello@uol.com.b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Gal%20Costa%20-%20Canta%20Brasi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22200" y="787320"/>
            <a:ext cx="676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rigem dos nomes dos estados do Brasil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1512720"/>
            <a:ext cx="5825880" cy="4791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7560" y="4592520"/>
            <a:ext cx="1949400" cy="158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00960" y="5765760"/>
            <a:ext cx="1839600" cy="58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95120"/>
            <a:ext cx="38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LIQUE P/ LER TRANQUIL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Gal%20Costa%20-%20Canta%20Brasi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278000" y="654120"/>
            <a:ext cx="6681600" cy="1280880"/>
            <a:chOff x="1278000" y="654120"/>
            <a:chExt cx="6681600" cy="1280880"/>
          </a:xfrm>
        </p:grpSpPr>
        <p:sp>
          <p:nvSpPr>
            <p:cNvPr id="53" name=""/>
            <p:cNvSpPr/>
            <p:nvPr/>
          </p:nvSpPr>
          <p:spPr>
            <a:xfrm>
              <a:off x="1278000" y="744120"/>
              <a:ext cx="431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- ACRE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m de áquiri , touca de penas usada pelos índios Munducur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5619600" y="654120"/>
              <a:ext cx="2340000" cy="12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1098720" y="1793880"/>
            <a:ext cx="7191360" cy="1241280"/>
            <a:chOff x="1098720" y="1793880"/>
            <a:chExt cx="7191360" cy="1241280"/>
          </a:xfrm>
        </p:grpSpPr>
        <p:sp>
          <p:nvSpPr>
            <p:cNvPr id="56" name=""/>
            <p:cNvSpPr/>
            <p:nvPr/>
          </p:nvSpPr>
          <p:spPr>
            <a:xfrm>
              <a:off x="3363840" y="2171880"/>
              <a:ext cx="49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- ALAGOAS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é derivado dos numerosos lagos e rios que caracterizam o litoral alago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1098720" y="1793880"/>
              <a:ext cx="2187360" cy="12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1092240" y="4773600"/>
            <a:ext cx="7650000" cy="1492200"/>
            <a:chOff x="1092240" y="4773600"/>
            <a:chExt cx="7650000" cy="1492200"/>
          </a:xfrm>
        </p:grpSpPr>
        <p:sp>
          <p:nvSpPr>
            <p:cNvPr id="59" name=""/>
            <p:cNvSpPr/>
            <p:nvPr/>
          </p:nvSpPr>
          <p:spPr>
            <a:xfrm>
              <a:off x="3305160" y="5176800"/>
              <a:ext cx="54370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- AMAZONAS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ome de mulheres guerreiras que teriam sido vistas pelo espanhol Orellana ao desbravar o rio. Para Lokotsch, vem de amasuru, que significa águias retumbant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1092240" y="4773600"/>
              <a:ext cx="2131920" cy="14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974880" y="3340080"/>
            <a:ext cx="7277040" cy="1467000"/>
            <a:chOff x="974880" y="3340080"/>
            <a:chExt cx="7277040" cy="146700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6051600" y="3340080"/>
              <a:ext cx="220032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74880" y="3462480"/>
              <a:ext cx="5072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- Amapá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egundo a tradição, o nome teria vindo do nheengatu-lingua geral da Amazônia, uma espécie de dialeto tupi-jesuitico- significando”terra que acaba” ou “ilha”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422360" y="588960"/>
            <a:ext cx="6040440" cy="1427040"/>
            <a:chOff x="1422360" y="588960"/>
            <a:chExt cx="6040440" cy="1427040"/>
          </a:xfrm>
        </p:grpSpPr>
        <p:sp>
          <p:nvSpPr>
            <p:cNvPr id="66" name=""/>
            <p:cNvSpPr/>
            <p:nvPr/>
          </p:nvSpPr>
          <p:spPr>
            <a:xfrm>
              <a:off x="1422360" y="699840"/>
              <a:ext cx="37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- BAHIA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foi dado pelos descobridores em função de sua grande enseada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5424480" y="588960"/>
              <a:ext cx="2038320" cy="14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984240" y="1596960"/>
            <a:ext cx="7035840" cy="1765080"/>
            <a:chOff x="984240" y="1596960"/>
            <a:chExt cx="7035840" cy="1765080"/>
          </a:xfrm>
        </p:grpSpPr>
        <p:sp>
          <p:nvSpPr>
            <p:cNvPr id="69" name=""/>
            <p:cNvSpPr/>
            <p:nvPr/>
          </p:nvSpPr>
          <p:spPr>
            <a:xfrm>
              <a:off x="3522960" y="2155680"/>
              <a:ext cx="449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- CEARÀ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m de siará, canto da jandaia, uma espécie de papagai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984240" y="1596960"/>
              <a:ext cx="2524320" cy="17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828720" y="4773600"/>
            <a:ext cx="7267680" cy="1517400"/>
            <a:chOff x="828720" y="4773600"/>
            <a:chExt cx="7267680" cy="1517400"/>
          </a:xfrm>
        </p:grpSpPr>
        <p:sp>
          <p:nvSpPr>
            <p:cNvPr id="72" name=""/>
            <p:cNvSpPr/>
            <p:nvPr/>
          </p:nvSpPr>
          <p:spPr>
            <a:xfrm>
              <a:off x="3255840" y="5168880"/>
              <a:ext cx="4840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-ESPIRITO SANTO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enominação dada pelo donatário Vasco Fernandes Coutinho que ali desembarcou em 1535, num domingo dedicado ao Espirito Sa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828720" y="4773600"/>
              <a:ext cx="2168640" cy="151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1108080" y="3112920"/>
            <a:ext cx="6869160" cy="1644480"/>
            <a:chOff x="1108080" y="3112920"/>
            <a:chExt cx="6869160" cy="1644480"/>
          </a:xfrm>
        </p:grpSpPr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5702400" y="3112920"/>
              <a:ext cx="227484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108080" y="3536640"/>
              <a:ext cx="446400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-DISTRITO FEDERAL –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RASILIA:Significa, Aquele que provem de terras brasileiras . Nome sugerido por José Bonifácio em 1823 em memorial encaminhado à Assembléia Geral Constituinte do Impéri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841320" y="547560"/>
            <a:ext cx="7118280" cy="1608120"/>
            <a:chOff x="841320" y="547560"/>
            <a:chExt cx="7118280" cy="160812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41320" y="547560"/>
              <a:ext cx="23004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193920" y="1195560"/>
              <a:ext cx="476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-- GOIÁS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 Tupi, gwa ya, nome dos índios guaiás, gente semelhante, igu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35040" y="1814400"/>
            <a:ext cx="7559640" cy="1565280"/>
            <a:chOff x="635040" y="1814400"/>
            <a:chExt cx="7559640" cy="1565280"/>
          </a:xfrm>
        </p:grpSpPr>
        <p:sp>
          <p:nvSpPr>
            <p:cNvPr id="82" name=""/>
            <p:cNvSpPr/>
            <p:nvPr/>
          </p:nvSpPr>
          <p:spPr>
            <a:xfrm>
              <a:off x="635040" y="2257560"/>
              <a:ext cx="514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- MARANHÃO 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o tupi,mba’ra + a mar , e nã, = a corrente, rio que se assemelha ao mar, primeiro nome dado ao rio Amazo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845320" y="1814400"/>
              <a:ext cx="2349360" cy="15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790560" y="2989440"/>
            <a:ext cx="8353440" cy="1887480"/>
            <a:chOff x="790560" y="2989440"/>
            <a:chExt cx="8353440" cy="1887480"/>
          </a:xfrm>
        </p:grpSpPr>
        <p:sp>
          <p:nvSpPr>
            <p:cNvPr id="85" name=""/>
            <p:cNvSpPr/>
            <p:nvPr/>
          </p:nvSpPr>
          <p:spPr>
            <a:xfrm>
              <a:off x="3584520" y="3537000"/>
              <a:ext cx="55594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-MATO GROSSO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designa uma região com margens cobertas de espessas florestas, segundo antigos documen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790560" y="2989440"/>
              <a:ext cx="2698920" cy="18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797040" y="4414680"/>
            <a:ext cx="7626240" cy="1882800"/>
            <a:chOff x="797040" y="4414680"/>
            <a:chExt cx="7626240" cy="1882800"/>
          </a:xfrm>
        </p:grpSpPr>
        <p:sp>
          <p:nvSpPr>
            <p:cNvPr id="88" name=""/>
            <p:cNvSpPr/>
            <p:nvPr/>
          </p:nvSpPr>
          <p:spPr>
            <a:xfrm>
              <a:off x="797040" y="4986360"/>
              <a:ext cx="47181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-MATO GROSSO DO SUL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Foi decida a separação do estado de Mato Grosso em1977 e efetivada em 1979 para melhor administrar e desenvolver uma região tão extens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5730840" y="4414680"/>
              <a:ext cx="2692440" cy="188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47560" y="4541760"/>
            <a:ext cx="7774200" cy="1654200"/>
            <a:chOff x="547560" y="4541760"/>
            <a:chExt cx="7774200" cy="1654200"/>
          </a:xfrm>
        </p:grpSpPr>
        <p:sp>
          <p:nvSpPr>
            <p:cNvPr id="92" name=""/>
            <p:cNvSpPr/>
            <p:nvPr/>
          </p:nvSpPr>
          <p:spPr>
            <a:xfrm>
              <a:off x="547560" y="5484960"/>
              <a:ext cx="551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6-PARANÁ: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Do guarani.Pa’ra = mar, e nã = semelhante  a rio grande, ou ma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958000" y="4541760"/>
              <a:ext cx="2363760" cy="1654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828720" y="666720"/>
            <a:ext cx="6960960" cy="1644480"/>
            <a:chOff x="828720" y="666720"/>
            <a:chExt cx="6960960" cy="1644480"/>
          </a:xfrm>
        </p:grpSpPr>
        <p:sp>
          <p:nvSpPr>
            <p:cNvPr id="95" name=""/>
            <p:cNvSpPr/>
            <p:nvPr/>
          </p:nvSpPr>
          <p:spPr>
            <a:xfrm>
              <a:off x="3228840" y="1212840"/>
              <a:ext cx="45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13- MINAS GERAIS: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O nome deve-se às muitas minas de ouro espalhadas por quase todo o est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828720" y="666720"/>
              <a:ext cx="235260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671400" y="1909800"/>
            <a:ext cx="7593120" cy="1730160"/>
            <a:chOff x="671400" y="1909800"/>
            <a:chExt cx="7593120" cy="1730160"/>
          </a:xfrm>
        </p:grpSpPr>
        <p:sp>
          <p:nvSpPr>
            <p:cNvPr id="98" name=""/>
            <p:cNvSpPr/>
            <p:nvPr/>
          </p:nvSpPr>
          <p:spPr>
            <a:xfrm>
              <a:off x="671400" y="2646360"/>
              <a:ext cx="5010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- PARÁ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 Tupi, pa’ra, que significa mar , designação do braço direito do rio Amazonas, engrossado pelas águas do rio Tocanti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5789520" y="1909800"/>
              <a:ext cx="2475000" cy="17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647640" y="3438360"/>
            <a:ext cx="7900920" cy="1738080"/>
            <a:chOff x="647640" y="3438360"/>
            <a:chExt cx="7900920" cy="1738080"/>
          </a:xfrm>
        </p:grpSpPr>
        <p:sp>
          <p:nvSpPr>
            <p:cNvPr id="101" name=""/>
            <p:cNvSpPr/>
            <p:nvPr/>
          </p:nvSpPr>
          <p:spPr>
            <a:xfrm>
              <a:off x="3243240" y="3979800"/>
              <a:ext cx="53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5- PARAÍBA: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do tupi, pa’ra, = rio , e a’iba = a ruim, impratic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647640" y="3438360"/>
              <a:ext cx="2485800" cy="17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171360" y="203040"/>
            <a:ext cx="875340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825480" y="858960"/>
            <a:ext cx="7743960" cy="1935000"/>
            <a:chOff x="825480" y="858960"/>
            <a:chExt cx="7743960" cy="1935000"/>
          </a:xfrm>
        </p:grpSpPr>
        <p:sp>
          <p:nvSpPr>
            <p:cNvPr id="105" name=""/>
            <p:cNvSpPr/>
            <p:nvPr/>
          </p:nvSpPr>
          <p:spPr>
            <a:xfrm>
              <a:off x="3754440" y="1014120"/>
              <a:ext cx="4815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-PERNAMBUCO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 Tupi, para’nã  = a rio caudaloso, e pu’ka, gerúndio de pug, rebentar, estourar.Relativo ao furo ou entrada formado pela junção dos rios Beberibe e Capibari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825480" y="858960"/>
              <a:ext cx="2766960" cy="19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738360" y="2554200"/>
            <a:ext cx="7646400" cy="1652400"/>
            <a:chOff x="738360" y="2554200"/>
            <a:chExt cx="7646400" cy="1652400"/>
          </a:xfrm>
        </p:grpSpPr>
        <p:sp>
          <p:nvSpPr>
            <p:cNvPr id="108" name=""/>
            <p:cNvSpPr/>
            <p:nvPr/>
          </p:nvSpPr>
          <p:spPr>
            <a:xfrm>
              <a:off x="738360" y="3171600"/>
              <a:ext cx="526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-PIAUÍ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 Tupi, pi’au, piau é nome genérico de vários peixes nordestinos. Piauí é o rio dos piau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021360" y="2554200"/>
              <a:ext cx="2363400" cy="16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685800" y="4172040"/>
            <a:ext cx="7959240" cy="1768320"/>
            <a:chOff x="685800" y="4172040"/>
            <a:chExt cx="7959240" cy="1768320"/>
          </a:xfrm>
        </p:grpSpPr>
        <p:sp>
          <p:nvSpPr>
            <p:cNvPr id="111" name=""/>
            <p:cNvSpPr/>
            <p:nvPr/>
          </p:nvSpPr>
          <p:spPr>
            <a:xfrm>
              <a:off x="3281040" y="4643640"/>
              <a:ext cx="536400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-RIO DE JANEIRO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deve-se a um equivoco. Martim Afonso de Souza descobriu a enseada a 1º de janeiro de 1532 e o confundiu com um grande rio. Sergrasan acrescenta que como em janeiro os rios da Europa estão em “ cheia”, daí o nome de Rio de Janei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685800" y="4172040"/>
              <a:ext cx="2528640" cy="17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814320" y="444600"/>
            <a:ext cx="7567560" cy="1909800"/>
            <a:chOff x="814320" y="444600"/>
            <a:chExt cx="7567560" cy="1909800"/>
          </a:xfrm>
        </p:grpSpPr>
        <p:sp>
          <p:nvSpPr>
            <p:cNvPr id="115" name=""/>
            <p:cNvSpPr/>
            <p:nvPr/>
          </p:nvSpPr>
          <p:spPr>
            <a:xfrm>
              <a:off x="927000" y="654120"/>
              <a:ext cx="5900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4920" y="1073160"/>
              <a:ext cx="456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20-RIO GRANDE DO NORTE : Derivado do rio Potengi, em oposição a algum rio pequeno próximo. Ou ao estado  do Rio Grande do s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814320" y="444600"/>
              <a:ext cx="2865600" cy="190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770040" y="2004840"/>
            <a:ext cx="7278120" cy="1509480"/>
            <a:chOff x="770040" y="2004840"/>
            <a:chExt cx="7278120" cy="1509480"/>
          </a:xfrm>
        </p:grpSpPr>
        <p:sp>
          <p:nvSpPr>
            <p:cNvPr id="119" name=""/>
            <p:cNvSpPr/>
            <p:nvPr/>
          </p:nvSpPr>
          <p:spPr>
            <a:xfrm>
              <a:off x="770040" y="2561760"/>
              <a:ext cx="49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-RIO GRANDE DO SUL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se origina do canal que liga a lagoa dos Patos ao ocea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5889600" y="2004840"/>
              <a:ext cx="2158560" cy="15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866880" y="3278160"/>
            <a:ext cx="7678800" cy="1849320"/>
            <a:chOff x="866880" y="3278160"/>
            <a:chExt cx="7678800" cy="1849320"/>
          </a:xfrm>
        </p:grpSpPr>
        <p:sp>
          <p:nvSpPr>
            <p:cNvPr id="122" name=""/>
            <p:cNvSpPr/>
            <p:nvPr/>
          </p:nvSpPr>
          <p:spPr>
            <a:xfrm>
              <a:off x="3602160" y="3817800"/>
              <a:ext cx="49435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2- RONDÔNIA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ome dado em homenagem ao marechal Candido da Silva Rondon, grande sertanista brasileir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866880" y="3278160"/>
              <a:ext cx="2644920" cy="18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792000" y="4562640"/>
            <a:ext cx="7610400" cy="1771560"/>
            <a:chOff x="792000" y="4562640"/>
            <a:chExt cx="7610400" cy="1771560"/>
          </a:xfrm>
        </p:grpSpPr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5744880" y="4562640"/>
              <a:ext cx="265752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92000" y="5329440"/>
              <a:ext cx="48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3-RORAIMA :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idioma indígena Ianomami ,significa verde, + imã, que quer dizer serra , monte . Serra Ver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014480" y="638280"/>
            <a:ext cx="7179840" cy="1557360"/>
            <a:chOff x="1014480" y="638280"/>
            <a:chExt cx="7179840" cy="1557360"/>
          </a:xfrm>
        </p:grpSpPr>
        <p:sp>
          <p:nvSpPr>
            <p:cNvPr id="129" name=""/>
            <p:cNvSpPr/>
            <p:nvPr/>
          </p:nvSpPr>
          <p:spPr>
            <a:xfrm>
              <a:off x="3205080" y="934920"/>
              <a:ext cx="49892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3- SANTA CATARINA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ome dado pelo bandeirante Francisco Dias Velho a uma igreja construída no local sob a invocação daquela sant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014480" y="638280"/>
              <a:ext cx="2091960" cy="155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685800" y="2135160"/>
            <a:ext cx="7640640" cy="1585800"/>
            <a:chOff x="685800" y="2135160"/>
            <a:chExt cx="7640640" cy="1585800"/>
          </a:xfrm>
        </p:grpSpPr>
        <p:sp>
          <p:nvSpPr>
            <p:cNvPr id="132" name=""/>
            <p:cNvSpPr/>
            <p:nvPr/>
          </p:nvSpPr>
          <p:spPr>
            <a:xfrm>
              <a:off x="685800" y="2344680"/>
              <a:ext cx="5252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-SÃO PAULO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enominação da capela construída ali pelos jesuítas, em 1554 e inaugurada a 25 de janeiro, dia da conversão d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a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6059520" y="2135160"/>
              <a:ext cx="2266920" cy="15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1081080" y="3220920"/>
            <a:ext cx="7367760" cy="1670040"/>
            <a:chOff x="1081080" y="3220920"/>
            <a:chExt cx="7367760" cy="1670040"/>
          </a:xfrm>
        </p:grpSpPr>
        <p:sp>
          <p:nvSpPr>
            <p:cNvPr id="135" name=""/>
            <p:cNvSpPr/>
            <p:nvPr/>
          </p:nvSpPr>
          <p:spPr>
            <a:xfrm>
              <a:off x="3692520" y="3922560"/>
              <a:ext cx="475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5- SERGIPE: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Do tupi, si’riü pe =  no rio dos siris, primitivo nome do rio junto á barra da capitaní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1081080" y="3220920"/>
              <a:ext cx="2505240" cy="16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816120" y="4782960"/>
            <a:ext cx="7621560" cy="1573200"/>
            <a:chOff x="816120" y="4782960"/>
            <a:chExt cx="7621560" cy="1573200"/>
          </a:xfrm>
        </p:grpSpPr>
        <p:sp>
          <p:nvSpPr>
            <p:cNvPr id="138" name=""/>
            <p:cNvSpPr/>
            <p:nvPr/>
          </p:nvSpPr>
          <p:spPr>
            <a:xfrm>
              <a:off x="816120" y="5091120"/>
              <a:ext cx="518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6- TOCANTINS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ome de tribo indígena que habitou as margens do rio. È palavra tupi que significa “bico de tucano”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6077160" y="4782960"/>
              <a:ext cx="2360520" cy="15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195120" y="23184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1960" y="763560"/>
            <a:ext cx="7966080" cy="3967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640" y="5500800"/>
            <a:ext cx="8145720" cy="520200"/>
          </a:xfrm>
          <a:prstGeom prst="rect">
            <a:avLst/>
          </a:prstGeom>
          <a:gradFill rotWithShape="0">
            <a:gsLst>
              <a:gs pos="0">
                <a:srgbClr val="009900">
                  <a:alpha val="50196"/>
                </a:srgbClr>
              </a:gs>
              <a:gs pos="100000">
                <a:srgbClr val="004600">
                  <a:alpha val="72156"/>
                </a:srgbClr>
              </a:gs>
            </a:gsLst>
            <a:lin ang="5400000"/>
          </a:gra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Dados e imagens do Google    Música: Canta Brasil de David Nasser - Interpretação : Gal Costa Formatação: NC 02/11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0:05:09Z</dcterms:created>
  <dc:creator>aAA</dc:creator>
  <dc:description/>
  <dc:language>en-US</dc:language>
  <cp:lastModifiedBy>aAA</cp:lastModifiedBy>
  <dcterms:modified xsi:type="dcterms:W3CDTF">2009-11-02T03:41:50Z</dcterms:modified>
  <cp:revision>12</cp:revision>
  <dc:subject/>
  <dc:title>Slide 1</dc:title>
</cp:coreProperties>
</file>