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sound001.wav" ContentType="audio/x-wav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072-54E4-46AB-8B94-B034A7BE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8B8-6FAC-4683-9F1E-B3797FF7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B41-0BA4-443F-8643-DCD42F87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536B-50BD-4938-B24F-2C9464ED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C34-723F-41B6-B33B-4625BB33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9A1-66D0-4CD6-BBC8-B48C82A6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A8F-14F1-4D7C-BDAA-584DCEC6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4D70-66D0-41E7-ABB7-2FD5A9B9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146-4CFA-41EB-B689-7DB47212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A15-76CA-4116-AF1A-92677370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293-F563-4C14-AA4D-99B634D7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195-9C89-4A8E-99D0-3C41A969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21B1-2838-4F18-8414-B9773DB57B8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sound001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3520" y="3505320"/>
            <a:ext cx="8153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Um pouco de tudo...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 spd="slow" advTm="10000">
    <p:random/>
    <p:sndAc>
      <p:stSnd>
        <p:snd r:embed="rId5" name="sound0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438280" y="49528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Amor própri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575316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perceber suas qualidades e gostar do que vê por den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3809880" y="5105520"/>
            <a:ext cx="609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Fé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594360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te guiar, te sustentar e te manter de p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666880" y="487692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Sinceri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56386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ser verdadeiro(a), gostar de você mesmo(a) e viver melh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819520" y="533412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Felici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0199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descobri-la dentro de você e doá-la à quem preci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819520" y="5181480"/>
            <a:ext cx="2819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Amiz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59436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descobrir que, quem tem um amigo, tem um teso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flower030" descr=""/>
          <p:cNvPicPr/>
          <p:nvPr/>
        </p:nvPicPr>
        <p:blipFill>
          <a:blip r:embed="rId2"/>
          <a:stretch/>
        </p:blipFill>
        <p:spPr>
          <a:xfrm>
            <a:off x="228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743200" y="495288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Esperanç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867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fazer você acreditar na vida e se sentir uma eterna crianç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819520" y="5105520"/>
            <a:ext cx="2819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Sabedor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594360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entender que só o bem existe, o resto é ilus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200400" y="510552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Desejo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59436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alimentar o seu corpo, dando prazer ao seu espír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1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276720" y="5410080"/>
            <a:ext cx="2361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Sonho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9436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poder, todos os dias,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alimentar a sua al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evt="end">
                                        <p:tn val="20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evt="end">
                                        <p:tn val="26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438280" y="1905120"/>
            <a:ext cx="2590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Amor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895480"/>
            <a:ext cx="6248520" cy="50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ter alguém para amar e sentir-se amado(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desejar tocar uma estrela, sorrir para a L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Sentir que a vida é bela, andando pela r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descobrir que existe um Sol dentro de voc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se sentir feliz a cada amanhecer e saber que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amor é a razão maior... para v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Mas se você não tiver um amor, que nunca deixe morrer 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você, a procura...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o desejo de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Arial Unicode MS"/>
              </a:rPr>
              <a:t>o encontr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447920" y="4876920"/>
            <a:ext cx="6933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Que você tenha um pouco de tud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295280" y="3276720"/>
            <a:ext cx="67057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Tenha de tudo, um pouco...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Monotype Corsiva"/>
              </a:rPr>
              <a:t>Seja Feliz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 spd="slow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evt="end">
                                        <p:tn val="50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6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flower0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143000" y="2057400"/>
            <a:ext cx="67057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Abraço !!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228600" y="5646600"/>
            <a:ext cx="1368360" cy="1211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6248520" y="0"/>
            <a:ext cx="3276360" cy="2705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666880" y="480060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Sensibili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56386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não ficar indiferente diante das belezas da v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124080" y="45720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Corag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56386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colocar a timidez de lado e poder realizar o que tem vont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819520" y="4724280"/>
            <a:ext cx="3733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Solidarie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56386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não ficar neutro(a) diante do sofrimento da human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895480" y="50292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Bon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59436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não desviar os olhos de quem te pede uma aju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514600" y="4952880"/>
            <a:ext cx="3733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Tranqüili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575316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quando chegar ao fim do dia,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oder deitar e dormir o sono dos an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895480" y="5181480"/>
            <a:ext cx="2514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Alegr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943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distribuí-la, colocando um sorriso no rosto de algué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flower0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flower030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743200" y="525780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Humildad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601992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Arial Unicode MS"/>
              </a:rPr>
              <a:t>Para você reconhecer aquilo que você não 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3:21:51Z</dcterms:created>
  <dc:creator>Usuario</dc:creator>
  <dc:description/>
  <dc:language>en-US</dc:language>
  <cp:lastModifiedBy>Usuario</cp:lastModifiedBy>
  <dcterms:modified xsi:type="dcterms:W3CDTF">2007-10-15T06:46:24Z</dcterms:modified>
  <cp:revision>10</cp:revision>
  <dc:subject/>
  <dc:title>Apresentação do PowerPoint</dc:title>
</cp:coreProperties>
</file>