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sound001.wav" ContentType="audio/x-wav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07F-1718-41DA-B7D6-A2553999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730-FCCC-4D13-B3A5-42DF6693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626-A474-4CA8-8214-DE71848E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986-EA7E-4D81-B8D8-B299F4A3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51C-A52D-4642-9BA5-84FCA617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748F-C19C-46A2-8FD4-731FEDA9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D02-119E-46C1-9B4B-7A800165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B0D7-C33F-448A-AA14-CA146A6E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592-B3FF-48D4-85D5-7FC70F8C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6DE-71C5-4353-B8A0-5EF80FC1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0D1-4323-485E-8425-528AA816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5AF-A6AE-4D66-8DE1-2DBEF7AE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1932-7092-431F-8589-3F49B4188F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sound001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350532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Um pouco de tudo...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 advTm="10000">
    <p:random/>
    <p:sndAc>
      <p:stSnd>
        <p:snd r:embed="rId5" name="sound0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438280" y="49528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mor própri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575316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perceber suas qualidades e gostar do que vê por d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809880" y="5105520"/>
            <a:ext cx="609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Fé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594360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te guiar, te sustentar e te manter de p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666880" y="487692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inceri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56386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ser verdadeiro(a), gostar de você mesmo(a) e viver melh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819520" y="533412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Felici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0199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escobri-la dentro de você e doá-la à quem preci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819520" y="5181480"/>
            <a:ext cx="2819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miz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59436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escobrir que, quem tem um amigo, tem um teso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flower030" descr=""/>
          <p:cNvPicPr/>
          <p:nvPr/>
        </p:nvPicPr>
        <p:blipFill>
          <a:blip r:embed="rId2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743200" y="495288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Esperanç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867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fazer você acreditar na vida e se sentir uma eterna crianç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819520" y="5105520"/>
            <a:ext cx="2819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abedor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59436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entender que só o bem existe, o resto é ilu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200400" y="51055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Desejo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5943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alimentar o seu corpo, dando prazer ao seu espír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276720" y="5410080"/>
            <a:ext cx="2361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onho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943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poder, todos os dias,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alimentar a sua al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evt="end">
                                        <p:tn val="20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evt="end">
                                        <p:tn val="26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438280" y="1905120"/>
            <a:ext cx="2590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mo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895480"/>
            <a:ext cx="624852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ter alguém para amar e sentir-se amado(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esejar tocar uma estrela, sorrir para a L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Sentir que a vida é bela, andando pela r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escobrir que existe um Sol dentro de voc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se sentir feliz a cada amanhecer e saber que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amor é a razão maior... para v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Mas se você não tiver um amor, que nunca deixe morrer 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você, a procura...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o desejo de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o encont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447920" y="4876920"/>
            <a:ext cx="6933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Que você tenha um pouco de tud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295280" y="3276720"/>
            <a:ext cx="67057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Tenha de tudo, um pouco...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Monotype Corsiva"/>
              </a:rPr>
              <a:t>Seja Feliz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evt="end">
                                        <p:tn val="50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flower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143000" y="2057400"/>
            <a:ext cx="67057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braço !!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28600" y="5646600"/>
            <a:ext cx="1368360" cy="1211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6248520" y="0"/>
            <a:ext cx="3276360" cy="2705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666880" y="480060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ensibili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6386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não ficar indiferente diante das belezas da 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124080" y="45720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Corag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56386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colocar a timidez de lado e poder realizar o que tem vont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819520" y="4724280"/>
            <a:ext cx="3733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olidarie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6386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não ficar neutro(a) diante do sofrimento da human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895480" y="50292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Bon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5943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não desviar os olhos de quem te pede uma aju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514600" y="4952880"/>
            <a:ext cx="3733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Tranqüili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575316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quando chegar ao fim do dia,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oder deitar e dormir o sono dos an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895480" y="5181480"/>
            <a:ext cx="2514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legr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943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istribuí-la, colocando um sorriso no rosto de algué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743200" y="525780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Humil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601992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reconhecer aquilo que você não 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3:21:51Z</dcterms:created>
  <dc:creator>Usuario</dc:creator>
  <dc:description/>
  <dc:language>en-US</dc:language>
  <cp:lastModifiedBy>Usuario</cp:lastModifiedBy>
  <dcterms:modified xsi:type="dcterms:W3CDTF">2007-10-15T06:46:24Z</dcterms:modified>
  <cp:revision>10</cp:revision>
  <dc:subject/>
  <dc:title>Apresentação do PowerPoint</dc:title>
</cp:coreProperties>
</file>