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6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4.png" ContentType="image/png"/>
  <Override PartName="/ppt/media/image1.jpeg" ContentType="image/jpeg"/>
  <Override PartName="/ppt/media/image19.jpeg" ContentType="image/jpeg"/>
  <Override PartName="/ppt/media/Sarah%20Brightman%20-%20Stranger%20In%20Paradise.wav" ContentType="audio/x-wav"/>
  <Override PartName="/ppt/media/image5.jpeg" ContentType="image/jpeg"/>
  <Override PartName="/ppt/media/image8.jpeg" ContentType="image/jpeg"/>
  <Override PartName="/ppt/media/image10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94AA-C0D5-4F97-AF65-8AEFFB109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DCA7-36BD-4C8A-A908-5CF15D262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E1D9-D9A6-407B-A05C-D6C86A0D4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22C5-84C7-487D-81FD-620C1B63C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00AC-9678-45FB-9576-7E57E50C5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D980-AD47-4AEE-AB51-696912DE2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4956-4E81-46EA-A33C-14EA7DAB6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8B81-3EE4-4453-A47E-FD52E638A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6275-831A-495B-9952-1AFBBBC86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F9A0-883E-4B0A-9A2C-56A8FEC9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DB37-F204-47E3-901B-72020058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F34B-4CA4-41B1-9D97-303D98B6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98B57-F170-4EBE-8A21-1B15FE934E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arah%20Brightman%20-%20Stranger%20In%20Paradis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abo%20Frio%202%20-%20Praia%20das%20Concha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171360"/>
            <a:ext cx="914400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omic Sans MS"/>
              </a:rPr>
              <a:t>The Lakes Region of 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143000"/>
            <a:ext cx="9144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ff33"/>
                </a:solidFill>
                <a:latin typeface="Comic Sans MS"/>
              </a:rPr>
              <a:t>A paradise just 90 miles North of Rio de Janei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Comic Sans MS"/>
              </a:rPr>
              <a:t>Um paraíso a apenas 145 Km ao norte do Rio de Janei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251400"/>
            <a:ext cx="91440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pt-BR" sz="1200" spc="-1" strike="noStrike">
                <a:solidFill>
                  <a:srgbClr val="ffffff"/>
                </a:solidFill>
                <a:latin typeface="Comic Sans MS"/>
              </a:rPr>
              <a:t>Song: Stranger in Paradise                            </a:t>
            </a:r>
            <a:r>
              <a:rPr b="0" lang="pt-BR" sz="1000" spc="-1" strike="noStrike">
                <a:solidFill>
                  <a:srgbClr val="66ff33"/>
                </a:solidFill>
                <a:latin typeface="Comic Sans MS"/>
              </a:rPr>
              <a:t>Seashell beach </a:t>
            </a:r>
            <a:r>
              <a:rPr b="0" lang="pt-BR" sz="800" spc="-1" strike="noStrike">
                <a:solidFill>
                  <a:srgbClr val="66ff33"/>
                </a:solidFill>
                <a:latin typeface="Comic Sans MS"/>
              </a:rPr>
              <a:t>(Praia das Conchas)</a:t>
            </a:r>
            <a:r>
              <a:rPr b="0" lang="pt-BR" sz="1000" spc="-1" strike="noStrike">
                <a:solidFill>
                  <a:srgbClr val="66ff33"/>
                </a:solidFill>
                <a:latin typeface="Comic Sans MS"/>
              </a:rPr>
              <a:t> – Cabo Frio </a:t>
            </a:r>
            <a:r>
              <a:rPr b="0" lang="pt-BR" sz="1200" spc="-1" strike="noStrike">
                <a:solidFill>
                  <a:srgbClr val="ffffff"/>
                </a:solidFill>
                <a:latin typeface="Comic Sans MS"/>
              </a:rPr>
              <a:t>                                              By Ney Deluiz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pt-BR" sz="1200" spc="-1" strike="noStrike">
                <a:solidFill>
                  <a:srgbClr val="ffffff"/>
                </a:solidFill>
                <a:latin typeface="Comic Sans MS"/>
              </a:rPr>
              <a:t>Sung by: Sarah Brightman </a:t>
            </a:r>
            <a:r>
              <a:rPr b="0" lang="en-AU" sz="1200" spc="-1" strike="noStrike">
                <a:solidFill>
                  <a:srgbClr val="ffffff"/>
                </a:solidFill>
                <a:latin typeface="Comic Sans MS"/>
              </a:rPr>
              <a:t>                                                                                                                                   </a:t>
            </a:r>
            <a:r>
              <a:rPr b="0" lang="pt-BR" sz="1000" spc="-1" strike="noStrike">
                <a:solidFill>
                  <a:srgbClr val="ffff00"/>
                </a:solidFill>
                <a:latin typeface="Comic Sans MS"/>
              </a:rPr>
              <a:t>Use the Mo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2" name="Sarah%20Brightman%20-%20Stranger%20In%20Paradis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aaa%20Cabo%20Frio%2011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991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407720" y="5791320"/>
            <a:ext cx="1748880" cy="459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66ff33"/>
                </a:solidFill>
                <a:latin typeface="Comic Sans MS"/>
              </a:rPr>
              <a:t>Little beach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66ff33"/>
                </a:solidFill>
                <a:latin typeface="Comic Sans MS"/>
              </a:rPr>
              <a:t>Prainhas – Arraial do Cab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6248520"/>
            <a:ext cx="914400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omic Sans MS"/>
              </a:rPr>
              <a:t>Wherever you go, the different tones of green and blue of the water are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 mesmerizing</a:t>
            </a:r>
            <a:r>
              <a:rPr b="0" lang="pt-BR" sz="1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Comic Sans MS"/>
              </a:rPr>
              <a:t>Onde quer que você vá, as variações de tons de verde e de azul da água são hipnotizantes.  </a:t>
            </a:r>
            <a:r>
              <a:rPr b="0" lang="en-US" sz="1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pt-BR" sz="1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Slide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76320" y="6248520"/>
            <a:ext cx="906768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omic Sans MS"/>
              </a:rPr>
              <a:t>A lot of options to have fu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Comic Sans MS"/>
              </a:rPr>
              <a:t>São muitas as opções de diversã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045640" y="6004080"/>
            <a:ext cx="1098000" cy="2462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66ff33"/>
                </a:solidFill>
                <a:latin typeface="Comic Sans MS"/>
              </a:rPr>
              <a:t>Arraial do Cab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Slide8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64008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99520" y="6004080"/>
            <a:ext cx="744480" cy="2462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66ff33"/>
                </a:solidFill>
                <a:latin typeface="Comic Sans MS"/>
              </a:rPr>
              <a:t>Cabo F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6248520"/>
            <a:ext cx="914400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Cabo Frio, </a:t>
            </a:r>
            <a:r>
              <a:rPr b="0" lang="pt-BR" sz="1400" spc="-1" strike="noStrike">
                <a:solidFill>
                  <a:srgbClr val="ffffff"/>
                </a:solidFill>
                <a:latin typeface="Comic Sans MS"/>
              </a:rPr>
              <a:t>population 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120</a:t>
            </a:r>
            <a:r>
              <a:rPr b="0" lang="pt-BR" sz="1400" spc="-1" strike="noStrike">
                <a:solidFill>
                  <a:srgbClr val="ffffff"/>
                </a:solidFill>
                <a:latin typeface="Comic Sans MS"/>
              </a:rPr>
              <a:t>,000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,</a:t>
            </a:r>
            <a:r>
              <a:rPr b="0" lang="pt-BR" sz="1400" spc="-1" strike="noStrike">
                <a:solidFill>
                  <a:srgbClr val="ffffff"/>
                </a:solidFill>
                <a:latin typeface="Comic Sans MS"/>
              </a:rPr>
              <a:t> is the largest city in the Lakes Reg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Comic Sans MS"/>
              </a:rPr>
              <a:t>Cabo Frio, com uma população de 120 mil, é a maior cidade na Região dos Lago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Slide5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8399520" y="6004080"/>
            <a:ext cx="744480" cy="2462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66ff33"/>
                </a:solidFill>
                <a:latin typeface="Comic Sans MS"/>
              </a:rPr>
              <a:t>Cabo F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6251400"/>
            <a:ext cx="914400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omic Sans MS"/>
              </a:rPr>
              <a:t>In Cabo Frio there’s always a boat ready to take you on a breathtaking tour.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Comic Sans MS"/>
              </a:rPr>
              <a:t>Em Cabo Frio há sempre um barco pronto para levá-lo num passeio de tirar o fôleg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aaa%20Cabo%20Frio%2022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407720" y="5791320"/>
            <a:ext cx="1748880" cy="459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66ff33"/>
                </a:solidFill>
                <a:latin typeface="Comic Sans MS"/>
              </a:rPr>
              <a:t>Little beach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66ff33"/>
                </a:solidFill>
                <a:latin typeface="Comic Sans MS"/>
              </a:rPr>
              <a:t>Prainhas – Arraial do Cab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6248520"/>
            <a:ext cx="914400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omic Sans MS"/>
              </a:rPr>
              <a:t>No matter how many times you go to the Lakes Region of Rio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Comic Sans MS"/>
              </a:rPr>
              <a:t>Não importa quantas vezes você vá à Região dos Lagos do Rio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aaa%20Cabo%20Frio%2017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96320" y="5791320"/>
            <a:ext cx="2050560" cy="459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66ff33"/>
                </a:solidFill>
                <a:latin typeface="Comic Sans MS"/>
              </a:rPr>
              <a:t>Lighthouse beach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66ff33"/>
                </a:solidFill>
                <a:latin typeface="Comic Sans MS"/>
              </a:rPr>
              <a:t>Praia do Farol – Arraial do Cab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248520"/>
            <a:ext cx="914400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omic Sans MS"/>
              </a:rPr>
              <a:t>... you’ll never feel it was enough 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Comic Sans MS"/>
              </a:rPr>
              <a:t>... você nunca vai achar que foram suficientes 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-152280" y="6248520"/>
            <a:ext cx="929628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omic Sans MS"/>
              </a:rPr>
              <a:t>... and you’ll always wish there will be a next time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Comic Sans MS"/>
              </a:rPr>
              <a:t>... e você vai sempre desejar que exista uma próxima vez!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402400" y="6400800"/>
            <a:ext cx="65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Comic Sans MS"/>
              </a:rPr>
              <a:t>The 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aaa%20Cabo%20Frio%2027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153200" y="5791320"/>
            <a:ext cx="1959120" cy="459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66ff33"/>
                </a:solidFill>
                <a:latin typeface="Comic Sans MS"/>
              </a:rPr>
              <a:t>Fort of St. </a:t>
            </a:r>
            <a:r>
              <a:rPr b="0" lang="en-US" sz="1000" spc="-1" strike="noStrike">
                <a:solidFill>
                  <a:srgbClr val="66ff33"/>
                </a:solidFill>
                <a:latin typeface="Comic Sans MS"/>
              </a:rPr>
              <a:t>Matthew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66ff33"/>
                </a:solidFill>
                <a:latin typeface="Comic Sans MS"/>
              </a:rPr>
              <a:t>Forte de S. Mateus - Cabo F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6781320" y="1143000"/>
            <a:ext cx="2362320" cy="2286000"/>
            <a:chOff x="6781320" y="1143000"/>
            <a:chExt cx="2362320" cy="2286000"/>
          </a:xfrm>
        </p:grpSpPr>
        <p:pic>
          <p:nvPicPr>
            <p:cNvPr id="47" name="untitled" descr=""/>
            <p:cNvPicPr/>
            <p:nvPr/>
          </p:nvPicPr>
          <p:blipFill>
            <a:blip r:embed="rId1"/>
            <a:stretch/>
          </p:blipFill>
          <p:spPr>
            <a:xfrm>
              <a:off x="6845400" y="1143000"/>
              <a:ext cx="2298240" cy="22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 flipH="1">
              <a:off x="6845400" y="3167640"/>
              <a:ext cx="191520" cy="26136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6780960" y="1143000"/>
              <a:ext cx="255240" cy="1110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0" name="Cópia%20de%20aaa%20Cabo%20Frio%206" descr=""/>
          <p:cNvPicPr/>
          <p:nvPr/>
        </p:nvPicPr>
        <p:blipFill>
          <a:blip r:embed="rId2"/>
          <a:stretch/>
        </p:blipFill>
        <p:spPr>
          <a:xfrm>
            <a:off x="0" y="0"/>
            <a:ext cx="6858000" cy="6553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5943600"/>
            <a:ext cx="6934320" cy="2764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66ff33"/>
                </a:solidFill>
                <a:latin typeface="Comic Sans MS"/>
              </a:rPr>
              <a:t>Fort beach (praia do Forte) - Cabo F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248520"/>
            <a:ext cx="914400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The Lakes Region of Rio de Janeiro </a:t>
            </a:r>
            <a:r>
              <a:rPr b="0" lang="pt-BR" sz="1400" spc="-1" strike="noStrike">
                <a:solidFill>
                  <a:srgbClr val="ffffff"/>
                </a:solidFill>
                <a:latin typeface="Comic Sans MS"/>
              </a:rPr>
              <a:t>spans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 6</a:t>
            </a:r>
            <a:r>
              <a:rPr b="0" lang="pt-BR" sz="1400" spc="-1" strike="noStrike">
                <a:solidFill>
                  <a:srgbClr val="ffffff"/>
                </a:solidFill>
                <a:latin typeface="Comic Sans MS"/>
              </a:rPr>
              <a:t>0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 miles of crystal clear beaches and sea</a:t>
            </a:r>
            <a:r>
              <a:rPr b="0" lang="pt-BR" sz="1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ater lagoons</a:t>
            </a:r>
            <a:r>
              <a:rPr b="0" lang="pt-BR" sz="1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Comic Sans MS"/>
              </a:rPr>
              <a:t>A Região dos Lagos no Rio de Janeiro se estende por 96 Km de praias de águas cristalinas e lagoas de água salgad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6705720" y="3824280"/>
            <a:ext cx="2590560" cy="1586880"/>
            <a:chOff x="6705720" y="3824280"/>
            <a:chExt cx="2590560" cy="1586880"/>
          </a:xfrm>
        </p:grpSpPr>
        <p:pic>
          <p:nvPicPr>
            <p:cNvPr id="55" name="03_mapa" descr=""/>
            <p:cNvPicPr/>
            <p:nvPr/>
          </p:nvPicPr>
          <p:blipFill>
            <a:blip r:embed="rId3"/>
            <a:stretch/>
          </p:blipFill>
          <p:spPr>
            <a:xfrm>
              <a:off x="6858000" y="4114440"/>
              <a:ext cx="228600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6705720" y="4403520"/>
              <a:ext cx="1981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Verdana"/>
                </a:rPr>
                <a:t>State of Rio de Janei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263720" y="5195520"/>
              <a:ext cx="872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Verdana"/>
                </a:rPr>
                <a:t>Atlantic Oce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534520" y="4251240"/>
              <a:ext cx="7617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00" spc="-1" strike="noStrike">
                  <a:solidFill>
                    <a:srgbClr val="000000"/>
                  </a:solidFill>
                  <a:latin typeface="Verdana"/>
                </a:rPr>
                <a:t>Rio das Ostras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924680" y="4509720"/>
              <a:ext cx="381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848720" y="5105160"/>
              <a:ext cx="7617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00" spc="-1" strike="noStrike">
                  <a:solidFill>
                    <a:srgbClr val="000000"/>
                  </a:solidFill>
                  <a:latin typeface="Verdana"/>
                </a:rPr>
                <a:t>Saquarema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610480" y="3824280"/>
              <a:ext cx="381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6858000" y="3581280"/>
            <a:ext cx="2286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omic Sans MS"/>
              </a:rPr>
              <a:t>The Lakes Region of 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Comic Sans MS"/>
              </a:rPr>
              <a:t>A Região dos Lag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6248520"/>
            <a:ext cx="914400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omic Sans MS"/>
              </a:rPr>
              <a:t>The Seashell beach in Cabo Frio is my favorite beach in this whole wide worl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Comic Sans MS"/>
              </a:rPr>
              <a:t>A praia das Conchas em Cabo Frio é a minha praia favorita no mundo inteir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aaa%20Cabo%20Frio%20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219080" y="5791320"/>
            <a:ext cx="1960920" cy="459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66ff33"/>
                </a:solidFill>
                <a:latin typeface="Comic Sans MS"/>
              </a:rPr>
              <a:t>Seashell be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66ff33"/>
                </a:solidFill>
                <a:latin typeface="Comic Sans MS"/>
              </a:rPr>
              <a:t>Praia das Conchas – Cabo F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raia%20das%20Conchas%20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320" y="6248520"/>
            <a:ext cx="906768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omic Sans MS"/>
              </a:rPr>
              <a:t>These small restaurants’ specialty is 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0" lang="pt-BR" sz="1400" spc="-1" strike="noStrike">
                <a:solidFill>
                  <a:srgbClr val="ffffff"/>
                </a:solidFill>
                <a:latin typeface="Comic Sans MS"/>
              </a:rPr>
              <a:t>freshest seafood served while you’re still lying on the white san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Comic Sans MS"/>
              </a:rPr>
              <a:t>A especialidade destes pequenos restaurantes são frutos do mar fresquíssimos e servidos por garçons na areia mesm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315200" y="5973840"/>
            <a:ext cx="1828800" cy="2764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66ff33"/>
                </a:solidFill>
                <a:latin typeface="Comic Sans MS"/>
              </a:rPr>
              <a:t>Seashell beach – Cabo F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aaa%20Cabo%20Frio%20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248520"/>
            <a:ext cx="914400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omic Sans MS"/>
              </a:rPr>
              <a:t>The sand in Cabo Frio is so white and so fine that it looks like suga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Comic Sans MS"/>
              </a:rPr>
              <a:t>A areia em Cabo Frio é tão branca e tão fina que parece açúca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832880" y="6004080"/>
            <a:ext cx="1312920" cy="2462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66ff33"/>
                </a:solidFill>
                <a:latin typeface="Comic Sans MS"/>
              </a:rPr>
              <a:t>Dunes of Cabo F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Slide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6248520"/>
            <a:ext cx="9144000" cy="5320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omic Sans MS"/>
              </a:rPr>
              <a:t>Hard to decide which beach to go to among so many awesome ones on the Lakes Reg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Comic Sans MS"/>
              </a:rPr>
              <a:t>Difícil escolher qual praia ir entre tantas praias deslumbrantes na Região dos Lago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407720" y="5791320"/>
            <a:ext cx="1748880" cy="459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66ff33"/>
                </a:solidFill>
                <a:latin typeface="Comic Sans MS"/>
              </a:rPr>
              <a:t>Little beach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66ff33"/>
                </a:solidFill>
                <a:latin typeface="Comic Sans MS"/>
              </a:rPr>
              <a:t>Prainhas – Arraial do Cab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aaa%20Cabo%20Frio%20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6248520"/>
            <a:ext cx="914400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omic Sans MS"/>
              </a:rPr>
              <a:t>Do you know what I mean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Comic Sans MS"/>
              </a:rPr>
              <a:t>Você entende o que eu quero dizer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054560" y="5867280"/>
            <a:ext cx="2100960" cy="3985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Comic Sans MS"/>
              </a:rPr>
              <a:t>Oven Beach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66ff33"/>
                </a:solidFill>
                <a:latin typeface="Comic Sans MS"/>
              </a:rPr>
              <a:t>Praia do Forno – Arraial do Cab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aaa%20Cabo%20Frio%20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6248520"/>
            <a:ext cx="914400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omic Sans MS"/>
              </a:rPr>
              <a:t>Do you </a:t>
            </a:r>
            <a:r>
              <a:rPr b="0" lang="pt-BR" sz="1400" spc="-1" strike="noStrike">
                <a:solidFill>
                  <a:srgbClr val="66ff33"/>
                </a:solidFill>
                <a:latin typeface="Comic Sans MS"/>
              </a:rPr>
              <a:t>really</a:t>
            </a:r>
            <a:r>
              <a:rPr b="0" lang="pt-BR" sz="1400" spc="-1" strike="noStrike">
                <a:solidFill>
                  <a:srgbClr val="ffffff"/>
                </a:solidFill>
                <a:latin typeface="Comic Sans MS"/>
              </a:rPr>
              <a:t> know what I mean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Comic Sans MS"/>
              </a:rPr>
              <a:t>Você entende </a:t>
            </a:r>
            <a:r>
              <a:rPr b="0" lang="pt-BR" sz="1000" spc="-1" strike="noStrike">
                <a:solidFill>
                  <a:srgbClr val="66ff33"/>
                </a:solidFill>
                <a:latin typeface="Comic Sans MS"/>
              </a:rPr>
              <a:t>mesmo</a:t>
            </a:r>
            <a:r>
              <a:rPr b="0" lang="pt-BR" sz="1000" spc="-1" strike="noStrike">
                <a:solidFill>
                  <a:srgbClr val="ffff00"/>
                </a:solidFill>
                <a:latin typeface="Comic Sans MS"/>
              </a:rPr>
              <a:t> o que eu quero dizer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10400" y="6019920"/>
            <a:ext cx="1544760" cy="2462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66ff33"/>
                </a:solidFill>
                <a:latin typeface="Comic Sans MS"/>
              </a:rPr>
              <a:t>Peró beach – Cabo F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aaa%20Cabo%20Frio%202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8578440" y="6019920"/>
            <a:ext cx="569520" cy="2462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66ff33"/>
                </a:solidFill>
                <a:latin typeface="Comic Sans MS"/>
              </a:rPr>
              <a:t>Búz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6248520"/>
            <a:ext cx="914400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omic Sans MS"/>
              </a:rPr>
              <a:t>Are you sure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Comic Sans MS"/>
              </a:rPr>
              <a:t>Você tem certeza?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!cid_000301c81eb3$afc60a70$6901a8c0@ney" descr=""/>
          <p:cNvPicPr/>
          <p:nvPr/>
        </p:nvPicPr>
        <p:blipFill>
          <a:blip r:embed="rId2"/>
          <a:stretch/>
        </p:blipFill>
        <p:spPr>
          <a:xfrm>
            <a:off x="5257800" y="64008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2T07:14:30Z</dcterms:created>
  <dc:creator>Ney Deluiz</dc:creator>
  <dc:description>Apresentação s/ valor comercial - Feita por hobby</dc:description>
  <dc:language>en-US</dc:language>
  <cp:lastModifiedBy>Ney</cp:lastModifiedBy>
  <dcterms:modified xsi:type="dcterms:W3CDTF">2007-11-07T20:13:47Z</dcterms:modified>
  <cp:revision>143</cp:revision>
  <dc:subject>Non commercial - Made as a hobby</dc:subject>
  <dc:title>Cabo Frio, Brazil</dc:title>
</cp:coreProperties>
</file>