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19.jpeg" ContentType="image/jpeg"/>
  <Override PartName="/ppt/media/Sarah%20Brightman%20-%20Stranger%20In%20Paradise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EDA-56E9-4771-9BCF-790C9786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28A-BF71-43A7-ABA2-45F24743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122-0694-439A-9D1C-18B3C51F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156-9AAB-4AD7-A1B0-ACE20D59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ECE-16C6-4B0F-9E4C-FB1BC182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0A2-9104-45AD-8D7E-827654E4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40B-346C-4E6A-8B7A-F261544A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D91-CB0F-4887-8A86-DAA3F88B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BF0-B6BE-42D2-B080-EF656B3C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B98-D281-457A-A99D-B7C19468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592-E19C-4093-95A2-3F7A5183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18C-E187-466E-9AB7-2B3C949A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E106-2777-4528-A829-ECE1C81D2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arah%20Brightman%20-%20Stranger%20In%20Paradi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bo%20Frio%202%20-%20Praia%20das%20Conch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71360"/>
            <a:ext cx="9144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The Lakes Region of 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14300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ff33"/>
                </a:solidFill>
                <a:latin typeface="Comic Sans MS"/>
              </a:rPr>
              <a:t>A paradise just 90 miles North of Rio de Jan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Um paraíso a apenas 145 Km ao norte do Rio de Jane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251400"/>
            <a:ext cx="9144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Song: Stranger in Paradise                            </a:t>
            </a: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Seashell beach </a:t>
            </a:r>
            <a:r>
              <a:rPr b="0" lang="pt-BR" sz="800" spc="-1" strike="noStrike">
                <a:solidFill>
                  <a:srgbClr val="66ff33"/>
                </a:solidFill>
                <a:latin typeface="Comic Sans MS"/>
              </a:rPr>
              <a:t>(Praia das Conchas)</a:t>
            </a: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 – Cabo Frio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                                             By Ney Deluiz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Sung by: Sarah Brightman </a:t>
            </a:r>
            <a:r>
              <a:rPr b="0" lang="en-AU" sz="12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                                                 </a:t>
            </a: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Use the M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Sarah%20Brightman%20-%20Stranger%20In%20Paradi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aa%20Cabo%20Frio%2011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9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407720" y="5791320"/>
            <a:ext cx="1748880" cy="459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Little beac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rainhas – Arraial do Ca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Wherever you go, the different tones of green and blue of the water are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mesmerizing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Onde quer que você vá, as variações de tons de verde e de azul da água são hipnotizantes.  </a:t>
            </a:r>
            <a:r>
              <a:rPr b="0" lang="en-US" sz="1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lid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6248520"/>
            <a:ext cx="90676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A lot of options to have f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São muitas as opções de diversã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45640" y="6004080"/>
            <a:ext cx="1098000" cy="2462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Arraial do Ca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lide8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4008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99520" y="6004080"/>
            <a:ext cx="744480" cy="2462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abo Frio, 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population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20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,000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 is the largest city in the Lakes Reg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Cabo Frio, com uma população de 120 mil, é a maior cidade na Região dos Lag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Slide5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99520" y="6004080"/>
            <a:ext cx="744480" cy="2462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25140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In Cabo Frio there’s always a boat ready to take you on a breathtaking tour.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Em Cabo Frio há sempre um barco pronto para levá-lo num passeio de tirar o fôleg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aa%20Cabo%20Frio%2022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07720" y="5791320"/>
            <a:ext cx="1748880" cy="459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Little beac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rainhas – Arraial do Ca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No matter how many times you go to the Lakes Region of Rio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Não importa quantas vezes você vá à Região dos Lagos do Rio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aa%20Cabo%20Frio%2017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6320" y="5791320"/>
            <a:ext cx="2050560" cy="459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Lighthouse beac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raia do Farol – Arraial do Ca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.. you’ll never feel it was enough 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... você nunca vai achar que foram suficientes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52280" y="6248520"/>
            <a:ext cx="9296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.. and you’ll always wish there will be a next tim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... e você vai sempre desejar que exista uma próxima vez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02400" y="640080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Comic Sans MS"/>
              </a:rPr>
              <a:t>The 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aaa%20Cabo%20Frio%2027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153200" y="5791320"/>
            <a:ext cx="1959120" cy="459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Fort of St. </a:t>
            </a:r>
            <a:r>
              <a:rPr b="0" lang="en-US" sz="1000" spc="-1" strike="noStrike">
                <a:solidFill>
                  <a:srgbClr val="66ff33"/>
                </a:solidFill>
                <a:latin typeface="Comic Sans MS"/>
              </a:rPr>
              <a:t>Matthe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Forte de S. Mateus - 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6781320" y="1143000"/>
            <a:ext cx="2362320" cy="2286000"/>
            <a:chOff x="6781320" y="1143000"/>
            <a:chExt cx="2362320" cy="2286000"/>
          </a:xfrm>
        </p:grpSpPr>
        <p:pic>
          <p:nvPicPr>
            <p:cNvPr id="47" name="untitled" descr=""/>
            <p:cNvPicPr/>
            <p:nvPr/>
          </p:nvPicPr>
          <p:blipFill>
            <a:blip r:embed="rId1"/>
            <a:stretch/>
          </p:blipFill>
          <p:spPr>
            <a:xfrm>
              <a:off x="6845400" y="1143000"/>
              <a:ext cx="229824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flipH="1">
              <a:off x="6845400" y="3167640"/>
              <a:ext cx="191520" cy="2613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6780960" y="1143000"/>
              <a:ext cx="255240" cy="1110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Cópia%20de%20aaa%20Cabo%20Frio%206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655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943600"/>
            <a:ext cx="6934320" cy="276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Fort beach (praia do Forte) - 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Lakes Region of Rio de Janeiro 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spans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6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miles of crystal clear beaches and sea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ater lagoons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A Região dos Lagos no Rio de Janeiro se estende por 96 Km de praias de águas cristalinas e lagoas de água salg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705720" y="3824280"/>
            <a:ext cx="2590560" cy="1586880"/>
            <a:chOff x="6705720" y="3824280"/>
            <a:chExt cx="2590560" cy="1586880"/>
          </a:xfrm>
        </p:grpSpPr>
        <p:pic>
          <p:nvPicPr>
            <p:cNvPr id="55" name="03_mapa" descr=""/>
            <p:cNvPicPr/>
            <p:nvPr/>
          </p:nvPicPr>
          <p:blipFill>
            <a:blip r:embed="rId3"/>
            <a:stretch/>
          </p:blipFill>
          <p:spPr>
            <a:xfrm>
              <a:off x="6858000" y="4114440"/>
              <a:ext cx="22860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705720" y="440352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Verdana"/>
                </a:rPr>
                <a:t>State of Rio de Jane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63720" y="5195520"/>
              <a:ext cx="87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Verdana"/>
                </a:rPr>
                <a:t>Atlantic Oce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34520" y="4251240"/>
              <a:ext cx="7617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Verdana"/>
                </a:rPr>
                <a:t>Rio das Ostra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24680" y="4509720"/>
              <a:ext cx="38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48720" y="5105160"/>
              <a:ext cx="7617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Verdana"/>
                </a:rPr>
                <a:t>Saquarem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0480" y="3824280"/>
              <a:ext cx="38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858000" y="3581280"/>
            <a:ext cx="2286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The Lakes Region of 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A Região dos Lag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The Seashell beach in Cabo Frio is my favorite beach in this whole wide wor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A praia das Conchas em Cabo Frio é a minha praia favorita no mundo intei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aa%20Cabo%20Frio%2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19080" y="5791320"/>
            <a:ext cx="1960920" cy="459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Seashell b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raia das Conchas – 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raia%20das%20Conchas%2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6248520"/>
            <a:ext cx="90676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These small restaurants’ specialty is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freshest seafood served while you’re still lying on the white s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A especialidade destes pequenos restaurantes são frutos do mar fresquíssimos e servidos por garçons na areia mesm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5973840"/>
            <a:ext cx="1828800" cy="276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Seashell beach – 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aa%20Cabo%20Frio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The sand in Cabo Frio is so white and so fine that it looks like sug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A areia em Cabo Frio é tão branca e tão fina que parece açúca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32880" y="6004080"/>
            <a:ext cx="1312920" cy="2462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Dunes of 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lid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Hard to decide which beach to go to among so many awesome ones on the Lakes Reg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Difícil escolher qual praia ir entre tantas praias deslumbrantes na Região dos Lag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07720" y="5791320"/>
            <a:ext cx="1748880" cy="459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Little beac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rainhas – Arraial do Ca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aa%20Cabo%20Frio%20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Do you know what I me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Você entende o que eu quero diz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54560" y="5867280"/>
            <a:ext cx="2100960" cy="39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Comic Sans MS"/>
              </a:rPr>
              <a:t>Oven Beac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raia do Forno – Arraial do Ca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aa%20Cabo%20Frio%2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Do you </a:t>
            </a:r>
            <a:r>
              <a:rPr b="0" lang="pt-BR" sz="1400" spc="-1" strike="noStrike">
                <a:solidFill>
                  <a:srgbClr val="66ff33"/>
                </a:solidFill>
                <a:latin typeface="Comic Sans MS"/>
              </a:rPr>
              <a:t>really</a:t>
            </a: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 know what I me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Você entende </a:t>
            </a: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mesmo</a:t>
            </a: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 o que eu quero diz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10400" y="6019920"/>
            <a:ext cx="1544760" cy="2462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Peró beach – Cabo F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aa%20Cabo%20Frio%20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578440" y="6019920"/>
            <a:ext cx="569520" cy="2462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66ff33"/>
                </a:solidFill>
                <a:latin typeface="Comic Sans MS"/>
              </a:rPr>
              <a:t>Búz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248520"/>
            <a:ext cx="9144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Are you sur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00"/>
                </a:solidFill>
                <a:latin typeface="Comic Sans MS"/>
              </a:rPr>
              <a:t>Você tem certeza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!cid_000301c81eb3$afc60a70$6901a8c0@ney" descr=""/>
          <p:cNvPicPr/>
          <p:nvPr/>
        </p:nvPicPr>
        <p:blipFill>
          <a:blip r:embed="rId2"/>
          <a:stretch/>
        </p:blipFill>
        <p:spPr>
          <a:xfrm>
            <a:off x="525780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7:14:30Z</dcterms:created>
  <dc:creator>Ney Deluiz</dc:creator>
  <dc:description>Apresentação s/ valor comercial - Feita por hobby</dc:description>
  <dc:language>en-US</dc:language>
  <cp:lastModifiedBy>Ney</cp:lastModifiedBy>
  <dcterms:modified xsi:type="dcterms:W3CDTF">2007-11-07T20:13:47Z</dcterms:modified>
  <cp:revision>143</cp:revision>
  <dc:subject>Non commercial - Made as a hobby</dc:subject>
  <dc:title>Cabo Frio, Brazil</dc:title>
</cp:coreProperties>
</file>