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forest.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4157A-5F0E-4F2A-958F-6151325CE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289DF-A0FA-4F52-A1C7-403EA5BEB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58F80-32C0-437D-9931-42A132E38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B3A8F-31F8-4E76-BBA6-12E437752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CCE6-7BC5-4A85-BD4E-0DA9BB004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F2DE5-7EB5-49D0-BB3A-485864B91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FC2A6-8CD9-456B-8E45-0AC2CBD4D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5FFC2-1A93-4A9F-9570-35D0BDFA8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7547-DFAA-43CD-9A45-7D6151943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59A7-60C6-4276-B4BF-1979A83DC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C215-B5C7-4187-BE8E-B222FD68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B1128-37EE-49FD-83C7-384F1876A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0028-FC24-4547-BDE4-E843BD546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orest.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84360" y="115920"/>
            <a:ext cx="4105080" cy="6092280"/>
            <a:chOff x="684360" y="115920"/>
            <a:chExt cx="4105080" cy="6092280"/>
          </a:xfrm>
        </p:grpSpPr>
        <p:pic>
          <p:nvPicPr>
            <p:cNvPr id="42" name="" descr=""/>
            <p:cNvPicPr/>
            <p:nvPr/>
          </p:nvPicPr>
          <p:blipFill>
            <a:blip r:embed="rId1"/>
            <a:stretch/>
          </p:blipFill>
          <p:spPr>
            <a:xfrm>
              <a:off x="684360" y="187200"/>
              <a:ext cx="4001760" cy="6021000"/>
            </a:xfrm>
            <a:prstGeom prst="rect">
              <a:avLst/>
            </a:prstGeom>
            <a:ln w="0">
              <a:noFill/>
            </a:ln>
          </p:spPr>
        </p:pic>
        <p:sp>
          <p:nvSpPr>
            <p:cNvPr id="43" name=""/>
            <p:cNvSpPr/>
            <p:nvPr/>
          </p:nvSpPr>
          <p:spPr>
            <a:xfrm>
              <a:off x="684360" y="115920"/>
              <a:ext cx="4105080" cy="50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 name=""/>
          <p:cNvSpPr/>
          <p:nvPr/>
        </p:nvSpPr>
        <p:spPr>
          <a:xfrm>
            <a:off x="4962960" y="3167640"/>
            <a:ext cx="4008960" cy="4597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ada na vida acontece em vão </a:t>
            </a:r>
            <a:endParaRPr b="0" lang="en-US" sz="2400" spc="-1" strike="noStrike">
              <a:solidFill>
                <a:srgbClr val="000000"/>
              </a:solidFill>
              <a:latin typeface="Times New Roman"/>
            </a:endParaRPr>
          </a:p>
        </p:txBody>
      </p:sp>
    </p:spTree>
  </p:cSld>
  <p:transition>
    <p:random/>
    <p:sndAc>
      <p:stSnd>
        <p:snd r:embed="rId2" name="fores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0" name=""/>
          <p:cNvGrpSpPr/>
          <p:nvPr/>
        </p:nvGrpSpPr>
        <p:grpSpPr>
          <a:xfrm>
            <a:off x="468360" y="549360"/>
            <a:ext cx="5003280" cy="5184360"/>
            <a:chOff x="468360" y="549360"/>
            <a:chExt cx="5003280" cy="5184360"/>
          </a:xfrm>
        </p:grpSpPr>
        <p:pic>
          <p:nvPicPr>
            <p:cNvPr id="81" name="" descr=""/>
            <p:cNvPicPr/>
            <p:nvPr/>
          </p:nvPicPr>
          <p:blipFill>
            <a:blip r:embed="rId1"/>
            <a:stretch/>
          </p:blipFill>
          <p:spPr>
            <a:xfrm>
              <a:off x="468360" y="549360"/>
              <a:ext cx="4959360" cy="5184360"/>
            </a:xfrm>
            <a:prstGeom prst="rect">
              <a:avLst/>
            </a:prstGeom>
            <a:ln w="0">
              <a:noFill/>
            </a:ln>
          </p:spPr>
        </p:pic>
        <p:sp>
          <p:nvSpPr>
            <p:cNvPr id="82" name=""/>
            <p:cNvSpPr/>
            <p:nvPr/>
          </p:nvSpPr>
          <p:spPr>
            <a:xfrm>
              <a:off x="468360" y="549360"/>
              <a:ext cx="5003280" cy="473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5638680" y="757080"/>
            <a:ext cx="32767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bra seu PRESENTE todos os dias, primeiro agradecendo a quem o mandou, sem se importar  com o que vem dentro do "paco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m dúvida, Ele não se engana na remessa dos pacote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Se não veio hoje o PRESENTE que você esperava, espere... </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 name=""/>
          <p:cNvGrpSpPr/>
          <p:nvPr/>
        </p:nvGrpSpPr>
        <p:grpSpPr>
          <a:xfrm>
            <a:off x="1692360" y="260280"/>
            <a:ext cx="5976720" cy="4572000"/>
            <a:chOff x="1692360" y="260280"/>
            <a:chExt cx="5976720" cy="4572000"/>
          </a:xfrm>
        </p:grpSpPr>
        <p:pic>
          <p:nvPicPr>
            <p:cNvPr id="85" name="" descr=""/>
            <p:cNvPicPr/>
            <p:nvPr/>
          </p:nvPicPr>
          <p:blipFill>
            <a:blip r:embed="rId1"/>
            <a:stretch/>
          </p:blipFill>
          <p:spPr>
            <a:xfrm>
              <a:off x="1712880" y="260280"/>
              <a:ext cx="5876640" cy="4572000"/>
            </a:xfrm>
            <a:prstGeom prst="rect">
              <a:avLst/>
            </a:prstGeom>
            <a:ln w="0">
              <a:noFill/>
            </a:ln>
          </p:spPr>
        </p:pic>
        <p:sp>
          <p:nvSpPr>
            <p:cNvPr id="86" name=""/>
            <p:cNvSpPr/>
            <p:nvPr/>
          </p:nvSpPr>
          <p:spPr>
            <a:xfrm>
              <a:off x="1692360" y="260280"/>
              <a:ext cx="597672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2195640" y="5013360"/>
            <a:ext cx="5043240" cy="1849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bra o de amanhã com mais carinho, pois a qualquer momento, os sonhos e planos de Deus pra você chegarão,  embrulhadinhos pra PRESENTE!</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 name=""/>
          <p:cNvGrpSpPr/>
          <p:nvPr/>
        </p:nvGrpSpPr>
        <p:grpSpPr>
          <a:xfrm>
            <a:off x="179280" y="0"/>
            <a:ext cx="4392360" cy="6119280"/>
            <a:chOff x="179280" y="0"/>
            <a:chExt cx="4392360" cy="6119280"/>
          </a:xfrm>
        </p:grpSpPr>
        <p:pic>
          <p:nvPicPr>
            <p:cNvPr id="89" name="" descr=""/>
            <p:cNvPicPr/>
            <p:nvPr/>
          </p:nvPicPr>
          <p:blipFill>
            <a:blip r:embed="rId1"/>
            <a:stretch/>
          </p:blipFill>
          <p:spPr>
            <a:xfrm>
              <a:off x="271440" y="135720"/>
              <a:ext cx="4178520" cy="5983560"/>
            </a:xfrm>
            <a:prstGeom prst="rect">
              <a:avLst/>
            </a:prstGeom>
            <a:ln w="0">
              <a:noFill/>
            </a:ln>
          </p:spPr>
        </p:pic>
        <p:sp>
          <p:nvSpPr>
            <p:cNvPr id="90" name=""/>
            <p:cNvSpPr/>
            <p:nvPr/>
          </p:nvSpPr>
          <p:spPr>
            <a:xfrm>
              <a:off x="179280" y="0"/>
              <a:ext cx="4392360" cy="62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
          <p:cNvSpPr/>
          <p:nvPr/>
        </p:nvSpPr>
        <p:spPr>
          <a:xfrm>
            <a:off x="4890960" y="1960200"/>
            <a:ext cx="401184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DEUS não atende as nossas vontades, e  sim nossas  necessidades.</a:t>
            </a:r>
            <a:endParaRPr b="0" lang="en-US" sz="32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3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468360" y="0"/>
            <a:ext cx="2087640" cy="2349000"/>
            <a:chOff x="468360" y="0"/>
            <a:chExt cx="2087640" cy="2349000"/>
          </a:xfrm>
        </p:grpSpPr>
        <p:pic>
          <p:nvPicPr>
            <p:cNvPr id="93" name="" descr=""/>
            <p:cNvPicPr/>
            <p:nvPr/>
          </p:nvPicPr>
          <p:blipFill>
            <a:blip r:embed="rId1"/>
            <a:stretch/>
          </p:blipFill>
          <p:spPr>
            <a:xfrm>
              <a:off x="513360" y="51840"/>
              <a:ext cx="2023200" cy="2297160"/>
            </a:xfrm>
            <a:prstGeom prst="rect">
              <a:avLst/>
            </a:prstGeom>
            <a:ln w="0">
              <a:noFill/>
            </a:ln>
          </p:spPr>
        </p:pic>
        <p:sp>
          <p:nvSpPr>
            <p:cNvPr id="94" name=""/>
            <p:cNvSpPr/>
            <p:nvPr/>
          </p:nvSpPr>
          <p:spPr>
            <a:xfrm>
              <a:off x="468360" y="0"/>
              <a:ext cx="2087640" cy="239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2556000" y="2276640"/>
            <a:ext cx="2016000" cy="2027160"/>
            <a:chOff x="2556000" y="2276640"/>
            <a:chExt cx="2016000" cy="2027160"/>
          </a:xfrm>
        </p:grpSpPr>
        <p:pic>
          <p:nvPicPr>
            <p:cNvPr id="96" name="" descr=""/>
            <p:cNvPicPr/>
            <p:nvPr/>
          </p:nvPicPr>
          <p:blipFill>
            <a:blip r:embed="rId2"/>
            <a:stretch/>
          </p:blipFill>
          <p:spPr>
            <a:xfrm>
              <a:off x="2556000" y="2300400"/>
              <a:ext cx="1965240" cy="2003400"/>
            </a:xfrm>
            <a:prstGeom prst="rect">
              <a:avLst/>
            </a:prstGeom>
            <a:ln w="0">
              <a:noFill/>
            </a:ln>
          </p:spPr>
        </p:pic>
        <p:sp>
          <p:nvSpPr>
            <p:cNvPr id="97" name=""/>
            <p:cNvSpPr/>
            <p:nvPr/>
          </p:nvSpPr>
          <p:spPr>
            <a:xfrm>
              <a:off x="2556000" y="2276640"/>
              <a:ext cx="2016000" cy="16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0" y="4324320"/>
            <a:ext cx="2889360" cy="2533680"/>
            <a:chOff x="0" y="4324320"/>
            <a:chExt cx="2889360" cy="2533680"/>
          </a:xfrm>
        </p:grpSpPr>
        <p:pic>
          <p:nvPicPr>
            <p:cNvPr id="99" name="" descr=""/>
            <p:cNvPicPr/>
            <p:nvPr/>
          </p:nvPicPr>
          <p:blipFill>
            <a:blip r:embed="rId3"/>
            <a:stretch/>
          </p:blipFill>
          <p:spPr>
            <a:xfrm>
              <a:off x="0" y="4359240"/>
              <a:ext cx="2871000" cy="2498760"/>
            </a:xfrm>
            <a:prstGeom prst="rect">
              <a:avLst/>
            </a:prstGeom>
            <a:ln w="0">
              <a:noFill/>
            </a:ln>
          </p:spPr>
        </p:pic>
        <p:sp>
          <p:nvSpPr>
            <p:cNvPr id="100" name=""/>
            <p:cNvSpPr/>
            <p:nvPr/>
          </p:nvSpPr>
          <p:spPr>
            <a:xfrm>
              <a:off x="0" y="4324320"/>
              <a:ext cx="2889360" cy="302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5029200" y="2071800"/>
            <a:ext cx="3276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daff"/>
                </a:solidFill>
                <a:latin typeface="Monotype Corsiva"/>
              </a:rPr>
              <a:t>Que você tenha um dia abençoado, cheio da Presença de Deus, e que seu presente venha lhe trazer muita paz, experiências com Deus, e esclarecimento sobre o muito que ainda temos a aprender com Ele e por Ele!</a:t>
            </a:r>
            <a:endParaRPr b="0" lang="en-US" sz="2400" spc="-1" strike="noStrike">
              <a:solidFill>
                <a:srgbClr val="000000"/>
              </a:solidFill>
              <a:latin typeface="Times New Roman"/>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32">
                                  <p:stCondLst>
                                    <p:cond delay="0"/>
                                  </p:stCondLst>
                                  <p:childTnLst>
                                    <p:set>
                                      <p:cBhvr>
                                        <p:cTn id="13" dur="1" fill="hold">
                                          <p:stCondLst>
                                            <p:cond delay="0"/>
                                          </p:stCondLst>
                                        </p:cTn>
                                        <p:tgtEl>
                                          <p:spTgt spid="101"/>
                                        </p:tgtEl>
                                        <p:attrNameLst>
                                          <p:attrName>style.visibility</p:attrName>
                                        </p:attrNameLst>
                                      </p:cBhvr>
                                      <p:to>
                                        <p:strVal val="visible"/>
                                      </p:to>
                                    </p:set>
                                    <p:anim calcmode="lin" valueType="num">
                                      <p:cBhvr additive="repl">
                                        <p:cTn id="14" dur="500" fill="hold"/>
                                        <p:tgtEl>
                                          <p:spTgt spid="101"/>
                                        </p:tgtEl>
                                        <p:attrNameLst>
                                          <p:attrName>ppt_w</p:attrName>
                                        </p:attrNameLst>
                                      </p:cBhvr>
                                      <p:tavLst>
                                        <p:tav tm="0">
                                          <p:val>
                                            <p:strVal val="4*#ppt_w"/>
                                          </p:val>
                                        </p:tav>
                                        <p:tav tm="100000">
                                          <p:val>
                                            <p:strVal val="#ppt_w"/>
                                          </p:val>
                                        </p:tav>
                                      </p:tavLst>
                                    </p:anim>
                                    <p:anim calcmode="lin" valueType="num">
                                      <p:cBhvr additive="repl">
                                        <p:cTn id="15" dur="500" fill="hold"/>
                                        <p:tgtEl>
                                          <p:spTgt spid="1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3276360"/>
            <a:ext cx="7467480" cy="3276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ora: Se você acredita que Jesus está constantemente presente em nossas vidas e nos segura no colo nos momentos difíceis, você encaminhará este e-mail para tantas pessoas quanto você conseguir.</a:t>
            </a:r>
            <a:endParaRPr b="0" lang="en-US" sz="32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276360"/>
            <a:ext cx="7772400" cy="2819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 caso você não acredite na presença constante de Jesus, pode apagar, como se nunca o tivesse lid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o se essa mensagem não tivesse lhe tocado o coração</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4267080"/>
            <a:ext cx="7772400" cy="1828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ão se preocupe, caso você não encaminhe, nada de mal irá lhe acontecer, mas lembre-se das palavras do próprio Jesus:</a:t>
            </a:r>
            <a:endParaRPr b="0" lang="en-US" sz="32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2666520"/>
            <a:ext cx="7467480" cy="3429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Portanto, quem der testemunho de mim diante dos homens, também eu darei testemunho dele diante de meu Pai que está nos céus. Aquele, porém, que me negar diante dos homens, também eu o negarei diante de meu Pai que está nos céus” (Mateus 10,32)</a:t>
            </a:r>
            <a:endParaRPr b="0" lang="en-US" sz="32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181480"/>
            <a:ext cx="7772400" cy="914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ha um ótimo dia e que Deus te abençoe.</a:t>
            </a:r>
            <a:endParaRPr b="0" lang="en-US" sz="32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539640" y="549360"/>
            <a:ext cx="4969080" cy="5184360"/>
            <a:chOff x="539640" y="549360"/>
            <a:chExt cx="4969080" cy="5184360"/>
          </a:xfrm>
        </p:grpSpPr>
        <p:pic>
          <p:nvPicPr>
            <p:cNvPr id="46" name="" descr=""/>
            <p:cNvPicPr/>
            <p:nvPr/>
          </p:nvPicPr>
          <p:blipFill>
            <a:blip r:embed="rId1"/>
            <a:stretch/>
          </p:blipFill>
          <p:spPr>
            <a:xfrm>
              <a:off x="539640" y="620640"/>
              <a:ext cx="4937400" cy="5113080"/>
            </a:xfrm>
            <a:prstGeom prst="rect">
              <a:avLst/>
            </a:prstGeom>
            <a:ln w="0">
              <a:noFill/>
            </a:ln>
          </p:spPr>
        </p:pic>
        <p:sp>
          <p:nvSpPr>
            <p:cNvPr id="47" name=""/>
            <p:cNvSpPr/>
            <p:nvPr/>
          </p:nvSpPr>
          <p:spPr>
            <a:xfrm>
              <a:off x="539640" y="549360"/>
              <a:ext cx="4969080" cy="61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 name=""/>
          <p:cNvSpPr/>
          <p:nvPr/>
        </p:nvSpPr>
        <p:spPr>
          <a:xfrm>
            <a:off x="5775480" y="1172880"/>
            <a:ext cx="3117600" cy="451728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 um dia ao acordar, você encontrasse, ao lado da sua cama, um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indo pacote embrulhado com fitas coloridas, você o abriria, antes mesmo de lavar o rosto, rasgando 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pel, curioso para ver o que havia dentro...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907920"/>
            <a:ext cx="5832360" cy="4535640"/>
            <a:chOff x="0" y="907920"/>
            <a:chExt cx="5832360" cy="4535640"/>
          </a:xfrm>
        </p:grpSpPr>
        <p:pic>
          <p:nvPicPr>
            <p:cNvPr id="50" name="" descr=""/>
            <p:cNvPicPr/>
            <p:nvPr/>
          </p:nvPicPr>
          <p:blipFill>
            <a:blip r:embed="rId1"/>
            <a:stretch/>
          </p:blipFill>
          <p:spPr>
            <a:xfrm>
              <a:off x="0" y="981000"/>
              <a:ext cx="5764680" cy="4146840"/>
            </a:xfrm>
            <a:prstGeom prst="rect">
              <a:avLst/>
            </a:prstGeom>
            <a:ln w="0">
              <a:noFill/>
            </a:ln>
          </p:spPr>
        </p:pic>
        <p:sp>
          <p:nvSpPr>
            <p:cNvPr id="51" name=""/>
            <p:cNvSpPr/>
            <p:nvPr/>
          </p:nvSpPr>
          <p:spPr>
            <a:xfrm>
              <a:off x="0" y="907920"/>
              <a:ext cx="583236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1050840"/>
              <a:ext cx="699120" cy="439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6019920" y="1066680"/>
            <a:ext cx="2844720" cy="4482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lvez houvesse ali algo de  que você nem gostasse muito... Então você guardaria a caixa, pensando no que  fazer com aquele presente aparentemente "inútil"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324000" y="1052640"/>
            <a:ext cx="4932000" cy="5473080"/>
            <a:chOff x="324000" y="1052640"/>
            <a:chExt cx="4932000" cy="5473080"/>
          </a:xfrm>
        </p:grpSpPr>
        <p:pic>
          <p:nvPicPr>
            <p:cNvPr id="55" name="" descr=""/>
            <p:cNvPicPr/>
            <p:nvPr/>
          </p:nvPicPr>
          <p:blipFill>
            <a:blip r:embed="rId1"/>
            <a:stretch/>
          </p:blipFill>
          <p:spPr>
            <a:xfrm>
              <a:off x="645120" y="1052640"/>
              <a:ext cx="4525560" cy="5433840"/>
            </a:xfrm>
            <a:prstGeom prst="rect">
              <a:avLst/>
            </a:prstGeom>
            <a:ln w="0">
              <a:noFill/>
            </a:ln>
          </p:spPr>
        </p:pic>
        <p:sp>
          <p:nvSpPr>
            <p:cNvPr id="56" name=""/>
            <p:cNvSpPr/>
            <p:nvPr/>
          </p:nvSpPr>
          <p:spPr>
            <a:xfrm>
              <a:off x="324000" y="5988960"/>
              <a:ext cx="4932000" cy="53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5591160" y="2067120"/>
            <a:ext cx="3314880" cy="27270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no dia seguin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á está outra caix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mais uma vez, você abre correndo, e dessa vez há alguma coisa da qual você gosta muito...</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 name=""/>
          <p:cNvGrpSpPr/>
          <p:nvPr/>
        </p:nvGrpSpPr>
        <p:grpSpPr>
          <a:xfrm>
            <a:off x="0" y="685800"/>
            <a:ext cx="5435280" cy="4758840"/>
            <a:chOff x="0" y="685800"/>
            <a:chExt cx="5435280" cy="4758840"/>
          </a:xfrm>
        </p:grpSpPr>
        <p:pic>
          <p:nvPicPr>
            <p:cNvPr id="59" name="" descr=""/>
            <p:cNvPicPr/>
            <p:nvPr/>
          </p:nvPicPr>
          <p:blipFill>
            <a:blip r:embed="rId1"/>
            <a:stretch/>
          </p:blipFill>
          <p:spPr>
            <a:xfrm>
              <a:off x="0" y="758520"/>
              <a:ext cx="5311080" cy="4613040"/>
            </a:xfrm>
            <a:prstGeom prst="rect">
              <a:avLst/>
            </a:prstGeom>
            <a:ln w="0">
              <a:noFill/>
            </a:ln>
          </p:spPr>
        </p:pic>
        <p:sp>
          <p:nvSpPr>
            <p:cNvPr id="60" name=""/>
            <p:cNvSpPr/>
            <p:nvPr/>
          </p:nvSpPr>
          <p:spPr>
            <a:xfrm>
              <a:off x="0" y="685800"/>
              <a:ext cx="5435280" cy="723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306080"/>
              <a:ext cx="832680" cy="413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5784840" y="1405800"/>
            <a:ext cx="3114720" cy="40435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Uma lembrança de alguém distante, uma roupa que você viu na vitrine, a chave de um carro novo, um casaco para os dias de frio ou simplesmente um ramo de flores de alguém que se  lembrou de você... </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 name=""/>
          <p:cNvGrpSpPr/>
          <p:nvPr/>
        </p:nvGrpSpPr>
        <p:grpSpPr>
          <a:xfrm>
            <a:off x="468360" y="0"/>
            <a:ext cx="4608000" cy="6308280"/>
            <a:chOff x="468360" y="0"/>
            <a:chExt cx="4608000" cy="6308280"/>
          </a:xfrm>
        </p:grpSpPr>
        <p:pic>
          <p:nvPicPr>
            <p:cNvPr id="64" name="" descr=""/>
            <p:cNvPicPr/>
            <p:nvPr/>
          </p:nvPicPr>
          <p:blipFill>
            <a:blip r:embed="rId1"/>
            <a:stretch/>
          </p:blipFill>
          <p:spPr>
            <a:xfrm>
              <a:off x="567720" y="140040"/>
              <a:ext cx="4466160" cy="6168240"/>
            </a:xfrm>
            <a:prstGeom prst="rect">
              <a:avLst/>
            </a:prstGeom>
            <a:ln w="0">
              <a:noFill/>
            </a:ln>
          </p:spPr>
        </p:pic>
        <p:sp>
          <p:nvSpPr>
            <p:cNvPr id="65" name=""/>
            <p:cNvSpPr/>
            <p:nvPr/>
          </p:nvSpPr>
          <p:spPr>
            <a:xfrm>
              <a:off x="468360" y="0"/>
              <a:ext cx="4608000" cy="644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5641920" y="750600"/>
            <a:ext cx="32623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 isso acontece todos os dias, mas nós nem percebemo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odos os dias quando acordamos, lá está, à nossa frente, uma caixa de presentes enviada por Deus, especialmente para nós: um dia inteirinho para usarmos da melhor forma possível!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 name=""/>
          <p:cNvGrpSpPr/>
          <p:nvPr/>
        </p:nvGrpSpPr>
        <p:grpSpPr>
          <a:xfrm>
            <a:off x="755640" y="0"/>
            <a:ext cx="4247640" cy="6207840"/>
            <a:chOff x="755640" y="0"/>
            <a:chExt cx="4247640" cy="6207840"/>
          </a:xfrm>
        </p:grpSpPr>
        <p:pic>
          <p:nvPicPr>
            <p:cNvPr id="68" name="" descr=""/>
            <p:cNvPicPr/>
            <p:nvPr/>
          </p:nvPicPr>
          <p:blipFill>
            <a:blip r:embed="rId1"/>
            <a:stretch/>
          </p:blipFill>
          <p:spPr>
            <a:xfrm>
              <a:off x="755640" y="137520"/>
              <a:ext cx="4208040" cy="6070320"/>
            </a:xfrm>
            <a:prstGeom prst="rect">
              <a:avLst/>
            </a:prstGeom>
            <a:ln w="0">
              <a:noFill/>
            </a:ln>
          </p:spPr>
        </p:pic>
        <p:sp>
          <p:nvSpPr>
            <p:cNvPr id="69" name=""/>
            <p:cNvSpPr/>
            <p:nvPr/>
          </p:nvSpPr>
          <p:spPr>
            <a:xfrm>
              <a:off x="755640" y="0"/>
              <a:ext cx="4247640" cy="815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5797440" y="968400"/>
            <a:ext cx="311148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Às vezes ele vem cheio de problemas, coisas que não conseguimos resolver, tristezas, decepções,  lágrima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outras vezes, ele vem cheio de surpresas boas, alegria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tórias e conquistas...</a:t>
            </a:r>
            <a:r>
              <a:rPr b="0" lang="en-US" sz="1800" spc="-1" strike="noStrike">
                <a:solidFill>
                  <a:srgbClr val="ffffff"/>
                </a:solidFill>
                <a:latin typeface="Georgia"/>
              </a:rPr>
              <a:t> </a:t>
            </a:r>
            <a:endParaRPr b="0" lang="en-US" sz="1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 name=""/>
          <p:cNvGrpSpPr/>
          <p:nvPr/>
        </p:nvGrpSpPr>
        <p:grpSpPr>
          <a:xfrm>
            <a:off x="611280" y="44280"/>
            <a:ext cx="4392000" cy="6264000"/>
            <a:chOff x="611280" y="44280"/>
            <a:chExt cx="4392000" cy="6264000"/>
          </a:xfrm>
        </p:grpSpPr>
        <p:pic>
          <p:nvPicPr>
            <p:cNvPr id="72" name="" descr=""/>
            <p:cNvPicPr/>
            <p:nvPr/>
          </p:nvPicPr>
          <p:blipFill>
            <a:blip r:embed="rId1"/>
            <a:stretch/>
          </p:blipFill>
          <p:spPr>
            <a:xfrm>
              <a:off x="611280" y="44280"/>
              <a:ext cx="4356360" cy="6264000"/>
            </a:xfrm>
            <a:prstGeom prst="rect">
              <a:avLst/>
            </a:prstGeom>
            <a:ln w="0">
              <a:noFill/>
            </a:ln>
          </p:spPr>
        </p:pic>
        <p:sp>
          <p:nvSpPr>
            <p:cNvPr id="73" name=""/>
            <p:cNvSpPr/>
            <p:nvPr/>
          </p:nvSpPr>
          <p:spPr>
            <a:xfrm>
              <a:off x="611280" y="44280"/>
              <a:ext cx="4392000" cy="46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5589720" y="970200"/>
            <a:ext cx="333216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 mais importante é que, todos os dias, Deu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mbrulha para nós, enquanto dormimos, com todo o carinho, nosso presente: O DIA SEGUINTE!</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Ele cerca nosso dia com fitas coloridas, não importa o que  esteja por vir... </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5" name=""/>
          <p:cNvGrpSpPr/>
          <p:nvPr/>
        </p:nvGrpSpPr>
        <p:grpSpPr>
          <a:xfrm>
            <a:off x="0" y="620640"/>
            <a:ext cx="4932000" cy="5329080"/>
            <a:chOff x="0" y="620640"/>
            <a:chExt cx="4932000" cy="5329080"/>
          </a:xfrm>
        </p:grpSpPr>
        <p:pic>
          <p:nvPicPr>
            <p:cNvPr id="76" name="" descr=""/>
            <p:cNvPicPr/>
            <p:nvPr/>
          </p:nvPicPr>
          <p:blipFill>
            <a:blip r:embed="rId1"/>
            <a:stretch/>
          </p:blipFill>
          <p:spPr>
            <a:xfrm>
              <a:off x="220680" y="765720"/>
              <a:ext cx="4654800" cy="4932720"/>
            </a:xfrm>
            <a:prstGeom prst="rect">
              <a:avLst/>
            </a:prstGeom>
            <a:ln w="0">
              <a:noFill/>
            </a:ln>
          </p:spPr>
        </p:pic>
        <p:sp>
          <p:nvSpPr>
            <p:cNvPr id="77" name=""/>
            <p:cNvSpPr/>
            <p:nvPr/>
          </p:nvSpPr>
          <p:spPr>
            <a:xfrm>
              <a:off x="74520" y="620640"/>
              <a:ext cx="4857480" cy="62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933840"/>
              <a:ext cx="1105200" cy="501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5405400" y="310320"/>
            <a:ext cx="3489480" cy="623772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 esse dia quando acordamos, chamamos PRESENTE...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 PRESENTE de Deus pra nó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Nem sempre Ele nos manda o  que esperamos, o que queremo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s Ele sempre, sempre e sempre, nos manda o melhor, o de que precisamos, e que é sempre muito mais do que merecemos... </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3:33:21Z</dcterms:created>
  <dc:creator>ROSA</dc:creator>
  <dc:description/>
  <dc:language>en-US</dc:language>
  <cp:lastModifiedBy>Leonardo Henrique Ferreira</cp:lastModifiedBy>
  <dcterms:modified xsi:type="dcterms:W3CDTF">2009-09-02T16:27:22Z</dcterms:modified>
  <cp:revision>7</cp:revision>
  <dc:subject/>
  <dc:title>Apresentação do PowerPoint</dc:title>
</cp:coreProperties>
</file>