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Francis%20Goya%20-%20Ne%20Me%20Quite%20Pas%20-%20Ins.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4573-D228-4B3E-966C-70CC1D59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C92D-6F7B-4729-87FD-B958BBBD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B168-AF3C-41DF-8D97-52A5B480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97CD-A32A-4BB2-B761-137FBCB9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93DB-8D28-437B-A79F-6C4BB514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406D-E061-44E4-A38C-1ED79FC9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863F-D53E-40D9-BA96-225DF79F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BE45-896B-4FF6-9BB0-4E0BD60D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013E-86CB-449B-8F0B-4C07B0B3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C1C3-F19C-4728-B941-A4EFE6EA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362B-2E06-46CF-BB43-9D0A4066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6131-C532-4EA9-A0AE-FBC042D4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91D7-7E8D-43FE-AFDF-5971021C8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audio" Target="../media/Francis%20Goya%20-%20Ne%20Me%20Quite%20Pas%20-%20Ins.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mailto:bethnorling@globo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BALA(SOM)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114800" y="380880"/>
            <a:ext cx="465768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d3d2a6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O BEM MAIOR</a:t>
            </a:r>
            <a:endParaRPr b="0" i="1" lang="en-US" sz="4800" spc="1" strike="noStrike">
              <a:ln w="9360">
                <a:solidFill>
                  <a:srgbClr val="d3d2a6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5867280"/>
            <a:ext cx="34671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d3d2a6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9360">
                <a:solidFill>
                  <a:srgbClr val="d3d2a6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manhecendo_mais_velh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5040" y="685800"/>
            <a:ext cx="428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a91"/>
                </a:solidFill>
                <a:latin typeface="Arial"/>
              </a:rPr>
              <a:t>Não existe maior bem do que fazer a felicidade de alguém. Nem nada menos caro, nem mais fácil, pois que a felicidade é algo que se pode oferecer em gestos, e atenç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61080" y="3773520"/>
            <a:ext cx="397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a91"/>
                </a:solidFill>
                <a:latin typeface="Arial"/>
              </a:rPr>
              <a:t>Se olharmos à nossa volta, percebemos que a carência humana está no fato das pessoas terem perdido os valores imateriais a favor dos materi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00414555-001" descr=""/>
          <p:cNvPicPr/>
          <p:nvPr/>
        </p:nvPicPr>
        <p:blipFill>
          <a:blip r:embed="rId1"/>
          <a:srcRect l="0" t="950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1360" y="1523880"/>
            <a:ext cx="443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a91"/>
                </a:solidFill>
                <a:latin typeface="Arial"/>
              </a:rPr>
              <a:t>Compra-se quase tudo em nossos dias... mas o bem ninguém compra. Compra-se até companhia, mas não a sincerid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56160" y="3809880"/>
            <a:ext cx="428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a91"/>
                </a:solidFill>
                <a:latin typeface="Arial"/>
              </a:rPr>
              <a:t>Compra-se conforto, mas não a paz de espírito, não a tranqüilidade, menos ainda a felicidade. Esta a gente ofere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AA007797" descr=""/>
          <p:cNvPicPr/>
          <p:nvPr/>
        </p:nvPicPr>
        <p:blipFill>
          <a:blip r:embed="rId1"/>
          <a:srcRect l="0" t="669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5040" y="380880"/>
            <a:ext cx="5197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a91"/>
                </a:solidFill>
                <a:latin typeface="Arial"/>
              </a:rPr>
              <a:t>Há uma grande diferença entre o dar e o oferecer. Quando damos, estendemos a mão, mas quando oferecemos... é nosso coração que entregamos junto, é um pedacinho de nós que vai caminhando na direção do outro e o bem que ele provoca retorna ao nosso inter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1280" y="4267080"/>
            <a:ext cx="5029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a91"/>
                </a:solidFill>
                <a:latin typeface="Arial"/>
              </a:rPr>
              <a:t>Tornamos pessoa felizes quando damos de nós mesmos. E damos de nós quando oferecemos o que quer que seja de coração escanca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56350284" descr=""/>
          <p:cNvPicPr/>
          <p:nvPr/>
        </p:nvPicPr>
        <p:blipFill>
          <a:blip r:embed="rId1"/>
          <a:srcRect l="0" t="1006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114300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a91"/>
                </a:solidFill>
                <a:latin typeface="Arial"/>
              </a:rPr>
              <a:t>O grande mal do mundo consiste no fato das pessoas guardarem coisas para 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a91"/>
                </a:solidFill>
                <a:latin typeface="Arial"/>
              </a:rPr>
              <a:t>Guardam bens, guardam sentimentos, guardam declarações, guardam ressentimentos, falam ou calam na hora err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762120"/>
            <a:ext cx="342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a91"/>
                </a:solidFill>
                <a:latin typeface="Arial"/>
              </a:rPr>
              <a:t>Vivem de aparênc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a91"/>
                </a:solidFill>
                <a:latin typeface="Arial"/>
              </a:rPr>
              <a:t>com as gavetas da alma repletas de coisas inúteis. E quando morrem tornam-se pó, como todo mundo, sem ter aproveitado o tempo para compartilhar, com honestidade, o bem que a vida lhes oferece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200467102-001" descr=""/>
          <p:cNvPicPr/>
          <p:nvPr/>
        </p:nvPicPr>
        <p:blipFill>
          <a:blip r:embed="rId1"/>
          <a:srcRect l="0" t="6722" r="0" b="149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56160" y="838080"/>
            <a:ext cx="4206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a91"/>
                </a:solidFill>
                <a:latin typeface="Arial"/>
              </a:rPr>
              <a:t>A maior herança que podemos deixar à humanidade é o amor que oferecemos de várias formas, são as pequenas felicidades do dia-a-dia que vamos distribuindo aqui e acolá, a compreensão que acalma as almas inquietas e a ternura que abranda os desenganos da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71085627" descr=""/>
          <p:cNvPicPr/>
          <p:nvPr/>
        </p:nvPicPr>
        <p:blipFill>
          <a:blip r:embed="rId1"/>
          <a:srcRect l="0" t="669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029200" y="457200"/>
            <a:ext cx="3809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a91"/>
                </a:solidFill>
                <a:latin typeface="Arial"/>
              </a:rPr>
              <a:t>E o que representa a felicidade hoje pode não representar amanhã. Por isso ela é tão múltipla, tão incompreendida e tão necessária. Por isso é tão importante distribuir sorrisos, plantar flores, fazer visitas, dar bom dia e boa noite, não se esquecer dos abraços e dos te amo imprescindíveis ao cor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560" y="4605480"/>
            <a:ext cx="3103920" cy="824040"/>
          </a:xfrm>
          <a:prstGeom prst="rect">
            <a:avLst/>
          </a:prstGeom>
          <a:noFill/>
          <a:ln w="57240">
            <a:solidFill>
              <a:srgbClr val="ffd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da91"/>
                </a:solidFill>
                <a:latin typeface="Arial"/>
              </a:rPr>
              <a:t>Formatação: Beth Nor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da91"/>
                </a:solidFill>
                <a:latin typeface="Arial"/>
              </a:rPr>
              <a:t>E-mail: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bethnorling@glob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da91"/>
                </a:solidFill>
                <a:latin typeface="Arial"/>
              </a:rPr>
              <a:t>Imagens: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da91"/>
                </a:solidFill>
                <a:latin typeface="Arial"/>
              </a:rPr>
              <a:t>Música: Francis Goya – Ne me quite p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1:50:02Z</dcterms:created>
  <dc:creator>Beth Norling</dc:creator>
  <dc:description/>
  <dc:language>en-US</dc:language>
  <cp:lastModifiedBy>Usuário</cp:lastModifiedBy>
  <dcterms:modified xsi:type="dcterms:W3CDTF">2006-11-07T12:57:53Z</dcterms:modified>
  <cp:revision>1</cp:revision>
  <dc:subject/>
  <dc:title>O_bem_maior </dc:title>
</cp:coreProperties>
</file>