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Francis%20Goya%20-%20Ne%20Me%20Quite%20Pas%20-%20Ins.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B73-D458-4688-94A2-0E596DAC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882-76C5-4E7A-B9A9-50D2F75F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7A5-98F9-4F46-AFD1-98934640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065-EA23-41C0-865B-0F5165E2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CB6-F5E8-4258-A291-E3C0C55B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3EE-2CA3-4C24-AB76-F56DCE06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E9C-9F38-489A-BCD0-135055AB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741-6B5D-4B3F-A6FA-115A7842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746-2DF5-43B6-92F7-BB1CCD8D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C04-C9FA-45F9-9EE3-A47851F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528-A9C0-4CEA-9229-BAF54542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7D6-6468-4756-91F5-0C7E5AF3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3DB6-1347-4044-ADB4-22B75881A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Francis%20Goya%20-%20Ne%20Me%20Quite%20Pas%20-%20Ins.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BALA(SOM)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114800" y="380880"/>
            <a:ext cx="4657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d3d2a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 BEM MAIOR</a:t>
            </a:r>
            <a:endParaRPr b="0" i="1" lang="en-US" sz="4800" spc="1" strike="noStrike">
              <a:ln w="9360">
                <a:solidFill>
                  <a:srgbClr val="d3d2a6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5867280"/>
            <a:ext cx="34671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d3d2a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d3d2a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manhecendo_mais_velh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5040" y="685800"/>
            <a:ext cx="428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Não existe maior bem do que fazer a felicidade de alguém. Nem nada menos caro, nem mais fácil, pois que a felicidade é algo que se pode oferecer em gestos, e aten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1080" y="3773520"/>
            <a:ext cx="397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Se olharmos à nossa volta, percebemos que a carência humana está no fato das pessoas terem perdido os valores imateriais a favor dos materi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00414555-001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1360" y="1523880"/>
            <a:ext cx="44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Compra-se quase tudo em nossos dias... mas o bem ninguém compra. Compra-se até companhia, mas não a sincer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56160" y="3809880"/>
            <a:ext cx="428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Compra-se conforto, mas não a paz de espírito, não a tranqüilidade, menos ainda a felicidade. Esta a gente ofer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A007797" descr=""/>
          <p:cNvPicPr/>
          <p:nvPr/>
        </p:nvPicPr>
        <p:blipFill>
          <a:blip r:embed="rId1"/>
          <a:srcRect l="0" t="66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040" y="380880"/>
            <a:ext cx="519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Há uma grande diferença entre o dar e o oferecer. Quando damos, estendemos a mão, mas quando oferecemos... é nosso coração que entregamos junto, é um pedacinho de nós que vai caminhando na direção do outro e o bem que ele provoca retorna ao nosso i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4267080"/>
            <a:ext cx="50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Tornamos pessoa felizes quando damos de nós mesmos. E damos de nós quando oferecemos o que quer que seja de coração escanca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56350284" descr=""/>
          <p:cNvPicPr/>
          <p:nvPr/>
        </p:nvPicPr>
        <p:blipFill>
          <a:blip r:embed="rId1"/>
          <a:srcRect l="0" t="1006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114300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O grande mal do mundo consiste no fato das pessoas guardarem coisas para 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Guardam bens, guardam sentimentos, guardam declarações, guardam ressentimentos, falam ou calam na hora er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762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Vivem de aparê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com as gavetas da alma repletas de coisas inúteis. E quando morrem tornam-se pó, como todo mundo, sem ter aproveitado o tempo para compartilhar, com honestidade, o bem que a vida lhes oferec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467102-001" descr=""/>
          <p:cNvPicPr/>
          <p:nvPr/>
        </p:nvPicPr>
        <p:blipFill>
          <a:blip r:embed="rId1"/>
          <a:srcRect l="0" t="6722" r="0" b="149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56160" y="838080"/>
            <a:ext cx="420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A maior herança que podemos deixar à humanidade é o amor que oferecemos de várias formas, são as pequenas felicidades do dia-a-dia que vamos distribuindo aqui e acolá, a compreensão que acalma as almas inquietas e a ternura que abranda os desenganos d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71085627" descr=""/>
          <p:cNvPicPr/>
          <p:nvPr/>
        </p:nvPicPr>
        <p:blipFill>
          <a:blip r:embed="rId1"/>
          <a:srcRect l="0" t="66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29200" y="457200"/>
            <a:ext cx="380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E o que representa a felicidade hoje pode não representar amanhã. Por isso ela é tão múltipla, tão incompreendida e tão necessária. Por isso é tão importante distribuir sorrisos, plantar flores, fazer visitas, dar bom dia e boa noite, não se esquecer dos abraços e dos te amo imprescindíveis ao co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560" y="4605480"/>
            <a:ext cx="3103920" cy="824040"/>
          </a:xfrm>
          <a:prstGeom prst="rect">
            <a:avLst/>
          </a:prstGeom>
          <a:noFill/>
          <a:ln w="57240">
            <a:solidFill>
              <a:srgbClr val="ffd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da91"/>
                </a:solidFill>
                <a:latin typeface="Arial"/>
              </a:rPr>
              <a:t>Formatação: Beth Nor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da91"/>
                </a:solidFill>
                <a:latin typeface="Arial"/>
              </a:rPr>
              <a:t>E-mail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da91"/>
                </a:solidFill>
                <a:latin typeface="Arial"/>
              </a:rPr>
              <a:t>Imagens: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da91"/>
                </a:solidFill>
                <a:latin typeface="Arial"/>
              </a:rPr>
              <a:t>Música: Francis Goya – Ne me quite 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1:50:02Z</dcterms:created>
  <dc:creator>Beth Norling</dc:creator>
  <dc:description/>
  <dc:language>en-US</dc:language>
  <cp:lastModifiedBy>Usuário</cp:lastModifiedBy>
  <dcterms:modified xsi:type="dcterms:W3CDTF">2006-11-07T12:57:53Z</dcterms:modified>
  <cp:revision>1</cp:revision>
  <dc:subject/>
  <dc:title>O_bem_maior </dc:title>
</cp:coreProperties>
</file>