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Johnny%20Mathis-Feeling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58A4-999E-4C44-BBC4-0BC4F550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8139-BF77-415E-BEDA-6B65F525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1A59-ABE8-4472-A5BA-7E6327DF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2361-6CC3-4E46-AD65-203F25B8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4373-4EC0-43F0-AE1D-4162F775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D6D4-4411-4072-90DE-918439AD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A121-0D48-495B-85BD-E27572A2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AB51-FD65-49E3-8A78-91740811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5640-990A-4B5C-AE4A-10DD3552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4C2D-A1CD-4DB8-8571-10AD6B25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0756-3083-4260-BE18-2F7295A4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10C-C557-4C17-8AB2-96939D76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1138-F349-4F2E-91FE-C40228483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ohnny%20Mathis-Feeling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mailto:bethnorling@globo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otosemtomdenegro!!!" descr=""/>
          <p:cNvPicPr/>
          <p:nvPr/>
        </p:nvPicPr>
        <p:blipFill>
          <a:blip r:embed="rId1"/>
          <a:srcRect l="1969" t="0" r="1969" b="26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09840" y="609480"/>
            <a:ext cx="6124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MAR E PERDOAR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38600" y="5638680"/>
            <a:ext cx="3466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etícia Thompson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 thruBlk="true"/>
    <p:sndAc>
      <p:stSnd>
        <p:snd r:embed="rId2" name="Johnny%20Mathis-Feeling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iclosemnossasvidas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41360" y="1077840"/>
            <a:ext cx="8093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O que é mais import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Perdoar ou pedir perdã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Quem pede perdão mostra que ainda crê no am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Quem perdoa mostra que ainda existe amor para quem crê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Mas não importa saber qual das duas coisas é m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É sempre importante saber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Perdoar é o modo mais sublime de cres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E pedir perdão é o modo mais sublime de se levantar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200199161-001" descr=""/>
          <p:cNvPicPr/>
          <p:nvPr/>
        </p:nvPicPr>
        <p:blipFill>
          <a:blip r:embed="rId1"/>
          <a:srcRect l="0" t="0" r="0" b="123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40880" y="1611360"/>
            <a:ext cx="7611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O que é mais: Amar ou ser ama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Amar significa tudo aquilo que todo mundo de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Ser amado significa tudo aquilo que todo mundo dese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Mas não importa saber qual das duas coisas é m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E sempre importa saber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Ninguém pode querer amar sem se esquec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e ninguém pode querer ser amado sem se lembrar de todo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or%20do%20sol-3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19320" y="1382760"/>
            <a:ext cx="7010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O que é mais: Abrir a porta ou abrir o coraçã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Quem abre a porta mostra que vai receber algué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Quem abre o coração não quer que ninguém fique f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Mas não importa saber qual das duas coisas é m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E sempre importa saber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Abrir a porta é o modo mais delicado de ser bo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e abrir o coração é o modo divino de amar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MoonOverBoulder" descr=""/>
          <p:cNvPicPr/>
          <p:nvPr/>
        </p:nvPicPr>
        <p:blipFill>
          <a:blip r:embed="rId1"/>
          <a:srcRect l="0" t="0" r="0" b="432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93640" y="1382760"/>
            <a:ext cx="7940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O que é mais: Ir à lua ou ficar na terr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Quem vai à lua vê mais um tanto de tudo que Deus fe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Quem fica na terra vê mais um tanto do que o homem p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Mas não importa saber qual das duas coisas é m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E sempre importa saber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Quem vai à lua deve voltar à terr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e quem fica na terra deve ir aos outros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hoje9" descr=""/>
          <p:cNvPicPr/>
          <p:nvPr/>
        </p:nvPicPr>
        <p:blipFill>
          <a:blip r:embed="rId1"/>
          <a:srcRect l="0" t="950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68400" y="1535040"/>
            <a:ext cx="7220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O que é mais: Dar ou estender as mã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Que dá mostra que se despoja de alguma coi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Quem estende as mãos mostra que quer alcançar algué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Mas não importa saber qual das duas coisas é m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Dar é um gesto de bondad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e estender as mãos é um gesto de bondade que sublima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noite2" descr=""/>
          <p:cNvPicPr/>
          <p:nvPr/>
        </p:nvPicPr>
        <p:blipFill>
          <a:blip r:embed="rId1"/>
          <a:srcRect l="0" t="950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1360" y="1154160"/>
            <a:ext cx="8245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O que é mais: Levar rosas ou enxugar lágrim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Quem leva rosas mostra que se lembrou de alguém na felicid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Quem enxuga lágrimas mostra que não esqueceu de alguém na infelicid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Mas não importa saber qual das duas coisas é m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E sempre importa saber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Levar rosas é um gesto de amor que todo mundo faz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79"/>
                </a:solidFill>
                <a:latin typeface="Arial"/>
              </a:rPr>
              <a:t>e enxugar lágrimas é um gesto que só o amor faz a todo mund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5105520"/>
            <a:ext cx="3352680" cy="946440"/>
          </a:xfrm>
          <a:prstGeom prst="rect">
            <a:avLst/>
          </a:prstGeom>
          <a:noFill/>
          <a:ln w="57240">
            <a:solidFill>
              <a:srgbClr val="ffff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79"/>
                </a:solidFill>
                <a:latin typeface="Arial"/>
              </a:rPr>
              <a:t>Formatação: Beth Nor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79"/>
                </a:solidFill>
                <a:latin typeface="Arial"/>
              </a:rPr>
              <a:t>E-mail: </a:t>
            </a:r>
            <a:r>
              <a:rPr b="0" lang="pt-BR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bethnorling@glob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79"/>
                </a:solidFill>
                <a:latin typeface="Arial"/>
              </a:rPr>
              <a:t>Imagens: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79"/>
                </a:solidFill>
                <a:latin typeface="Arial"/>
              </a:rPr>
              <a:t>Música: Johnny Mathis - Feel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2:04:59Z</dcterms:created>
  <dc:creator>Beth Norling</dc:creator>
  <dc:description/>
  <dc:language>en-US</dc:language>
  <cp:lastModifiedBy>Usuário</cp:lastModifiedBy>
  <dcterms:modified xsi:type="dcterms:W3CDTF">2006-10-23T17:39:03Z</dcterms:modified>
  <cp:revision>9</cp:revision>
  <dc:subject/>
  <dc:title>Amar e Perdoar</dc:title>
</cp:coreProperties>
</file>