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nny%20Mathis-Feeling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0F3-2362-4122-96FA-A0DB0EA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BDB-4C7D-465D-B778-39B4DA3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433-5225-41AF-A6AB-3DAFBD24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5CD-DBE1-4AF0-A0CD-DACFF4BE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3A9-BBE9-4420-8C48-54D911B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DF2-ACB6-4EFB-B774-DD0E84A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FD1-50E2-428C-BBD6-D76C3C83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86B-F5F4-43DD-9449-34D8864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78E-0DCA-47BA-8A00-7ECE995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C97-1BF9-4B68-8829-E4B8961E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E0D-F22B-4503-ADCC-249F833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71B-BF98-457C-A00C-D10CE57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11B-2256-4946-921F-BDEAE9071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ny%20Mathis-Feeling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tosemtomdenegro!!!" descr=""/>
          <p:cNvPicPr/>
          <p:nvPr/>
        </p:nvPicPr>
        <p:blipFill>
          <a:blip r:embed="rId1"/>
          <a:srcRect l="1969" t="0" r="1969" b="2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09840" y="609480"/>
            <a:ext cx="6124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 E PERDOAR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5638680"/>
            <a:ext cx="346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  <p:sndAc>
      <p:stSnd>
        <p:snd r:embed="rId2" name="Johnny%20Mathis-Feeling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iclosemnossasvid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1360" y="1077840"/>
            <a:ext cx="809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 impor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Perdoar ou pedir perd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pede perdão mostra que ainda crê no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perdoa mostra que ainda existe amor para quem cr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É sempre importante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Perdoar é o modo mais sublime de cres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pedir perdão é o modo mais sublime de se levanta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199161-001" descr=""/>
          <p:cNvPicPr/>
          <p:nvPr/>
        </p:nvPicPr>
        <p:blipFill>
          <a:blip r:embed="rId1"/>
          <a:srcRect l="0" t="0" r="0" b="123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40880" y="1611360"/>
            <a:ext cx="7611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Amar ou ser am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Amar significa tudo aquilo que todo mundo de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Ser amado significa tudo aquilo que todo mundo dese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Ninguém pode querer amar sem se esquec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ninguém pode querer ser amado sem se lembrar de to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or%20do%20sol-3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1382760"/>
            <a:ext cx="701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Abrir a porta ou abrir o coraç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abre a porta mostra que vai receber algu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abre o coração não quer que ninguém fique f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Abrir a porta é o modo mais delicado de ser bo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abrir o coração é o modo divino de ama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oonOverBoulder" descr=""/>
          <p:cNvPicPr/>
          <p:nvPr/>
        </p:nvPicPr>
        <p:blipFill>
          <a:blip r:embed="rId1"/>
          <a:srcRect l="0" t="0" r="0" b="43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3640" y="1382760"/>
            <a:ext cx="794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Ir à lua ou ficar na ter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vai à lua vê mais um tanto de tudo que Deus f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fica na terra vê mais um tanto do que o homem p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vai à lua deve voltar à ter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quem fica na terra deve ir aos outro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je9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68400" y="1535040"/>
            <a:ext cx="722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Dar ou estender as mã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 dá mostra que se despoja de alguma co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estende as mãos mostra que quer alcançar algu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Dar é um gesto de bonda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estender as mãos é um gesto de bondade que sublim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oite2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1154160"/>
            <a:ext cx="824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Levar rosas ou enxugar lágri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leva rosas mostra que se lembrou de alguém na 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enxuga lágrimas mostra que não esqueceu de alguém na in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Levar rosas é um gesto de amor que todo mundo faz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enxugar lágrimas é um gesto que só o amor faz a todo mun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105520"/>
            <a:ext cx="3352680" cy="946440"/>
          </a:xfrm>
          <a:prstGeom prst="rect">
            <a:avLst/>
          </a:prstGeom>
          <a:noFill/>
          <a:ln w="57240">
            <a:solidFill>
              <a:srgbClr val="ff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Música: Johnny Mathis - Fee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Beth Norling</dc:creator>
  <dc:description/>
  <dc:language>en-US</dc:language>
  <cp:lastModifiedBy>Usuário</cp:lastModifiedBy>
  <dcterms:modified xsi:type="dcterms:W3CDTF">2006-10-23T17:39:03Z</dcterms:modified>
  <cp:revision>9</cp:revision>
  <dc:subject/>
  <dc:title>Amar e Perdoar</dc:title>
</cp:coreProperties>
</file>