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.gif" ContentType="image/gif"/>
  <Override PartName="/ppt/media/VangelisMissing.wav" ContentType="audio/x-wav"/>
  <Override PartName="/ppt/media/image12.jpeg" ContentType="image/jpeg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3DC-F204-4108-A390-13DB12CB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257-0E02-48A0-9B9C-A8D94235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A32-E899-4005-A01B-4BEDA498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DF7-DE78-4FF8-B392-21A385D7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A2C-62D4-42B4-9B57-2F8B5C7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ACC-0BAA-4F0A-A0AC-74908AE5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F2F-7509-49FA-83F4-BFBE7840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86E-5F94-43ED-B74E-218C04B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BD9-4E1F-470D-8E77-03B1D6B3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1D5-F89F-433D-B983-70CAD59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61E-5F0A-42E4-BE56-4DBBD30D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BC4-D279-4DEC-BF9F-F43B863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60FC-69E6-44F7-914D-3C030A0B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angelisMissing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60280"/>
            <a:ext cx="65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PR" sz="18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1" lang="es-PR" sz="3600" spc="-1" strike="noStrike">
                <a:solidFill>
                  <a:srgbClr val="ffff00"/>
                </a:solidFill>
                <a:latin typeface="Arial Rounded MT Bold"/>
              </a:rPr>
              <a:t>SUSSURROS DE D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VangelisMiss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643280" cy="648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40280" y="1628640"/>
            <a:ext cx="351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cê pode fazer o mesmo e enviá-la a quem você quiser abençoar também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re sempre o inesperado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54864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PS : Você terá tempo para enviar isto a outra pessoa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371600"/>
            <a:ext cx="3429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Deus nos bendiga!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você tenha un belo di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"/>
              </a:rPr>
              <a:t>Te quero muito, seu ami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VE" sz="3200" spc="-1" strike="noStrike">
                <a:solidFill>
                  <a:srgbClr val="ffffff"/>
                </a:solidFill>
                <a:latin typeface="Arial"/>
              </a:rPr>
              <a:t>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5621400"/>
            <a:ext cx="69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Um homem sussurrou: “Deus, fala comigo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 então cantou um passarinho. Mas o homem não escu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48200" y="228600"/>
            <a:ext cx="396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ão o homem grit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fala comigo!"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então se ouviram trovões através de um colchão de nuvens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, de novo, o homem não escutou..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homem olhou ao seu redor e dis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deixe-me vê-Lo."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uma estrela brilhou no firmamento como nunca havi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ilh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 o homem não olhou para o céu e não a viu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2205000"/>
            <a:ext cx="36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ão, o homem indignado, fortemente gritou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"Deus, deixe-me ver um milagre!" E nasceu seu filho!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s o homem não se deu conta da nova e irrepetível vida que começava..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41720" y="99072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ão, gritou desesperado: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"Deus, toque-me, deixe-me senti-Lo."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sse momento, Deus desceu do céu e tocou o homem em sua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ochecha suavemente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s o homem tirou a linda borboleta de sua bochecha e seguiu seu cami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27680" y="1557360"/>
            <a:ext cx="414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to nos deve recordar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que Deus sempre está ao nosso lado, em todos, no grande e no singelo, até nas coisas que não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tamos muita ate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ncipalmente nesta era eletrônic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2f0017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65560" y="1125360"/>
            <a:ext cx="3773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or isso, quando o homem,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horando, grito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"Deus, necessito de Tua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juda!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esse momento, chegou a ele uma mensagem por e-mail, com boas notícias, dando-lhe alento, e com a oração e o abraço de alguém que  se importava com el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s o homem não o viu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e seguiu trabalhando e o apagou sem 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000000"/>
            </a:gs>
            <a:gs pos="100000">
              <a:srgbClr val="4d4d4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106668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ão perca uma oração nem um bom amigo(a), 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que a embalagem não é o que você espera. . .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us nos fala através das pessoas mais simples e menos esperadas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81360" y="1143000"/>
            <a:ext cx="55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a mensagem tem instruções para que seja enviada a todo aquele a quem eu queira que Deus lhe dê sua bênção, e eu escolhi voc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9:42:41Z</dcterms:created>
  <dc:creator>Alicia</dc:creator>
  <dc:description/>
  <dc:language>en-US</dc:language>
  <cp:lastModifiedBy>eaquino</cp:lastModifiedBy>
  <dcterms:modified xsi:type="dcterms:W3CDTF">2009-08-06T17:21:42Z</dcterms:modified>
  <cp:revision>19</cp:revision>
  <dc:subject/>
  <dc:title>Diapositiva 1</dc:title>
</cp:coreProperties>
</file>