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gif" ContentType="image/gif"/>
  <Override PartName="/ppt/media/VangelisMissing.wav" ContentType="audio/x-wav"/>
  <Override PartName="/ppt/media/image12.jpeg" ContentType="image/jpeg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9F6-D27E-4654-BD0A-9DD68CDD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D61-D48C-4EA7-B686-D595C87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BC7-4A3F-4800-B5D9-D6E6FE5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66D-2575-475B-B86E-4041ECC4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D48-2094-4CEA-BF27-3EAC119A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2DB-51B4-4B05-8290-39C77B6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BD8-F991-47A9-B336-72B46F9E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E62-7DD9-4D7F-936B-DD8CCB39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F82-F888-4B40-A58C-F319705C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B79-4FB9-4189-AE76-6B29B04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4D6-9F82-47A3-9E5C-AE31CEE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8F8-23AB-48EE-9CFF-C61C186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D2E6-38FC-489B-AC4F-950B23F7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angelisMissing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60280"/>
            <a:ext cx="65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PR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1" lang="es-PR" sz="3600" spc="-1" strike="noStrike">
                <a:solidFill>
                  <a:srgbClr val="ffff00"/>
                </a:solidFill>
                <a:latin typeface="Arial Rounded MT Bold"/>
              </a:rPr>
              <a:t>SUSSURROS DE D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VangelisMiss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643280" cy="648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40280" y="1628640"/>
            <a:ext cx="351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cê pode fazer o mesmo e enviá-la a quem você quiser abençoar também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e sempre o inesperado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4864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PS : Você terá tempo para enviar isto a outra pessoa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371600"/>
            <a:ext cx="3429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Deus nos bendiga!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você tenha un belo di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Te quero muito, seu ami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621400"/>
            <a:ext cx="69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Um homem sussurrou: “Deus, fala comigo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 então cantou um passarinho. Mas o homem não escu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48200" y="228600"/>
            <a:ext cx="396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ão o homem grit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fala comigo!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então se ouviram trovões através de um colchão de nuvens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, de novo, o homem não escutou..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homem olhou ao seu redor e dis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deixe-me vê-Lo."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uma estrela brilhou no firmamento como nunca havi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ilh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 o homem não olhou para o céu e não a viu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2205000"/>
            <a:ext cx="36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ão, o homem indignado, fortemente gritou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deixe-me ver um milagre!" E nasceu seu filho!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 o homem não se deu conta da nova e irrepetível vida que começava..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41720" y="99072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ão, gritou desesperado: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"Deus, toque-me, deixe-me senti-Lo."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sse momento, Deus desceu do céu e tocou o homem em sua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ochecha suavemente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s o homem tirou a linda borboleta de sua bochecha e seguiu seu cami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27680" y="1557360"/>
            <a:ext cx="414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to nos deve recordar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que Deus sempre está ao nosso lado, em todos, no grande e no singelo, até nas coisas que nã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tamos muita ate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ncipalmente nesta era eletrônic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2f0017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65560" y="1125360"/>
            <a:ext cx="3773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 isso, quando o homem,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horando, grito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"Deus, necessito de Tua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juda!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esse momento, chegou a ele uma mensagem por e-mail, com boas notícias, dando-lhe alento, e com a oração e o abraço de alguém que  se importava com el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s o homem não o viu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 seguiu trabalhando e o apagou sem 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00"/>
            </a:gs>
            <a:gs pos="100000">
              <a:srgbClr val="4d4d4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106668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ão perca uma oração nem um bom amigo(a),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que a embalagem não é o que você espera. . 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us nos fala através das pessoas mais simples e menos esperadas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81360" y="1143000"/>
            <a:ext cx="55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a mensagem tem instruções para que seja enviada a todo aquele a quem eu queira que Deus lhe dê sua bênção, e eu escolhi voc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9:42:41Z</dcterms:created>
  <dc:creator>Alicia</dc:creator>
  <dc:description/>
  <dc:language>en-US</dc:language>
  <cp:lastModifiedBy>eaquino</cp:lastModifiedBy>
  <dcterms:modified xsi:type="dcterms:W3CDTF">2009-08-06T17:21:42Z</dcterms:modified>
  <cp:revision>19</cp:revision>
  <dc:subject/>
  <dc:title>Diapositiva 1</dc:title>
</cp:coreProperties>
</file>