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Track07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9530-B76A-4690-9AFB-8AC619D4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9C2-2F12-44DB-B5DD-E5B0EBB6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E91A-35A1-4BF2-B724-831EFF16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252-67BC-487F-AEB9-5CA8586B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8BC-2A48-4C9E-B528-6A547721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BC53-DBC4-460D-83EC-541406F8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473-CE2F-4A54-94AD-E627BF15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B1CA-3765-4662-9E3D-6BCC1859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25A-3173-40D1-9192-5C7FBC36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9C11-5832-41D0-B222-05BE2392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887-62B6-430B-AF20-E8A7ED63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AF7-BE56-40F1-AF5B-B9751F0F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E3D3-F566-40EA-92A1-AEE0D7276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ck07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slidescorepoesia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56080" y="0"/>
            <a:ext cx="37879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214365"/>
                </a:solidFill>
                <a:latin typeface="Georgia"/>
              </a:rPr>
              <a:t>O monge russo Rasputin era considerado  “semi-louco” e libertino por uns, uma benção para outros, e um mistério para todos. Sua vida está envolta em uma névoa de histórias intrigantes,  estranhas, quase incompreensíveis , que nos revelam uma figura aparentemente sombria que usou de poderes considerados para-normais em um contexto histórico único no século XX ( a revolução russa),  e que, talvez precisamente por isso,  tornou-se extraordinariamente  famo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6324480"/>
            <a:ext cx="477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bfbff"/>
                </a:solidFill>
                <a:latin typeface="Georgia"/>
              </a:rPr>
              <a:t>(AVANÇAR C?MOUS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2" name="Track07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0c0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4224600" cy="5867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9480" y="490680"/>
            <a:ext cx="2644920" cy="63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7a"/>
                </a:solidFill>
                <a:latin typeface="Georgia"/>
              </a:rPr>
              <a:t>Sua resistência à morte deu ainda mais força para a imagem sobrenatural que construiu durante toda sua a vida. Rasputin talvez não tenha sido nem santo, nem demônio. Alguns historiadores consideram que foi usado como bode-expiatório num contexto político em que ambos os lados precisavam de atirar culpas para justificar malogros e excessos, inevitáveis de ambos os lados, durante a queda de um Império . De qualquer modo, sua figura tornou-se lendária, cruzou as fronteiras da Rússia e do tempo, seja como símbolo de poder sobrenatural, ou como ícone da esperteza humana.  Sua enigmática figura permanece intrigante até os dias de hoj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0" y="4952880"/>
            <a:ext cx="6250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b5b5"/>
                </a:solidFill>
                <a:latin typeface="Times New Roman"/>
              </a:rPr>
              <a:t>FORMATAÇÃO: CLAUDIA MADEI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b5b5"/>
                </a:solidFill>
                <a:latin typeface="Times New Roman"/>
              </a:rPr>
              <a:t>ENTRE NO SIT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lidescorepoesia.com</a:t>
            </a:r>
            <a:r>
              <a:rPr b="0" lang="en-US" sz="2000" spc="-1" strike="noStrike" u="sng">
                <a:solidFill>
                  <a:srgbClr val="ffb5b5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b5b5"/>
                </a:solidFill>
                <a:latin typeface="Times New Roman"/>
              </a:rPr>
              <a:t>TEXTO E IMAGENS: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b5b5"/>
                </a:solidFill>
                <a:latin typeface="Times New Roman"/>
              </a:rPr>
              <a:t>SOM: “A VIAGEM DE GALITZIN” DE MUSSORGS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745080"/>
            <a:ext cx="358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cc"/>
                </a:solidFill>
                <a:latin typeface="Georgia"/>
              </a:rPr>
              <a:t>Não via contradição no ato de unir o sagrado e o profano, causando ao mesmo tempo  admiração e perplexidade . Nasceu na aldeia de Rasputje, Sibéria, em 1869. Segundo algumas versões, teria poderes para-normais desde a infância, e aparentemente considerava isto um dom natur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4427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485136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dedede"/>
                </a:solidFill>
                <a:latin typeface="Georgia"/>
              </a:rPr>
              <a:t>Outros relatos dizem que, quando atingiu a maturidade, Rasputin teria entrado  para a misteriosa Seita dos Flagelantes, um controverso grupo que  vivia sob o olhar apreensivo da Igreja Ortodoxa pré-revolução de 191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dedede"/>
                </a:solidFill>
                <a:latin typeface="Georgia"/>
              </a:rPr>
              <a:t>A premissa  básica era que não haveria sentido para a salvação se não fôssemos pecadores.  Havia rumores de que buscavam  união entre o êxtase  místico e sexual.  Apesar da versão não ser aceita  por historiadores,  a suspeita de que participava  da seita perseguiu-o até o fim, talvez devido ao fato de  que realmente Rasputin escandalizou a sociedade russa   por seu desregramento sexu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715000" cy="4862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4952880"/>
            <a:ext cx="8458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dedede"/>
                </a:solidFill>
                <a:latin typeface="Georgia"/>
              </a:rPr>
              <a:t>Quando chegou em São Petersburgo, no ano de 1903,  despertou o interesse da Tsarina Alexandra Romanov, cujo único filho varão era hemofíl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dedede"/>
                </a:solidFill>
                <a:latin typeface="Georgia"/>
              </a:rPr>
              <a:t>Utilizando seus conhecimentos de “cura pela fé”, Rasputin conseguia amenizar  os problemas do menino Alexei. Automaticamente ganhou o título de 'Enviado de Deus' e a confiança e admiração de Alexandra,  o que o levou a uma prestigiosa   intimidade com  a aristocracia russa, e o fez abandonar a vida de peregrino errant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4362480" cy="5657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800600" y="1600200"/>
            <a:ext cx="40384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edede"/>
                </a:solidFill>
                <a:latin typeface="Georgia"/>
              </a:rPr>
              <a:t>O estranho monge aproveitou a situação com brilhantismo.  Começou inclusive a ter influência nas rodas políticas, o  que desagradou profundamente alguns membros da elite que o consideravam apenas um charlatão, e que , como tal,  só poderia ser pernicioso aos interesses do Impéri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edede"/>
                </a:solidFill>
                <a:latin typeface="Georgia"/>
              </a:rPr>
              <a:t>Sua fama se espalhou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edede"/>
                </a:solidFill>
                <a:latin typeface="Georgia"/>
              </a:rPr>
              <a:t>De certa forma,  um dos maiores  impérios do século XIX passou a ser influenciado por um misterioso monge com poderes de cu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edede"/>
                </a:solidFill>
                <a:latin typeface="Georgia"/>
              </a:rPr>
              <a:t>Foi justamente esta fama inesperada que viria a causar sua ruí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120760"/>
            <a:ext cx="2644560" cy="4717800"/>
          </a:xfrm>
          <a:prstGeom prst="rect">
            <a:avLst/>
          </a:prstGeom>
          <a:solidFill>
            <a:srgbClr val="4d4d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e7e7e7"/>
                </a:solidFill>
                <a:latin typeface="Georgia"/>
              </a:rPr>
              <a:t>À parte de sua fama como poderoso mago, Rasputin manteve a princípio uma imagem de santidade e retidão. Mesmo mais tarde,  quando os relatórios da policia do Tsar denunciaram as bebedeiras e libertinagem do monge, nada parecia abalar seu prestígio real. Talvez pelo fato da doença de Alexei ser mantida em segredo, sua intimidade com a Tsarina deu lugar a rumo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181480" cy="4726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5029200"/>
            <a:ext cx="7696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dedede"/>
                </a:solidFill>
                <a:latin typeface="Georgia"/>
              </a:rPr>
              <a:t>Em 1914 estourou a Primeira Guerra Mundial e a Rússia posicionou-se ao lado da França e da Inglaterra. O Tzar Nicolau II foi obrigado a ocupar-se com assuntos militares. O palácio e o governo interno passaram para as mãos de Alexandra, e conseqüentemente,  manteve-se  em alta o prestígio de Rasputin. Descontentes com sua forte influência, a nobreza russa  passou a conspirar por  sua mort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38280" y="0"/>
            <a:ext cx="642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df"/>
                </a:solidFill>
                <a:latin typeface="Times New Roman"/>
              </a:rPr>
              <a:t>A idéia inicial era envenená-lo, e Rasputin foi convidado para  um jantar com o Príncipe Iussupov. Um mistério que intriga todos até hoje foi o fato de que o veneno na comida não fazia qualquer efeito.  Rasputin mantinha-se forte e bem disposto no decorrer do jantar. Estupefatos com a situação, os nobres o balearam. Ainda assim, ele se levantou do chão após o tiro. Por fim Rasputin foi amarrado e jogado no rio Neva, onde finalmente morreu afog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705360" cy="3794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160" y="3962520"/>
            <a:ext cx="83250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HAVIA DEIXADO UMA CARTA PROFÉTICA AO TSA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“</a:t>
            </a: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...SINTO QUE MORREREI ANTES DE 1° DE JANEIRO. SE ME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ASSASSINOS FOREM BANDIDOS OU CAMPONESES, O SENH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TSAR NADA TEM A TEMER. SUA FAMÍLIA REINARÁ POR SÉCUL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MAS SE FOREM PESSOAS DE SUA RELAÇÃO, NINGUÉM, NEM SEUS FILH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VIVERÃO POR MAIS DE 2 ANOS. SERÃO ASSASSINADOS P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POVO RUSSO. DEVE REFLETIR E SER PRUDENTE. PENSE EM S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SEGURANÇA E DIGA A SEUS AMIGOS QUE PAGUEI POR 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COM MEU SANGUE, POIS  SEREI ASSASSINADO.  JÁ NÃO ESTOU ENTRE OS VIVOS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ESTRANHAMENTE, 2 ANOS DEPOIS,O TSAR E SUA FAMÍLIA FORAM EXECUTADOS JUNT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EM UMA SALA, PELOS  REVOLUCIONÁRIOS  QUE LUTAVAM PELA CAUSA COMUNIS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23:58:14Z</dcterms:created>
  <dc:creator>Windows</dc:creator>
  <dc:description/>
  <dc:language>en-US</dc:language>
  <cp:lastModifiedBy>WinXpSP2</cp:lastModifiedBy>
  <dcterms:modified xsi:type="dcterms:W3CDTF">2008-10-16T14:22:50Z</dcterms:modified>
  <cp:revision>19</cp:revision>
  <dc:subject/>
  <dc:title>Apresentação do PowerPoint</dc:title>
</cp:coreProperties>
</file>