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Track07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7AAC-CB4A-4108-A627-918CA10A5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F301-397A-4498-B52A-ACE828E8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AC6A-BB70-41C3-8596-A87C727EA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0A48-0968-4E05-B063-D45F61861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9754-598D-47F1-B5AC-488D083D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8BD9-0C03-4C89-9E15-EC28F92A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E6C8-B6B8-4874-BC0F-CC54028B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830E-BA03-443E-BBD4-D865A063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0DF0-949F-4C12-BDF6-D90DC696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1F1F-4727-489E-B513-8B28EF9A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1F23-D27A-4B25-80D5-898C494A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CE3D-A829-4962-9C7E-5B5B800E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CA51-F1B3-4264-9828-1AB834C44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rack07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slidescorepoesia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56080" y="0"/>
            <a:ext cx="37879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214365"/>
                </a:solidFill>
                <a:latin typeface="Georgia"/>
              </a:rPr>
              <a:t>O monge russo Rasputin era considerado  “semi-louco” e libertino por uns, uma benção para outros, e um mistério para todos. Sua vida está envolta em uma névoa de histórias intrigantes,  estranhas, quase incompreensíveis , que nos revelam uma figura aparentemente sombria que usou de poderes considerados para-normais em um contexto histórico único no século XX ( a revolução russa),  e que, talvez precisamente por isso,  tornou-se extraordinariamente  famos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6324480"/>
            <a:ext cx="4778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bfbff"/>
                </a:solidFill>
                <a:latin typeface="Georgia"/>
              </a:rPr>
              <a:t>(AVANÇAR C?MOUS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  <p:sndAc>
      <p:stSnd>
        <p:snd r:embed="rId2" name="Track07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0c0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267080" y="533520"/>
            <a:ext cx="4224600" cy="5867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09480" y="490680"/>
            <a:ext cx="2644920" cy="63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7a"/>
                </a:solidFill>
                <a:latin typeface="Georgia"/>
              </a:rPr>
              <a:t>Sua resistência à morte deu ainda mais força para a imagem sobrenatural que construiu durante toda sua a vida. Rasputin talvez não tenha sido nem santo, nem demônio. Alguns historiadores consideram que foi usado como bode-expiatório num contexto político em que ambos os lados precisavam de atirar culpas para justificar malogros e excessos, inevitáveis de ambos os lados, durante a queda de um Império . De qualquer modo, sua figura tornou-se lendária, cruzou as fronteiras da Rússia e do tempo, seja como símbolo de poder sobrenatural, ou como ícone da esperteza humana.  Sua enigmática figura permanece intrigante até os dias de hoj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2800" y="4952880"/>
            <a:ext cx="6250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b5b5"/>
                </a:solidFill>
                <a:latin typeface="Times New Roman"/>
              </a:rPr>
              <a:t>FORMATAÇÃO: CLAUDIA MADEI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b5b5"/>
                </a:solidFill>
                <a:latin typeface="Times New Roman"/>
              </a:rPr>
              <a:t>ENTRE NO SITE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slidescorepoesia.com</a:t>
            </a:r>
            <a:r>
              <a:rPr b="0" lang="en-US" sz="2000" spc="-1" strike="noStrike" u="sng">
                <a:solidFill>
                  <a:srgbClr val="ffb5b5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b5b5"/>
                </a:solidFill>
                <a:latin typeface="Times New Roman"/>
              </a:rPr>
              <a:t>TEXTO E IMAGENS: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b5b5"/>
                </a:solidFill>
                <a:latin typeface="Times New Roman"/>
              </a:rPr>
              <a:t>SOM: “A VIAGEM DE GALITZIN” DE MUSSORGSK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3745080"/>
            <a:ext cx="3581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cc"/>
                </a:solidFill>
                <a:latin typeface="Georgia"/>
              </a:rPr>
              <a:t>Não via contradição no ato de unir o sagrado e o profano, causando ao mesmo tempo  admiração e perplexidade . Nasceu na aldeia de Rasputje, Sibéria, em 1869. Segundo algumas versões, teria poderes para-normais desde a infância, e aparentemente considerava isto um dom natur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858000" cy="4427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14400" y="4851360"/>
            <a:ext cx="76201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dedede"/>
                </a:solidFill>
                <a:latin typeface="Georgia"/>
              </a:rPr>
              <a:t>Outros relatos dizem que, quando atingiu a maturidade, Rasputin teria entrado  para a misteriosa Seita dos Flagelantes, um controverso grupo que  vivia sob o olhar apreensivo da Igreja Ortodoxa pré-revolução de 1917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dedede"/>
                </a:solidFill>
                <a:latin typeface="Georgia"/>
              </a:rPr>
              <a:t>A premissa  básica era que não haveria sentido para a salvação se não fôssemos pecadores.  Havia rumores de que buscavam  união entre o êxtase  místico e sexual.  Apesar da versão não ser aceita  por historiadores,  a suspeita de que participava  da seita perseguiu-o até o fim, talvez devido ao fato de  que realmente Rasputin escandalizou a sociedade russa   por seu desregramento sexu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5715000" cy="4862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5800" y="4952880"/>
            <a:ext cx="8458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dedede"/>
                </a:solidFill>
                <a:latin typeface="Georgia"/>
              </a:rPr>
              <a:t>Quando chegou em São Petersburgo, no ano de 1903,  despertou o interesse da Tsarina Alexandra Romanov, cujo único filho varão era hemofílic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dedede"/>
                </a:solidFill>
                <a:latin typeface="Georgia"/>
              </a:rPr>
              <a:t>Utilizando seus conhecimentos de “cura pela fé”, Rasputin conseguia amenizar  os problemas do menino Alexei. Automaticamente ganhou o título de 'Enviado de Deus' e a confiança e admiração de Alexandra,  o que o levou a uma prestigiosa   intimidade com  a aristocracia russa, e o fez abandonar a vida de peregrino errant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4362480" cy="5657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800600" y="1600200"/>
            <a:ext cx="403848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dedede"/>
                </a:solidFill>
                <a:latin typeface="Georgia"/>
              </a:rPr>
              <a:t>O estranho monge aproveitou a situação com brilhantismo.  Começou inclusive a ter influência nas rodas políticas, o  que desagradou profundamente alguns membros da elite que o consideravam apenas um charlatão, e que , como tal,  só poderia ser pernicioso aos interesses do Impéri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dedede"/>
                </a:solidFill>
                <a:latin typeface="Georgia"/>
              </a:rPr>
              <a:t>Sua fama se espalhou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dedede"/>
                </a:solidFill>
                <a:latin typeface="Georgia"/>
              </a:rPr>
              <a:t>De certa forma,  um dos maiores  impérios do século XIX passou a ser influenciado por um misterioso monge com poderes de cur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dedede"/>
                </a:solidFill>
                <a:latin typeface="Georgia"/>
              </a:rPr>
              <a:t>Foi justamente esta fama inesperada que viria a causar sua ruí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2120760"/>
            <a:ext cx="2644560" cy="4717800"/>
          </a:xfrm>
          <a:prstGeom prst="rect">
            <a:avLst/>
          </a:prstGeom>
          <a:solidFill>
            <a:srgbClr val="4d4d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e7e7e7"/>
                </a:solidFill>
                <a:latin typeface="Georgia"/>
              </a:rPr>
              <a:t>À parte de sua fama como poderoso mago, Rasputin manteve a princípio uma imagem de santidade e retidão. Mesmo mais tarde,  quando os relatórios da policia do Tsar denunciaram as bebedeiras e libertinagem do monge, nada parecia abalar seu prestígio real. Talvez pelo fato da doença de Alexei ser mantida em segredo, sua intimidade com a Tsarina deu lugar a rumor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181480" cy="4726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38080" y="5029200"/>
            <a:ext cx="7696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dedede"/>
                </a:solidFill>
                <a:latin typeface="Georgia"/>
              </a:rPr>
              <a:t>Em 1914 estourou a Primeira Guerra Mundial e a Rússia posicionou-se ao lado da França e da Inglaterra. O Tzar Nicolau II foi obrigado a ocupar-se com assuntos militares. O palácio e o governo interno passaram para as mãos de Alexandra, e conseqüentemente,  manteve-se  em alta o prestígio de Rasputin. Descontentes com sua forte influência, a nobreza russa  passou a conspirar por  sua morte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438280" y="0"/>
            <a:ext cx="6426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df"/>
                </a:solidFill>
                <a:latin typeface="Times New Roman"/>
              </a:rPr>
              <a:t>A idéia inicial era envenená-lo, e Rasputin foi convidado para  um jantar com o Príncipe Iussupov. Um mistério que intriga todos até hoje foi o fato de que o veneno na comida não fazia qualquer efeito.  Rasputin mantinha-se forte e bem disposto no decorrer do jantar. Estupefatos com a situação, os nobres o balearam. Ainda assim, ele se levantou do chão após o tiro. Por fim Rasputin foi amarrado e jogado no rio Neva, onde finalmente morreu afog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705360" cy="37940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3160" y="3962520"/>
            <a:ext cx="83250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dedede"/>
                </a:solidFill>
                <a:latin typeface="Georgia"/>
              </a:rPr>
              <a:t>HAVIA DEIXADO UMA CARTA PROFÉTICA AO TSAR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dedede"/>
                </a:solidFill>
                <a:latin typeface="Georgia"/>
              </a:rPr>
              <a:t>“</a:t>
            </a:r>
            <a:r>
              <a:rPr b="1" i="1" lang="en-US" sz="1400" spc="-1" strike="noStrike">
                <a:solidFill>
                  <a:srgbClr val="dedede"/>
                </a:solidFill>
                <a:latin typeface="Georgia"/>
              </a:rPr>
              <a:t>...SINTO QUE MORREREI ANTES DE 1° DE JANEIRO. SE MEU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dedede"/>
                </a:solidFill>
                <a:latin typeface="Georgia"/>
              </a:rPr>
              <a:t>ASSASSINOS FOREM BANDIDOS OU CAMPONESES, O SENH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dedede"/>
                </a:solidFill>
                <a:latin typeface="Georgia"/>
              </a:rPr>
              <a:t>TSAR NADA TEM A TEMER. SUA FAMÍLIA REINARÁ POR SÉCUL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dedede"/>
                </a:solidFill>
                <a:latin typeface="Georgia"/>
              </a:rPr>
              <a:t>MAS SE FOREM PESSOAS DE SUA RELAÇÃO, NINGUÉM, NEM SEUS FILHO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dedede"/>
                </a:solidFill>
                <a:latin typeface="Georgia"/>
              </a:rPr>
              <a:t>VIVERÃO POR MAIS DE 2 ANOS. SERÃO ASSASSINADOS PE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dedede"/>
                </a:solidFill>
                <a:latin typeface="Georgia"/>
              </a:rPr>
              <a:t>POVO RUSSO. DEVE REFLETIR E SER PRUDENTE. PENSE EM SU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dedede"/>
                </a:solidFill>
                <a:latin typeface="Georgia"/>
              </a:rPr>
              <a:t>SEGURANÇA E DIGA A SEUS AMIGOS QUE PAGUEI POR 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dedede"/>
                </a:solidFill>
                <a:latin typeface="Georgia"/>
              </a:rPr>
              <a:t>COM MEU SANGUE, POIS  SEREI ASSASSINADO.  JÁ NÃO ESTOU ENTRE OS VIVOS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dedede"/>
                </a:solidFill>
                <a:latin typeface="Georgia"/>
              </a:rPr>
              <a:t>ESTRANHAMENTE, 2 ANOS DEPOIS,O TSAR E SUA FAMÍLIA FORAM EXECUTADOS JUNTO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dedede"/>
                </a:solidFill>
                <a:latin typeface="Georgia"/>
              </a:rPr>
              <a:t>EM UMA SALA, PELOS  REVOLUCIONÁRIOS  QUE LUTAVAM PELA CAUSA COMUNIS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23:58:14Z</dcterms:created>
  <dc:creator>Windows</dc:creator>
  <dc:description/>
  <dc:language>en-US</dc:language>
  <cp:lastModifiedBy>WinXpSP2</cp:lastModifiedBy>
  <dcterms:modified xsi:type="dcterms:W3CDTF">2008-10-16T14:22:50Z</dcterms:modified>
  <cp:revision>19</cp:revision>
  <dc:subject/>
  <dc:title>Apresentação do PowerPoint</dc:title>
</cp:coreProperties>
</file>