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Music%20Folder%20-%20Andre%20Bocelli%20&amp;%20Sara%20Brightman%20Time%20To%20Say%20Goodbye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FE8-C0D8-4573-8F99-264475FF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4A8-E8AE-41AB-9916-2B067068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770-266B-43BA-B945-A113792F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D58-6AA6-4E8F-A1A3-688B5610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FBD-7D13-4F08-93C3-A34AD282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417-9EF9-4A69-B4DA-A0E42513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526-9B28-4267-8CDA-3201E8DB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CB8-A8E7-4E6C-8ED1-77E2497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AD3-117B-440A-A6D5-1F0D3850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54D-D070-4E0B-8326-838B48FA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6B0-9BA5-4F38-9195-1914E426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2FD-AB09-48E4-9932-1851270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3F83-858B-4D6C-90E7-025025E9A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Music%20Folder%20-%20Andre%20Bocelli%20&amp;%20Sara%20Brightman%20Time%20To%20Say%20Goodby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147878-001" descr=""/>
          <p:cNvPicPr/>
          <p:nvPr/>
        </p:nvPicPr>
        <p:blipFill>
          <a:blip r:embed="rId1"/>
          <a:srcRect l="0" t="95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28800" y="1219320"/>
            <a:ext cx="72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OR QUE VALE OURO</a:t>
            </a:r>
            <a:endParaRPr b="0" lang="en-US" sz="4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3200" y="3208320"/>
            <a:ext cx="3581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hecker dir="vert"/>
    <p:sndAc>
      <p:stSnd>
        <p:snd r:embed="rId6" name="Music%20Folder%20-%20Andre%20Bocelli%20&amp;%20Sara%20Brightman%20Time%20To%20Say%20Goodby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148795-001" descr=""/>
          <p:cNvPicPr/>
          <p:nvPr/>
        </p:nvPicPr>
        <p:blipFill>
          <a:blip r:embed="rId1"/>
          <a:srcRect l="0" t="991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60880" y="80172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terno? Eterno é aqui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 além do que nosso pensamento alcan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36840" y="2478240"/>
            <a:ext cx="550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da bonito, grande e f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sce e cresce em um dia. É preciso tempo, muita doçura, força e persistência, construir um pouco de um lado, embelezar aqui e ali, consertar o que se quebrou, plantar e colher e, muitas vez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ixar morrer, jogar fora o que não prest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00187565-001" descr=""/>
          <p:cNvPicPr/>
          <p:nvPr/>
        </p:nvPicPr>
        <p:blipFill>
          <a:blip r:embed="rId1"/>
          <a:srcRect l="0" t="0" r="0" b="123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040" y="573120"/>
            <a:ext cx="4892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ando vemos di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 nós um casal que consegue passar tantos e ta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os juntos, nos dizemos que deve haver um segredo           para que se tenha ultrapassado as barreiras do tempo e            chegado a esse po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360" y="3849840"/>
            <a:ext cx="481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lhando para um casal           assim, compreendemos melhor o que eterno e amor                 querem dizer. Amor é o que faz ver o horizonte e ete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 tentar imaginar o que há detrás d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312-000068" descr=""/>
          <p:cNvPicPr/>
          <p:nvPr/>
        </p:nvPicPr>
        <p:blipFill>
          <a:blip r:embed="rId1"/>
          <a:srcRect l="0" t="969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8120" y="496800"/>
            <a:ext cx="5790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amor é aquele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breviveu a todas as tempestades da vida; os mom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de as enxurradas vieram e saíram carregando tudo, muitas                   vezes a esperança, a alegria, o pão... mas a perseverança, uma                promessa feita e a lembrança dos dias melhores os f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erguer a cabeça e continuar, mesmo se os ventos contrários fizessem com que andassem mais devagar. Entenderam com o coração que não há nada errado em caminhar lentamente, que o importante mesmo é caminh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meazcrk53002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8120" y="57312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ver juntos não é a 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 ser feliz o tempo todo, sem pausas, mas de ser feliz com o que                 podemos tirar da vida a cada 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08240" y="2590920"/>
            <a:ext cx="580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 o rir juntos e cho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untos que mantém um casal unido e faz com que estejam                          lado-a-lado nos dias de velh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fgi01933rm" descr=""/>
          <p:cNvPicPr/>
          <p:nvPr/>
        </p:nvPicPr>
        <p:blipFill>
          <a:blip r:embed="rId1"/>
          <a:srcRect l="0" t="986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41760" y="1182600"/>
            <a:ext cx="466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m amor de ou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resentado aqui pelo metal mais preci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ruto no início, só depois de queimado, provado                   e modificado é que mostra seu verdadeiro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sim é a história da vida dos que alcançar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untos, essa bên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00324216-001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9880" y="72540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ar não é espe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outro mais do que ele pode dar, mas se contentar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que seu coração nos ofer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, juntos receber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da as estações e esperar pela próxima com o coração saci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32480" y="4876920"/>
            <a:ext cx="2987640" cy="946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úsica: Music Fo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18:12:27Z</dcterms:created>
  <dc:creator>Beth Norling</dc:creator>
  <dc:description/>
  <dc:language>en-US</dc:language>
  <cp:lastModifiedBy>Usuário</cp:lastModifiedBy>
  <dcterms:modified xsi:type="dcterms:W3CDTF">2006-10-24T17:52:45Z</dcterms:modified>
  <cp:revision>5</cp:revision>
  <dc:subject/>
  <dc:title>Amor Que Vale Ouro</dc:title>
</cp:coreProperties>
</file>