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Music%20Folder%20-%20Andre%20Bocelli%20&amp;%20Sara%20Brightman%20Time%20To%20Say%20Goodbye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42B-5ABE-47A5-93D5-C2EB0BF2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ED15-759C-428A-9FB1-C59E77B6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FB4-C5C5-44E4-8496-02490B8C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DA5-7971-48C3-8679-67FEA082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3C8-5CAD-4EB3-89A7-D592037C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94E-4FCC-4214-A295-0799AA67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554-1C1E-4B5C-A9F4-18098916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47A-22F5-4FD7-8154-3C2A098A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546-CF58-46E0-BD31-B09852DF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DB3-BF81-4B7E-B6FC-B3FE1C22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2ED-54B7-47C6-A6F2-754F5A41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19A-F185-40C5-9E33-21DE3AE3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FD99-8C1E-40C4-9F61-C42B19FEC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Music%20Folder%20-%20Andre%20Bocelli%20&amp;%20Sara%20Brightman%20Time%20To%20Say%20Goodby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147878-001" descr=""/>
          <p:cNvPicPr/>
          <p:nvPr/>
        </p:nvPicPr>
        <p:blipFill>
          <a:blip r:embed="rId1"/>
          <a:srcRect l="0" t="95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28800" y="1219320"/>
            <a:ext cx="72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MOR QUE VALE OURO</a:t>
            </a:r>
            <a:endParaRPr b="0" lang="en-US" sz="4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43200" y="3208320"/>
            <a:ext cx="3581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tícia Thompson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hecker dir="vert"/>
    <p:sndAc>
      <p:stSnd>
        <p:snd r:embed="rId6" name="Music%20Folder%20-%20Andre%20Bocelli%20&amp;%20Sara%20Brightman%20Time%20To%20Say%20Goodby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00148795-001" descr=""/>
          <p:cNvPicPr/>
          <p:nvPr/>
        </p:nvPicPr>
        <p:blipFill>
          <a:blip r:embed="rId1"/>
          <a:srcRect l="0" t="991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60880" y="80172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terno? Eterno é aquil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ra além do que nosso pensamento alcan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36840" y="2478240"/>
            <a:ext cx="550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da bonito, grande e f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sce e cresce em um dia. É preciso tempo, muita doçura, força e persistência, construir um pouco de um lado, embelezar aqui e ali, consertar o que se quebrou, plantar e colher e, muitas vez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ixar morrer, jogar fora o que não prest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00187565-001" descr=""/>
          <p:cNvPicPr/>
          <p:nvPr/>
        </p:nvPicPr>
        <p:blipFill>
          <a:blip r:embed="rId1"/>
          <a:srcRect l="0" t="0" r="0" b="123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040" y="573120"/>
            <a:ext cx="4892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ando vemos di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 nós um casal que consegue passar tantos e ta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os juntos, nos dizemos que deve haver um segredo           para que se tenha ultrapassado as barreiras do tempo e            chegado a esse po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360" y="3849840"/>
            <a:ext cx="481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lhando para um casal           assim, compreendemos melhor o que eterno e amor                 querem dizer. Amor é o que faz ver o horizonte e eter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 tentar imaginar o que há detrás d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312-000068" descr=""/>
          <p:cNvPicPr/>
          <p:nvPr/>
        </p:nvPicPr>
        <p:blipFill>
          <a:blip r:embed="rId1"/>
          <a:srcRect l="0" t="969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8120" y="496800"/>
            <a:ext cx="5790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 amor é aquele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breviveu a todas as tempestades da vida; os mome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de as enxurradas vieram e saíram carregando tudo, muitas                   vezes a esperança, a alegria, o pão... mas a perseverança, uma                promessa feita e a lembrança dos dias melhores os f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erguer a cabeça e continuar, mesmo se os ventos contrários fizessem com que andassem mais devagar. Entenderam com o coração que não há nada errado em caminhar lentamente, que o importante mesmo é caminh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meazcrk53002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8120" y="573120"/>
            <a:ext cx="579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ver juntos não é a 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 ser feliz o tempo todo, sem pausas, mas de ser feliz com o que                 podemos tirar da vida a cada 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08240" y="2590920"/>
            <a:ext cx="580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 o rir juntos e chor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untos que mantém um casal unido e faz com que estejam                          lado-a-lado nos dias de velh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lfgi01933rm" descr=""/>
          <p:cNvPicPr/>
          <p:nvPr/>
        </p:nvPicPr>
        <p:blipFill>
          <a:blip r:embed="rId1"/>
          <a:srcRect l="0" t="986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41760" y="1182600"/>
            <a:ext cx="466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m amor de our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presentado aqui pelo metal mais preci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ruto no início, só depois de queimado, provado                   e modificado é que mostra seu verdadeiro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sim é a história da vida dos que alcançar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untos, essa bên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00324216-001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9880" y="725400"/>
            <a:ext cx="502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mar não é esper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outro mais do que ele pode dar, mas se contentar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que seu coração nos ofer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, juntos receber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da as estações e esperar pela próxima com o coração saci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32480" y="4876920"/>
            <a:ext cx="2987640" cy="9464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ormatação: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úsica: Music Fo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4T18:12:27Z</dcterms:created>
  <dc:creator>Beth Norling</dc:creator>
  <dc:description/>
  <dc:language>en-US</dc:language>
  <cp:lastModifiedBy>Usuário</cp:lastModifiedBy>
  <dcterms:modified xsi:type="dcterms:W3CDTF">2006-10-24T17:52:45Z</dcterms:modified>
  <cp:revision>5</cp:revision>
  <dc:subject/>
  <dc:title>Amor Que Vale Ouro</dc:title>
</cp:coreProperties>
</file>