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rnesto%20Cortazar%20-%20leaves_in_the_wind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0E3-5309-40DC-BB8E-C19D75E3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8DB-1ADF-4508-8DF1-3C308837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D05-A53D-4106-AA4D-B734E785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E14-0554-4F59-9C7C-3411251D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B06-7981-419C-BA59-A12760EE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027-6BDE-4C61-A832-BE3C51E4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EE5-73D0-4139-9960-8711CD1F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285-2B4B-4A1A-BAB5-53F585B1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2DF-1692-4D46-B112-E06993D4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4A5-4130-474B-A78C-B7CC564E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CFA-B206-4734-B357-5D943614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6874-CB5B-4297-91A0-72511C53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61E9-8208-42B3-8A1C-71959B4EC9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azar%20-%20leaves_in_the_win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3160800"/>
            <a:ext cx="62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3399"/>
                </a:solidFill>
                <a:latin typeface="BernhardFashion BT"/>
              </a:rPr>
              <a:t>A Verdadeira Perfeiçã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2920" y="2602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Ernesto%20Cortazar%20-%20leaves_in_the_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95640" y="2060640"/>
            <a:ext cx="6730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Todo o mundo sabia que isto seria quase impossível,  porque ele nem mesmo sabia segurar o bastão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      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Porém,  quando  Pedro tomou posição, o lançador se moveu alguns passos para arremessar a bola de maneira que Pedro pudesse ao menos rebater. Foi feito o primeiro arremesso e Pedro balançou desajeitadamente e perdeu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Um dos </a:t>
            </a:r>
            <a:r>
              <a:rPr b="1" i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companheiros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 da equipe de Pedro foi até ele e </a:t>
            </a:r>
            <a:r>
              <a:rPr b="1" i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juntos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 seguraram o bastão e encararam o lançado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24000" y="1989000"/>
            <a:ext cx="70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O lançador deu novamente alguns passos para lançar a bola suavemente para Pedro. Quando veio o lance, Pedro  e o seu  companheiro da equipe  balançaram o bastão e juntos rebateram a lenta bola do lançador. O lançador apanhou a suave bola e poderia tê-la lançado facilmente ao primeiro homem da base, Pedro estaria fora e isso teria terminado o jogo. Ao invés disso, o lançador pegou a bola e lançou-a numa curva, longa e alta para o campo, distante do alcance do primeiro homem da base.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95640" y="2205000"/>
            <a:ext cx="669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Então todo o mundo começou a gritar: Pedro corre para a primeira base, corre para a primeira. Nunca na sua vida ele tinha corrido... mas saiu disparado para a linha de base, com os olhos arregalados e assustado. Até que ele alcançasse a primeira base, o jogador da direita teve a posse da bola. Ele poderia ter lançado a bola ao segundo homem da base, o que colocaria Pedro fora de jogo, pois ele ainda estava correndo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24000" y="2133720"/>
            <a:ext cx="6840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Mas o jogador entendeu quais eram as intenções do lançador, assim, lançou a bola alta e distante, acima da cabeça do terceiro homem da base. Todo o mundo gritou: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- Corre para a segunda, Pedro, corre para a segunda base. 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Pedro correu para a segunda base, enquanto os jogadores à frente dele circulavam deliberadamente para a base principal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0920" y="2133720"/>
            <a:ext cx="68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Quando Pedro alcançou a segunda base, a curta parada adversária </a:t>
            </a:r>
            <a:br>
              <a:rPr sz="2400"/>
            </a:b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colocou-o na direção de terceira base e todos gritaram: 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       - Corre para a terceira. 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Ambas as equipes correram atrás dele gritando: 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       - Pedro, corre para a base principal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30560" y="1989000"/>
            <a:ext cx="69134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   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Pedro correu para a base principal,  pisou nela e </a:t>
            </a:r>
            <a:r>
              <a:rPr b="1" i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todos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 os 18 meninos o </a:t>
            </a:r>
            <a:r>
              <a:rPr b="1" i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ergueram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 nos ombros fazendo dele </a:t>
            </a:r>
            <a:r>
              <a:rPr b="1" i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o herói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, como se ele tivesse vencido o campeonato e ganho o jogo para a equipe dele. 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- Naquele dia, disse o pai, com lágrimas caindo sobre face, </a:t>
            </a:r>
            <a:r>
              <a:rPr b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aqueles 18 meninos alcançaram a Perfeição de Deus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. Eu nunca tinha visto um sorriso tão  lindo no rosto do meu filho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484360" y="2492280"/>
            <a:ext cx="63356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   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O fato é verdadeiro  e ao mesmo tempo  causa-nos  tanta estranheza! Entretanto, há pessoas que enviam mil piadas por e-mail e elas espalham-se como fogo, mas, quando enviamos mensagens sobre algo de bom, muitas das pessoas pensam duas vezes antes de compartilhá-las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771640" y="2492280"/>
            <a:ext cx="6048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  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É preocupante que coisas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grotescas, vulgares e obscenas cruzem livremente o ciberespaço, mas, eu sei que você vai decidir e passar adiante esta mensagem, e a enviará para todos de sua lista de endereços, porque está seguro o quanto eles acreditam e pensam sobre você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771640" y="2492280"/>
            <a:ext cx="60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Mostre mais uma vez que está acima de qualquer tipo de discriminação e que ao enviar esta linda e verdadeira história, muitas vidas poderão ser alcançadas pela PERFEIÇÃO DE DEUS.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       Todos </a:t>
            </a:r>
            <a:r>
              <a:rPr b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precisamos parar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 alguns momentos </a:t>
            </a:r>
            <a:r>
              <a:rPr b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para pensar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 naquilo que é realmente importante </a:t>
            </a:r>
            <a:r>
              <a:rPr b="1" lang="pt-BR" sz="2400" spc="-1" strike="noStrike" u="sng">
                <a:solidFill>
                  <a:srgbClr val="003399"/>
                </a:solidFill>
                <a:uFillTx/>
                <a:latin typeface="BernhardFashion BT"/>
              </a:rPr>
              <a:t>na vida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2133720"/>
            <a:ext cx="412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2708280"/>
            <a:ext cx="590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</a:rPr>
              <a:t>A amizade e a solidariedade e o amor ao próximo jamais sairão de moda.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3399"/>
                </a:solidFill>
                <a:latin typeface="BernhardFashion BT"/>
              </a:rPr>
              <a:t>Basta querermos!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24000" y="2019240"/>
            <a:ext cx="66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No Brooklyn, Nova Iorque, Chush é uma escola que se dedica ao ensino de crianças especiais. Algumas crianças ali permanecem por toda a vida  escolar, enquanto outras podem ser encaminhadas para uma escola comum.. 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       Num jantar  beneficente  de Chush, o  pai de   uma criança fez um discurso que nunca mais seria esquecido  pelos que ali estavam presente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989000"/>
            <a:ext cx="601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Depois de  elogiar a escola e seu dedicado  pessoal,  perguntou: 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- Onde está a perfeição no meu filho Pedro,  se tudo o  que DEUS faz é feito com perfeição? Meu filho não  pode entender as coisas como outras crianças entendem. Meu filho não se pode lembrar de fatos e números como as outras crianças. Então, onde está a perfeição de Deus? '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84360" y="2492280"/>
            <a:ext cx="612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Todos ficaram chocados com a pergunta e com o sofrimento daquele pai, mas  ele continuou: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- Acredito que quando Deus traz uma criança especial ao mundo, a perfeição que Ele busca  está no modo  como as pessoas reagem diante desta crianç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56000" y="2421000"/>
            <a:ext cx="64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    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  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- Uma tarde, Pedro e eu caminhávamos pelo parque onde alguns meninos que o conheciam, estavam jogando beisebol. Pedro perguntou-me: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        </a:t>
            </a: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BernhardFashion B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- Pai, você acha que eles me deixariam jogar?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95640" y="2384280"/>
            <a:ext cx="67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Times New Roman"/>
              </a:rPr>
              <a:t>Eu sabia das limitações do meu filho e que a maioria dos meninos não o queria na equipe. Mas entendi que se Pedro pudesse jogar com eles, isto lhe daria uma confortável sensação de participação. Aproximei-me de um dos meninos no  campo e perguntei-lhe se Pedro poderia jogar. O menino deu uma olhada ao redor, buscando a aprovação  de seus companheiros de equipe e  mesmo  não conseguindo nenhuma aprovação, ele assumiu a responsabilidade e disse: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27280" y="3141720"/>
            <a:ext cx="57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      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- Nós estamos perdendo por seis rodadas e o jogo está na oitava.  Acho que ele pode entrar na nossa equipe e tentaremos colocá-lo para bater até a nona rodad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59280" y="2565360"/>
            <a:ext cx="5146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Fiquei admirado quando Pedro abriu um grande sorriso ao ouvir a resposta do menino. Pediram então que ele calçasse a luva e fosse para o campo jogar. No final da oitava rodada, a equipe de Pedro marcou alguns pontos, mas ainda estava perdendo por três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56000" y="2133720"/>
            <a:ext cx="59752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BernhardFashion BT"/>
                <a:ea typeface="Arial"/>
              </a:rPr>
              <a:t>   </a:t>
            </a:r>
            <a:r>
              <a:rPr b="1" i="1" lang="pt-BR" sz="2400" spc="-1" strike="noStrike">
                <a:solidFill>
                  <a:srgbClr val="003399"/>
                </a:solidFill>
                <a:latin typeface="BernhardFashion BT"/>
              </a:rPr>
              <a:t>No final da nona rodada, a  equipe de Pedro marcou novamente e agora com dois fora e as  bases com potencial para a rodada decisiva, Pedro foi escalado  para continuar. Uma questão, porém, veio à minha mente: a equipe  deixaria Pedro, de fato, rebater nesta circunstância e deitar fora à  possibilidade de ganhar o jogo?  Surpreendentemente, foi dado o  bastão a Pedro.</a:t>
            </a:r>
            <a:r>
              <a:rPr b="0" lang="pt-BR" sz="2400" spc="-1" strike="noStrike">
                <a:solidFill>
                  <a:srgbClr val="003399"/>
                </a:solidFill>
                <a:latin typeface="BernhardFashio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1:51:43Z</dcterms:created>
  <dc:creator>Salvador</dc:creator>
  <dc:description/>
  <dc:language>en-US</dc:language>
  <cp:lastModifiedBy>REGINA</cp:lastModifiedBy>
  <dcterms:modified xsi:type="dcterms:W3CDTF">2009-05-05T12:49:41Z</dcterms:modified>
  <cp:revision>41</cp:revision>
  <dc:subject/>
  <dc:title>Apresentação do PowerPoint</dc:title>
</cp:coreProperties>
</file>