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Ernesto%20Cortazar%20-%20leaves_in_the_wind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B489-78E7-43A4-98AA-A03840B0F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4D3C-0F81-47B8-85F0-0C465BDC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3F8B-FB53-4CB5-BBB2-B9057E00D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D00F-3B48-4E6F-9938-CC8D8AD84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1403-B539-4989-A62D-7F73EFAE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A9F0-610D-4CB7-B05E-CF9FC83E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2B57-EB4E-4437-9F79-2EB0C4EF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074E-8810-48E4-BE07-328EBB3E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ADC3-91BC-450A-9D87-76584310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FEB0-90D4-44EB-94D7-CFAC3B92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D58C-3703-47DC-BBFD-847DDCF0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AFE3-B4A2-458F-8103-33DCDDA4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7A6F-BE94-4AB8-A1AA-6A77EF96064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rnesto%20Cortazar%20-%20leaves_in_the_wind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8360" y="3160800"/>
            <a:ext cx="62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3399"/>
                </a:solidFill>
                <a:latin typeface="BernhardFashion BT"/>
              </a:rPr>
              <a:t>A Verdadeira Perfeição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2920" y="26028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2" name="Ernesto%20Cortazar%20-%20leaves_in_the_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95640" y="2060640"/>
            <a:ext cx="67309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Todo o mundo sabia que isto seria quase impossível,  porque ele nem mesmo sabia segurar o bastão.</a:t>
            </a:r>
            <a:r>
              <a:rPr b="0" lang="pt-BR" sz="2400" spc="-1" strike="noStrike">
                <a:solidFill>
                  <a:srgbClr val="003399"/>
                </a:solidFill>
                <a:latin typeface="BernhardFashion BT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BernhardFashion BT"/>
                <a:ea typeface="Arial"/>
              </a:rPr>
              <a:t>       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Porém,  quando  Pedro tomou posição, o lançador se moveu alguns passos para arremessar a bola de maneira que Pedro pudesse ao menos rebater. Foi feito o primeiro arremesso e Pedro balançou desajeitadamente e perdeu.</a:t>
            </a:r>
            <a:r>
              <a:rPr b="0" lang="pt-BR" sz="2400" spc="-1" strike="noStrike">
                <a:solidFill>
                  <a:srgbClr val="003399"/>
                </a:solidFill>
                <a:latin typeface="BernhardFashion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BernhardFashion BT"/>
                <a:ea typeface="Arial"/>
              </a:rPr>
              <a:t> </a:t>
            </a: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Um dos </a:t>
            </a:r>
            <a:r>
              <a:rPr b="1" i="1" lang="pt-BR" sz="2400" spc="-1" strike="noStrike" u="sng">
                <a:solidFill>
                  <a:srgbClr val="003399"/>
                </a:solidFill>
                <a:uFillTx/>
                <a:latin typeface="BernhardFashion BT"/>
              </a:rPr>
              <a:t>companheiros</a:t>
            </a: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 da equipe de Pedro foi até ele e </a:t>
            </a:r>
            <a:r>
              <a:rPr b="1" i="1" lang="pt-BR" sz="2400" spc="-1" strike="noStrike" u="sng">
                <a:solidFill>
                  <a:srgbClr val="003399"/>
                </a:solidFill>
                <a:uFillTx/>
                <a:latin typeface="BernhardFashion BT"/>
              </a:rPr>
              <a:t>juntos</a:t>
            </a: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 seguraram o bastão e encararam o lançador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24000" y="1989000"/>
            <a:ext cx="702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O lançador deu novamente alguns passos para lançar a bola suavemente para Pedro. Quando veio o lance, Pedro  e o seu  companheiro da equipe  balançaram o bastão e juntos rebateram a lenta bola do lançador. O lançador apanhou a suave bola e poderia tê-la lançado facilmente ao primeiro homem da base, Pedro estaria fora e isso teria terminado o jogo. Ao invés disso, o lançador pegou a bola e lançou-a numa curva, longa e alta para o campo, distante do alcance do primeiro homem da base.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95640" y="2205000"/>
            <a:ext cx="6697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Então todo o mundo começou a gritar: Pedro corre para a primeira base, corre para a primeira. Nunca na sua vida ele tinha corrido... mas saiu disparado para a linha de base, com os olhos arregalados e assustado. Até que ele alcançasse a primeira base, o jogador da direita teve a posse da bola. Ele poderia ter lançado a bola ao segundo homem da base, o que colocaria Pedro fora de jogo, pois ele ainda estava correndo.</a:t>
            </a:r>
            <a:r>
              <a:rPr b="0" lang="pt-BR" sz="2400" spc="-1" strike="noStrike">
                <a:solidFill>
                  <a:srgbClr val="003399"/>
                </a:solidFill>
                <a:latin typeface="BernhardFashion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124000" y="2133720"/>
            <a:ext cx="68407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Mas o jogador entendeu quais eram as intenções do lançador, assim, lançou a bola alta e distante, acima da cabeça do terceiro homem da base. Todo o mundo gritou:</a:t>
            </a:r>
            <a:r>
              <a:rPr b="0" lang="pt-BR" sz="2400" spc="-1" strike="noStrike">
                <a:solidFill>
                  <a:srgbClr val="003399"/>
                </a:solidFill>
                <a:latin typeface="BernhardFashion BT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BernhardFashion BT"/>
                <a:ea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BernhardFashion BT"/>
                <a:ea typeface="Arial"/>
              </a:rPr>
              <a:t> </a:t>
            </a: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- Corre para a segunda, Pedro, corre para a segunda base. </a:t>
            </a: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Pedro correu para a segunda base, enquanto os jogadores à frente dele circulavam deliberadamente para a base principal.</a:t>
            </a:r>
            <a:r>
              <a:rPr b="0" lang="pt-BR" sz="2400" spc="-1" strike="noStrike">
                <a:solidFill>
                  <a:srgbClr val="003399"/>
                </a:solidFill>
                <a:latin typeface="BernhardFashion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0920" y="2133720"/>
            <a:ext cx="6842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Quando Pedro alcançou a segunda base, a curta parada adversária </a:t>
            </a:r>
            <a:br>
              <a:rPr sz="2400"/>
            </a:b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colocou-o na direção de terceira base e todos gritaram: </a:t>
            </a: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       - Corre para a terceira. </a:t>
            </a: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Ambas as equipes correram atrás dele gritando: </a:t>
            </a: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       - Pedro, corre para a base principal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30560" y="1989000"/>
            <a:ext cx="691344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BernhardFashion BT"/>
                <a:ea typeface="Arial"/>
              </a:rPr>
              <a:t>     </a:t>
            </a: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Pedro correu para a base principal,  pisou nela e </a:t>
            </a:r>
            <a:r>
              <a:rPr b="1" i="1" lang="pt-BR" sz="2400" spc="-1" strike="noStrike" u="sng">
                <a:solidFill>
                  <a:srgbClr val="003399"/>
                </a:solidFill>
                <a:uFillTx/>
                <a:latin typeface="BernhardFashion BT"/>
              </a:rPr>
              <a:t>todos</a:t>
            </a: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 os 18 meninos o </a:t>
            </a:r>
            <a:r>
              <a:rPr b="1" i="1" lang="pt-BR" sz="2400" spc="-1" strike="noStrike" u="sng">
                <a:solidFill>
                  <a:srgbClr val="003399"/>
                </a:solidFill>
                <a:uFillTx/>
                <a:latin typeface="BernhardFashion BT"/>
              </a:rPr>
              <a:t>ergueram</a:t>
            </a: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 nos ombros fazendo dele </a:t>
            </a:r>
            <a:r>
              <a:rPr b="1" i="1" lang="pt-BR" sz="2400" spc="-1" strike="noStrike" u="sng">
                <a:solidFill>
                  <a:srgbClr val="003399"/>
                </a:solidFill>
                <a:uFillTx/>
                <a:latin typeface="BernhardFashion BT"/>
              </a:rPr>
              <a:t>o herói</a:t>
            </a: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, como se ele tivesse vencido o campeonato e ganho o jogo para a equipe dele. </a:t>
            </a:r>
            <a:br>
              <a:rPr sz="2400"/>
            </a:br>
            <a:br>
              <a:rPr sz="2400"/>
            </a:br>
            <a:r>
              <a:rPr b="1" lang="pt-BR" sz="2400" spc="-1" strike="noStrike">
                <a:solidFill>
                  <a:srgbClr val="003399"/>
                </a:solidFill>
                <a:latin typeface="BernhardFashion BT"/>
              </a:rPr>
              <a:t>- Naquele dia, disse o pai, com lágrimas caindo sobre face, </a:t>
            </a:r>
            <a:r>
              <a:rPr b="1" lang="pt-BR" sz="2400" spc="-1" strike="noStrike" u="sng">
                <a:solidFill>
                  <a:srgbClr val="003399"/>
                </a:solidFill>
                <a:uFillTx/>
                <a:latin typeface="BernhardFashion BT"/>
              </a:rPr>
              <a:t>aqueles 18 meninos alcançaram a Perfeição de Deus</a:t>
            </a:r>
            <a:r>
              <a:rPr b="1" lang="pt-BR" sz="2400" spc="-1" strike="noStrike">
                <a:solidFill>
                  <a:srgbClr val="003399"/>
                </a:solidFill>
                <a:latin typeface="BernhardFashion BT"/>
              </a:rPr>
              <a:t>. Eu nunca tinha visto um sorriso tão  lindo no rosto do meu filho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484360" y="2492280"/>
            <a:ext cx="633564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BernhardFashion BT"/>
                <a:ea typeface="Arial"/>
              </a:rPr>
              <a:t>    </a:t>
            </a:r>
            <a:r>
              <a:rPr b="1" lang="pt-BR" sz="2400" spc="-1" strike="noStrike">
                <a:solidFill>
                  <a:srgbClr val="003399"/>
                </a:solidFill>
                <a:latin typeface="BernhardFashion BT"/>
              </a:rPr>
              <a:t>O fato é verdadeiro  e ao mesmo tempo  causa-nos  tanta estranheza! Entretanto, há pessoas que enviam mil piadas por e-mail e elas espalham-se como fogo, mas, quando enviamos mensagens sobre algo de bom, muitas das pessoas pensam duas vezes antes de compartilhá-las.</a:t>
            </a:r>
            <a:r>
              <a:rPr b="0" lang="pt-BR" sz="2400" spc="-1" strike="noStrike">
                <a:solidFill>
                  <a:srgbClr val="003399"/>
                </a:solidFill>
                <a:latin typeface="BernhardFashion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771640" y="2492280"/>
            <a:ext cx="604836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BernhardFashion BT"/>
                <a:ea typeface="Arial"/>
              </a:rPr>
              <a:t>   </a:t>
            </a:r>
            <a:r>
              <a:rPr b="1" lang="pt-BR" sz="2400" spc="-1" strike="noStrike">
                <a:solidFill>
                  <a:srgbClr val="003399"/>
                </a:solidFill>
                <a:latin typeface="BernhardFashion BT"/>
              </a:rPr>
              <a:t>É preocupante que coisas</a:t>
            </a:r>
            <a:r>
              <a:rPr b="0" lang="pt-BR" sz="2400" spc="-1" strike="noStrike">
                <a:solidFill>
                  <a:srgbClr val="003399"/>
                </a:solidFill>
                <a:latin typeface="BernhardFashion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BernhardFashion BT"/>
              </a:rPr>
              <a:t>grotescas, vulgares e obscenas cruzem livremente o ciberespaço, mas, eu sei que você vai decidir e passar adiante esta mensagem, e a enviará para todos de sua lista de endereços, porque está seguro o quanto eles acreditam e pensam sobre você.</a:t>
            </a:r>
            <a:r>
              <a:rPr b="0" lang="pt-BR" sz="2400" spc="-1" strike="noStrike">
                <a:solidFill>
                  <a:srgbClr val="003399"/>
                </a:solidFill>
                <a:latin typeface="BernhardFashion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771640" y="2492280"/>
            <a:ext cx="60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BernhardFashion BT"/>
              </a:rPr>
              <a:t>Mostre mais uma vez que está acima de qualquer tipo de discriminação e que ao enviar esta linda e verdadeira história, muitas vidas poderão ser alcançadas pela PERFEIÇÃO DE DEUS.</a:t>
            </a:r>
            <a:br>
              <a:rPr sz="2400"/>
            </a:br>
            <a:br>
              <a:rPr sz="2400"/>
            </a:br>
            <a:r>
              <a:rPr b="1" lang="pt-BR" sz="2400" spc="-1" strike="noStrike">
                <a:solidFill>
                  <a:srgbClr val="003399"/>
                </a:solidFill>
                <a:latin typeface="BernhardFashion BT"/>
              </a:rPr>
              <a:t>       Todos </a:t>
            </a:r>
            <a:r>
              <a:rPr b="1" lang="pt-BR" sz="2400" spc="-1" strike="noStrike" u="sng">
                <a:solidFill>
                  <a:srgbClr val="003399"/>
                </a:solidFill>
                <a:uFillTx/>
                <a:latin typeface="BernhardFashion BT"/>
              </a:rPr>
              <a:t>precisamos parar</a:t>
            </a:r>
            <a:r>
              <a:rPr b="1" lang="pt-BR" sz="2400" spc="-1" strike="noStrike">
                <a:solidFill>
                  <a:srgbClr val="003399"/>
                </a:solidFill>
                <a:latin typeface="BernhardFashion BT"/>
              </a:rPr>
              <a:t> alguns momentos </a:t>
            </a:r>
            <a:r>
              <a:rPr b="1" lang="pt-BR" sz="2400" spc="-1" strike="noStrike" u="sng">
                <a:solidFill>
                  <a:srgbClr val="003399"/>
                </a:solidFill>
                <a:uFillTx/>
                <a:latin typeface="BernhardFashion BT"/>
              </a:rPr>
              <a:t>para pensar</a:t>
            </a:r>
            <a:r>
              <a:rPr b="1" lang="pt-BR" sz="2400" spc="-1" strike="noStrike">
                <a:solidFill>
                  <a:srgbClr val="003399"/>
                </a:solidFill>
                <a:latin typeface="BernhardFashion BT"/>
              </a:rPr>
              <a:t> naquilo que é realmente importante </a:t>
            </a:r>
            <a:r>
              <a:rPr b="1" lang="pt-BR" sz="2400" spc="-1" strike="noStrike" u="sng">
                <a:solidFill>
                  <a:srgbClr val="003399"/>
                </a:solidFill>
                <a:uFillTx/>
                <a:latin typeface="BernhardFashion BT"/>
              </a:rPr>
              <a:t>na vida</a:t>
            </a:r>
            <a:r>
              <a:rPr b="1" lang="pt-BR" sz="2400" spc="-1" strike="noStrike">
                <a:solidFill>
                  <a:srgbClr val="003399"/>
                </a:solidFill>
                <a:latin typeface="BernhardFashion BT"/>
              </a:rPr>
              <a:t>.</a:t>
            </a:r>
            <a:r>
              <a:rPr b="0" lang="pt-BR" sz="2400" spc="-1" strike="noStrike">
                <a:solidFill>
                  <a:srgbClr val="003399"/>
                </a:solidFill>
                <a:latin typeface="BernhardFashion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895480" y="2133720"/>
            <a:ext cx="412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16360" y="2708280"/>
            <a:ext cx="5903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BernhardFashion BT"/>
              </a:rPr>
              <a:t>A amizade e a solidariedade e o amor ao próximo jamais sairão de moda.</a:t>
            </a:r>
            <a:br>
              <a:rPr sz="2800"/>
            </a:br>
            <a:br>
              <a:rPr sz="2800"/>
            </a:br>
            <a:r>
              <a:rPr b="1" lang="pt-BR" sz="2800" spc="-1" strike="noStrike">
                <a:solidFill>
                  <a:srgbClr val="003399"/>
                </a:solidFill>
                <a:latin typeface="BernhardFashion BT"/>
              </a:rPr>
              <a:t>Basta querermos!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124000" y="2019240"/>
            <a:ext cx="669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BernhardFashion BT"/>
              </a:rPr>
              <a:t>No Brooklyn, Nova Iorque, Chush é uma escola que se dedica ao ensino de crianças especiais. Algumas crianças ali permanecem por toda a vida  escolar, enquanto outras podem ser encaminhadas para uma escola comum.. </a:t>
            </a:r>
            <a:br>
              <a:rPr sz="2400"/>
            </a:br>
            <a:br>
              <a:rPr sz="2400"/>
            </a:br>
            <a:r>
              <a:rPr b="1" lang="pt-BR" sz="2400" spc="-1" strike="noStrike">
                <a:solidFill>
                  <a:srgbClr val="003399"/>
                </a:solidFill>
                <a:latin typeface="BernhardFashion BT"/>
              </a:rPr>
              <a:t>       Num jantar  beneficente  de Chush, o  pai de   uma criança fez um discurso que nunca mais seria esquecido  pelos que ali estavam presentes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989000"/>
            <a:ext cx="6014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BernhardFashion BT"/>
              </a:rPr>
              <a:t>Depois de  elogiar a escola e seu dedicado  pessoal,  perguntou: </a:t>
            </a:r>
            <a:br>
              <a:rPr sz="2400"/>
            </a:br>
            <a:br>
              <a:rPr sz="2400"/>
            </a:br>
            <a:r>
              <a:rPr b="1" lang="pt-BR" sz="2400" spc="-1" strike="noStrike">
                <a:solidFill>
                  <a:srgbClr val="003399"/>
                </a:solidFill>
                <a:latin typeface="BernhardFashion BT"/>
              </a:rPr>
              <a:t>- Onde está a perfeição no meu filho Pedro,  se tudo o  que DEUS faz é feito com perfeição? Meu filho não  pode entender as coisas como outras crianças entendem. Meu filho não se pode lembrar de fatos e números como as outras crianças. Então, onde está a perfeição de Deus? '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484360" y="2492280"/>
            <a:ext cx="6121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BernhardFashion BT"/>
              </a:rPr>
              <a:t>Todos ficaram chocados com a pergunta e com o sofrimento daquele pai, mas  ele continuou:</a:t>
            </a:r>
            <a:br>
              <a:rPr sz="2400"/>
            </a:br>
            <a:br>
              <a:rPr sz="2400"/>
            </a:br>
            <a:r>
              <a:rPr b="1" lang="pt-BR" sz="2400" spc="-1" strike="noStrike">
                <a:solidFill>
                  <a:srgbClr val="003399"/>
                </a:solidFill>
                <a:latin typeface="BernhardFashion BT"/>
              </a:rPr>
              <a:t>- Acredito que quando Deus traz uma criança especial ao mundo, a perfeição que Ele busca  está no modo  como as pessoas reagem diante desta criança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56000" y="2421000"/>
            <a:ext cx="64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    </a:t>
            </a: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   </a:t>
            </a: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- Uma tarde, Pedro e eu caminhávamos pelo parque onde alguns meninos que o conheciam, estavam jogando beisebol. Pedro perguntou-me:</a:t>
            </a:r>
            <a:r>
              <a:rPr b="1" lang="pt-BR" sz="2400" spc="-1" strike="noStrike">
                <a:solidFill>
                  <a:srgbClr val="003399"/>
                </a:solidFill>
                <a:latin typeface="BernhardFashion BT"/>
              </a:rPr>
              <a:t> </a:t>
            </a: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        </a:t>
            </a:r>
            <a:r>
              <a:rPr b="1" lang="pt-BR" sz="2400" spc="-1" strike="noStrike">
                <a:solidFill>
                  <a:srgbClr val="003399"/>
                </a:solidFill>
                <a:latin typeface="BernhardFashion BT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BernhardFashion B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- Pai, você acha que eles me deixariam jogar?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95640" y="2384280"/>
            <a:ext cx="676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99"/>
                </a:solidFill>
                <a:latin typeface="Times New Roman"/>
              </a:rPr>
              <a:t>Eu sabia das limitações do meu filho e que a maioria dos meninos não o queria na equipe. Mas entendi que se Pedro pudesse jogar com eles, isto lhe daria uma confortável sensação de participação. Aproximei-me de um dos meninos no  campo e perguntei-lhe se Pedro poderia jogar. O menino deu uma olhada ao redor, buscando a aprovação  de seus companheiros de equipe e  mesmo  não conseguindo nenhuma aprovação, ele assumiu a responsabilidade e disse: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27280" y="3141720"/>
            <a:ext cx="572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      </a:t>
            </a: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 </a:t>
            </a: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- Nós estamos perdendo por seis rodadas e o jogo está na oitava.  Acho que ele pode entrar na nossa equipe e tentaremos colocá-lo para bater até a nona rodada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59280" y="2565360"/>
            <a:ext cx="5146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Fiquei admirado quando Pedro abriu um grande sorriso ao ouvir a resposta do menino. Pediram então que ele calçasse a luva e fosse para o campo jogar. No final da oitava rodada, a equipe de Pedro marcou alguns pontos, mas ainda estava perdendo por três.</a:t>
            </a:r>
            <a:r>
              <a:rPr b="0" lang="pt-BR" sz="2400" spc="-1" strike="noStrike">
                <a:solidFill>
                  <a:srgbClr val="003399"/>
                </a:solidFill>
                <a:latin typeface="BernhardFashion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56000" y="2133720"/>
            <a:ext cx="597528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BernhardFashion BT"/>
                <a:ea typeface="Arial"/>
              </a:rPr>
              <a:t>   </a:t>
            </a: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No final da nona rodada, a  equipe de Pedro marcou novamente e agora com dois fora e as  bases com potencial para a rodada decisiva, Pedro foi escalado  para continuar. Uma questão, porém, veio à minha mente: a equipe  deixaria Pedro, de fato, rebater nesta circunstância e deitar fora à  possibilidade de ganhar o jogo?  Surpreendentemente, foi dado o  bastão a Pedro.</a:t>
            </a:r>
            <a:r>
              <a:rPr b="0" lang="pt-BR" sz="2400" spc="-1" strike="noStrike">
                <a:solidFill>
                  <a:srgbClr val="003399"/>
                </a:solidFill>
                <a:latin typeface="BernhardFashion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21:51:43Z</dcterms:created>
  <dc:creator>Salvador</dc:creator>
  <dc:description/>
  <dc:language>en-US</dc:language>
  <cp:lastModifiedBy>REGINA</cp:lastModifiedBy>
  <dcterms:modified xsi:type="dcterms:W3CDTF">2009-05-05T12:49:41Z</dcterms:modified>
  <cp:revision>41</cp:revision>
  <dc:subject/>
  <dc:title>Apresentação do PowerPoint</dc:title>
</cp:coreProperties>
</file>