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Enia%20from_where_i_am%201.21%20cut.wav" ContentType="audio/x-wav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3157-1DF0-4CEF-AE86-46302576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5766-9D87-49AB-A324-6E8A0C10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4E54-F4D6-43F3-B5B7-31C5D931E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6D71-2E27-455E-8B21-61E7A03F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624E-9F28-481B-A1E1-59934EF0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38A5-A70A-4652-BCFE-AA247D98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0237-B95B-4C1A-BE9C-40108816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9A93-07DA-404C-B265-221A1ED2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AFEC-DDD8-4C88-871F-30C85CE9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9AA1-1AB9-4B84-8390-B91C0180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519E-2C65-4AB4-9479-20BF08A6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FA40-0CE0-4CAC-BFF2-7197F2BC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bd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4AD1-0349-4451-A099-5FC6F5EB0CC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nia%20from_where_i_am%201.21%20cut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leticiathompson.com/" TargetMode="External"/><Relationship Id="rId2" Type="http://schemas.openxmlformats.org/officeDocument/2006/relationships/hyperlink" Target="http://www.leticiathompson.net/minhas_mensagens_em_pps.ht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bd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9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762120"/>
            <a:ext cx="708660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cccc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797900"/>
                  </a:outerShdw>
                </a:effectLst>
                <a:latin typeface="Book Antiqua"/>
              </a:rPr>
              <a:t>O dom de dar</a:t>
            </a:r>
            <a:endParaRPr b="1" i="1" lang="en-US" sz="80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cccc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797900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666880" y="4724280"/>
            <a:ext cx="403884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cccc00"/>
                    </a:gs>
                    <a:gs pos="50000">
                      <a:srgbClr val="000000"/>
                    </a:gs>
                    <a:gs pos="100000">
                      <a:srgbClr val="cc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797900"/>
                  </a:outerShdw>
                </a:effectLst>
                <a:latin typeface="Book Antiqua"/>
              </a:rPr>
              <a:t>Letícia Thompson</a:t>
            </a:r>
            <a:endParaRPr b="1" i="1" lang="en-US" sz="4000" spc="1" strike="noStrike">
              <a:ln w="0">
                <a:noFill/>
              </a:ln>
              <a:gradFill rotWithShape="0">
                <a:gsLst>
                  <a:gs pos="0">
                    <a:srgbClr val="cccc00"/>
                  </a:gs>
                  <a:gs pos="50000">
                    <a:srgbClr val="000000"/>
                  </a:gs>
                  <a:gs pos="100000">
                    <a:srgbClr val="cccc00"/>
                  </a:gs>
                </a:gsLst>
                <a:lin ang="5400000"/>
              </a:gradFill>
              <a:effectLst>
                <a:outerShdw dist="17819" dir="2700000" blurRad="0" rotWithShape="0">
                  <a:srgbClr val="797900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af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randomBar dir="vert"/>
    <p:sndAc>
      <p:stSnd>
        <p:snd r:embed="rId2" name="Enia%20from_where_i_am%201.21%20cu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5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bd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9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685800"/>
            <a:ext cx="7467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2bd98"/>
                </a:solidFill>
                <a:latin typeface="Copperplate Gothic Light"/>
              </a:rPr>
              <a:t>Quando você der alguma coisa, faça isso de coração, nunca porque você espera que amanhã vai receber algo em troca. Disso a vida se encarrega. Quando amar, ame intensamente; quando der uma esmola, faça e se esqueça; quando perdoar, perdoe. Os gestos que não são acompanhados por um sincero sentimento no coração são vazios e inúteis: Deus não os rece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ecea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7000">
    <p:randomBa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4600"/>
                            </p:stCondLst>
                            <p:childTnLst>
                              <p:par>
                                <p:cTn id="2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bd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9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609480"/>
            <a:ext cx="7848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2bd98"/>
                </a:solidFill>
                <a:latin typeface="Copperplate Gothic Light"/>
                <a:ea typeface="Arial"/>
              </a:rPr>
              <a:t>Os pequenos gestos, mas que são tudo o que você pode dar, acompanhados da alegria de ofertar, são recebidos com grandes festas pelos anjos. Ninguém compra felicidade, ninguém compra bênçãos; essas coisas são simples retornos dos nossos atos. Da mesma maneira como regamos as flores que enfeitam nosso jardim ou nossa casa, Deus rega nossas vidas quando enfeitamos a vida de algué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ece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5000">
    <p:randomBar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4300"/>
                            </p:stCondLst>
                            <p:childTnLst>
                              <p:par>
                                <p:cTn id="3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bd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7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609480"/>
            <a:ext cx="7467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2bd98"/>
                </a:solidFill>
                <a:latin typeface="Copperplate Gothic Light"/>
                <a:ea typeface="Arial"/>
              </a:rPr>
              <a:t>Bens materiais a gente gasta e deixam de existir. O bem que fazemos pra alma dura eternamente. Quando investimos na felicidade dos outros, sem saber estamos investindo na nossa própria felicidade. A bondade é uma dádiva que todos recebem. Só que uns descobrem e outros não; uns utilizam e outros não. Isso faz uma grande diferença entre as pesso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2f1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4000">
    <p:randomBar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3100"/>
                            </p:stCondLst>
                            <p:childTnLst>
                              <p:par>
                                <p:cTn id="5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bd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907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914400"/>
            <a:ext cx="655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2bd98"/>
                </a:solidFill>
                <a:latin typeface="Copperplate Gothic Light"/>
                <a:ea typeface="Arial"/>
              </a:rPr>
              <a:t>Se você acha que é pobre demais para oferecer algo ao próximo é porque ainda não percebeu que tempo é realmente dinheiro, a riqueza que é seu sorriso, o valor que tem sua oração e o calor que pode emanar do seu corpo num abraço amigo e sinc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efee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8000">
    <p:randomBar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8300"/>
                            </p:stCondLst>
                            <p:childTnLst>
                              <p:par>
                                <p:cTn id="6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cc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9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38088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00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00"/>
                </a:solidFill>
                <a:latin typeface="Times New Roman"/>
              </a:rPr>
              <a:t>Enia - From Where I 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167652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89548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cccc00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firstslide"/>
          </p:cNvPr>
          <p:cNvSpPr/>
          <p:nvPr/>
        </p:nvSpPr>
        <p:spPr>
          <a:xfrm>
            <a:off x="762120" y="4876920"/>
            <a:ext cx="182880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"/>
          </p:cNvPr>
          <p:cNvSpPr/>
          <p:nvPr/>
        </p:nvSpPr>
        <p:spPr>
          <a:xfrm>
            <a:off x="3429000" y="4724280"/>
            <a:ext cx="2133720" cy="9907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cc00"/>
                </a:solidFill>
                <a:latin typeface="Times New Roman"/>
              </a:rPr>
              <a:t>Visite o S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Letícia Thomp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endshow"/>
          </p:cNvPr>
          <p:cNvSpPr/>
          <p:nvPr/>
        </p:nvSpPr>
        <p:spPr>
          <a:xfrm>
            <a:off x="6324480" y="4876920"/>
            <a:ext cx="190512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Times New Roman"/>
              </a:rPr>
              <a:t>S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2e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300"/>
                            </p:stCondLst>
                            <p:childTnLst>
                              <p:par>
                                <p:cTn id="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800"/>
                            </p:stCondLst>
                            <p:childTnLst>
                              <p:par>
                                <p:cTn id="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130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1800"/>
                            </p:stCondLst>
                            <p:childTnLst>
                              <p:par>
                                <p:cTn id="9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03:43:30Z</dcterms:created>
  <dc:creator>ssoliver@terra.com.br </dc:creator>
  <dc:description>Texto: Letícia Thompson</dc:description>
  <dc:language>en-US</dc:language>
  <cp:lastModifiedBy>Leticia Thompson</cp:lastModifiedBy>
  <dcterms:modified xsi:type="dcterms:W3CDTF">2004-10-28T18:37:29Z</dcterms:modified>
  <cp:revision>3</cp:revision>
  <dc:subject>PPS</dc:subject>
  <dc:title>O dom de dar</dc:title>
</cp:coreProperties>
</file>