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nia%20from_where_i_am%201.21%20cut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B0A-2CE3-4440-9FF2-F4F1793D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EBE-247E-4708-9051-40E73A52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E4C-5E6B-41FC-8802-6D68ECE6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4EB-E107-4F3B-A88B-AE158667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453-1540-4327-BEBE-D724CD80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B4A-CD14-400A-B61C-92B197B6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3A9-5DBD-47CC-8588-8455640A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DD9-DDB6-4D03-9695-B55FB571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CCF-88E2-4A11-8426-05085703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DA9-82F5-4F25-9E08-83769DFC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600-BB70-47F5-8EB6-4AD572F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AD6-B7BA-4C9C-85A0-1DCEEDC5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AF9D-4F7A-4CDF-879C-14FA00CAC3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ia%20from_where_i_am%201.21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762120"/>
            <a:ext cx="70866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cccc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797900"/>
                  </a:outerShdw>
                </a:effectLst>
                <a:latin typeface="Book Antiqua"/>
              </a:rPr>
              <a:t>O dom de dar</a:t>
            </a: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cccc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7979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66880" y="4724280"/>
            <a:ext cx="40388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000000"/>
                    </a:gs>
                    <a:gs pos="100000">
                      <a:srgbClr val="cc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7979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000000"/>
                  </a:gs>
                  <a:gs pos="100000">
                    <a:srgbClr val="cccc00"/>
                  </a:gs>
                </a:gsLst>
                <a:lin ang="5400000"/>
              </a:gradFill>
              <a:effectLst>
                <a:outerShdw dist="17819" dir="2700000" blurRad="0" rotWithShape="0">
                  <a:srgbClr val="7979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a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Enia%20from_where_i_am%201.21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8580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bd98"/>
                </a:solidFill>
                <a:latin typeface="Copperplate Gothic Light"/>
              </a:rPr>
              <a:t>Quando você der alguma coisa, faça isso de coração, nunca porque você espera que amanhã vai receber algo em troca. Disso a vida se encarrega. Quando amar, ame intensamente; quando der uma esmola, faça e se esqueça; quando perdoar, perdoe. Os gestos que não são acompanhados por um sincero sentimento no coração são vazios e inúteis: Deus não os rece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cea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46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48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bd98"/>
                </a:solidFill>
                <a:latin typeface="Copperplate Gothic Light"/>
                <a:ea typeface="Arial"/>
              </a:rPr>
              <a:t>Os pequenos gestos, mas que são tudo o que você pode dar, acompanhados da alegria de ofertar, são recebidos com grandes festas pelos anjos. Ninguém compra felicidade, ninguém compra bênçãos; essas coisas são simples retornos dos nossos atos. Da mesma maneira como regamos as flores que enfeitam nosso jardim ou nossa casa, Deus rega nossas vidas quando enfeitamos a vida de algué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ce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43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0948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bd98"/>
                </a:solidFill>
                <a:latin typeface="Copperplate Gothic Light"/>
                <a:ea typeface="Arial"/>
              </a:rPr>
              <a:t>Bens materiais a gente gasta e deixam de existir. O bem que fazemos pra alma dura eternamente. Quando investimos na felicidade dos outros, sem saber estamos investindo na nossa própria felicidade. A bondade é uma dádiva que todos recebem. Só que uns descobrem e outros não; uns utilizam e outros não. Isso faz uma grande diferença entre as pesso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2f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4000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31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0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914400"/>
            <a:ext cx="65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bd98"/>
                </a:solidFill>
                <a:latin typeface="Copperplate Gothic Light"/>
                <a:ea typeface="Arial"/>
              </a:rPr>
              <a:t>Se você acha que é pobre demais para oferecer algo ao próximo é porque ainda não percebeu que tempo é realmente dinheiro, a riqueza que é seu sorriso, o valor que tem sua oração e o calor que pode emanar do seu corpo num abraço amigo e sin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fee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83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8088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Enia - From Where I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16765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8954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2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8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3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800"/>
                            </p:stCondLst>
                            <p:childTnLst>
                              <p:par>
                                <p:cTn id="9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3:43:30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8:37:29Z</dcterms:modified>
  <cp:revision>3</cp:revision>
  <dc:subject>PPS</dc:subject>
  <dc:title>O dom de dar</dc:title>
</cp:coreProperties>
</file>