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pachelbel%20-%20Cannon-%20zk.wav" ContentType="audio/x-wav"/>
  <Override PartName="/ppt/media/image2.jpeg" ContentType="image/jpeg"/>
  <Override PartName="/ppt/media/risada-4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59F-467B-4A6B-8A26-EE6E60B0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C19-D8C3-4F4F-8A75-0B280D6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BC4-4567-4BFA-9EB9-F0210A0A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07D-E1EA-4EEF-9DBA-E0A854A8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F001E-2317-4076-A107-90A78D5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CAEA-DE27-4398-9A74-56B0A7D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BD98D-E9C0-4F25-8F21-482D7C1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391CF-D442-4704-A4A2-6D181D0E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70275-589F-4F2C-9CC4-415E751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B8E6-0FF8-411F-A736-64EA0F82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24074-00AA-4CD1-8B7D-5038593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0CD-F8BD-4CB9-B431-40FD5FEA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5D268-0510-4F23-B3D0-8FC0796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4452-D8C6-42AD-9E94-DB6A3604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2112-6AA8-464F-B8A9-BC8540C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90DE6-3D18-42C6-AA15-4D929E83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67A59-E289-4727-9585-B1E7D672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73E-3B07-4D24-BD90-5C143B7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A6-B4B8-4C2F-904F-15F979D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F33-178F-4722-AEFF-7B44C8A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DC5-6938-4FF1-9AE2-05F8B23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EB5-A260-4EDE-9F1D-58ACFEA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9D7-AC1B-42F5-9F58-A590A43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D0A-73BB-4DBF-A476-14A4884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5E96-1899-46F1-A32F-B0B2E6979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DC6-6CAD-405D-8F81-09216EE2F4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achelbel%20-%20Cannon-%20zk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risada-4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O Mon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NIGMA DE 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eríd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1142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20 anos depois,  Tó era finalmente um  verdadeiro membro da  ordem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a  celebração acabou, ele  rapidamente dirigiu-se ao  líder da ordem, e perguntou pelo som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lenciosamente,  o velho monge conduz o Tó a  uma enorme porta  de madeira 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briu a porta  com uma chave de ouro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781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a  porta conduziu a  uma 2ª porta, esta de prata; depois uma 3ª de ouro; e depois a 4ª, de brilhantes; a 5ª de pérolas; a 6ª de diamantes; a 7ª de safir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8ª de esmeraldas; a 9ª de rubis; a 10ª, novamente de ouro;a 11ª, novamente de prata;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é que chegou à  12ª porta, esta de madeira  norm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ó  encheu-se de lágrimas de  alegria assim que viu a origem de tal lindo e misterioso som que ele ouvira tantas vezes durante anos..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nca tinha  sentido uma coisa assim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uma sensação  indescritível..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3068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ante toda a  vida dele tinha esperado  por aquele  momento..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 , enfim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386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posso dizer o que era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carro do Tó  pifou enquanto ele passava por um lindo mosteir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 bateu à  porta do mosteir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monge atendeu-o, o Tó contou o que se tinha passado com o carro, e o monge convida-o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passar a noite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Ê TAMBÉM NÃO  É MONGE !!!..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2845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ma!!!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ha a boca suja!!!...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ou que eu não  ia querer te pegar nessa também?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lama não!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gue outros..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s monges ofereceram-lhe um ótimo  jantar e depois encaminharam-no para um pequeno quarto, onde ele iria dormir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  agradeceu e dormiu  serenamente até ser  acordado  por um estranho mas bonito som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 manhã  seguinte, enquanto os monges lhe reparavam o carro,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Tó perguntou que som era aquele que o tinha acordado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Lamentamos",  disse o monge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  "Não lhe podemos  dizer o porquê do som. 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ocê não é  monge."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Tó ficou  desapontado, agradeceu aos  monges e foi embora bastante curioso. 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ns anos mais  tarde, o tó passava  novamente em frente ao mosteir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ou e foi  pedir aos monges se podia  passar ali a noite, já  que tinha sido tão bem tratado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 última vez que lá estivera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monges  concordaram e ele lá ficou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madrugada,  ele ouve de novo o tal som  estranho e lindo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manhã  seguinte, pediu aos monges  para lhe explicarem o som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os monges  deram-lhe a resposta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"Lamentamos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ão lhe podemos  falar acerca do som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ê não é  monge"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a  curiosidade transformou-se  em obsessão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 decidiu  desistir de tudo e  tornar-se monge, porque  era a única maneira de desvendar aquele mistério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ele  informa os monges da sua  decisão e começou a longa  e difícil tarefa de se tornar monge. 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20:18:57Z</dcterms:created>
  <dc:creator/>
  <dc:description/>
  <dc:language>en-US</dc:language>
  <cp:lastModifiedBy/>
  <dcterms:modified xsi:type="dcterms:W3CDTF">2007-06-08T18:43:26Z</dcterms:modified>
  <cp:revision>4</cp:revision>
  <dc:subject/>
  <dc:title>O Monge</dc:title>
</cp:coreProperties>
</file>