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pachelbel%20-%20Cannon-%20zk.wav" ContentType="audio/x-wav"/>
  <Override PartName="/ppt/media/image2.jpeg" ContentType="image/jpeg"/>
  <Override PartName="/ppt/media/risada-4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F2C-8B26-480D-8101-04891513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1BF-3D51-4A7F-AC65-0EDB1D48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AFA-1FE6-44A8-BAD3-259E1F33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3A8-70B7-432C-82E4-B5718A55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BA0AD-01EA-4A07-860E-66BA520F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7AADD-AF04-416E-AEFD-140BF024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FEE90-2654-470A-BD58-22FF4714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F4C72-CC2A-4CEE-9F3E-2F9B742A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D97D7-EA3C-4A5A-AB8A-6058161B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A3A0D-503A-442A-8697-F80A77BF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00CD4-43A7-44F6-8B26-63035D3A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ED7-C544-4654-8D85-03CEDE13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3CF64-91C8-4C80-B604-EE23CA11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B1EAB-9D84-468B-85BC-E85549B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DDF23-C44C-4033-8C7E-F97E3141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EF174-A28A-4758-AE9E-47CB80B9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FC1B2-CE49-4B52-B526-20CCCBCA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DA1-B22D-4B62-978E-9128D339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F9A-0F23-492E-BFB6-4F42EE0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96B-B437-4B57-96E2-6E09928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1B2-DF90-4C05-AB90-5BE9F32F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548-AC6D-4B4E-BC3B-28F9B12E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3AD-95C0-49CA-8F79-87EBEBC6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B77-BD37-4120-97FF-93B562FD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5A55-8280-4734-A7AA-2D9163D5BF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EEDC-7187-4E65-AA67-1764712331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achelbel%20-%20Cannon-%20zk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risada-4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O Mong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58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NIGMA DE 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eríd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1142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20 anos depois,  Tó era finalmente um  verdadeiro membro da  ordem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o a  celebração acabou, ele  rapidamente dirigiu-se ao  líder da ordem, e perguntou pelo som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lenciosamente,  o velho monge conduz o Tó a  uma enorme porta  de madeira 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briu a porta  com uma chave de ouro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781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a  porta conduziu a  uma 2ª porta, esta de prata; depois uma 3ª de ouro; e depois a 4ª, de brilhantes; a 5ª de pérolas; a 6ª de diamantes; a 7ª de safir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8ª de esmeraldas; a 9ª de rubis; a 10ª, novamente de ouro;a 11ª, novamente de prata;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é que chegou à  12ª porta, esta de madeira  nor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ó  encheu-se de lágrimas de  alegria assim que viu a origem de tal lindo e misterioso som que ele ouvira tantas vezes durante anos..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nca tinha  sentido uma coisa assim..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a uma sensação  indescritível..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3068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ante toda a  vida dele tinha esperado  por aquele  momento..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 , enfim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3860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posso dizer o que era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carro do Tó  pifou enquanto ele passava por um lindo mosteiro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Tó bateu à  porta do mosteiro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m monge atendeu-o, o Tó contou o que se tinha passado com o carro, e o monge convida-o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passar a noite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Ê TAMBÉM NÃO  É MONGE !!!..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2845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ma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ha a boca suja!!!...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ou que eu não  ia querer te pegar nessa também?..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lama não!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gue outros..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s monges ofereceram-lhe um ótimo  jantar e depois encaminharam-no para um pequeno quarto, onde ele iria dormir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Tó  agradeceu e dormiu  serenamente até ser  acordado  por um estranho mas bonito som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 manhã  seguinte, enquanto os monges lhe reparavam o carro,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Tó perguntou que som era aquele que o tinha acordado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Lamentamos",  disse o monge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  "Não lhe podemos  dizer o porquê do som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ocê não é  monge."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Tó ficou  desapontado, agradeceu aos  monges e foi embora bastante curioso. 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uns anos mais  tarde, o tó passava  novamente em frente ao mosteiro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ou e foi  pedir aos monges se podia  passar ali a noite, já  que tinha sido tão bem tratado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 última vez que lá estivera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monges  concordaram e ele lá ficou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madrugada,  ele ouve de novo o tal som  estranho e lindo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manhã  seguinte, pediu aos monges  para lhe explicarem o som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 os monges  deram-lhe a resposta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"Lamentamos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lhe podemos  falar acerca do som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ê não é  monge"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ão a  curiosidade transformou-se  em obsessão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 decidiu  desistir de tudo e  tornar-se monge, porque  era a única maneira de desvendar aquele mistério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ão ele  informa os monges da sua  decisão e começou a longa  e difícil tarefa de se tornar monge. 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20:18:57Z</dcterms:created>
  <dc:creator/>
  <dc:description/>
  <dc:language>en-US</dc:language>
  <cp:lastModifiedBy/>
  <dcterms:modified xsi:type="dcterms:W3CDTF">2007-06-08T18:43:26Z</dcterms:modified>
  <cp:revision>4</cp:revision>
  <dc:subject/>
  <dc:title>O Monge</dc:title>
</cp:coreProperties>
</file>