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erereca%20de%20bigode.wav" ContentType="audio/x-wav"/>
  <Override PartName="/ppt/media/image3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51B4-906B-41A4-87FA-4834E786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535F-3E67-4CAB-84ED-F103F649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213-C137-4A8B-82CB-5049BDAC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D44-84BE-448D-ACDB-D3BF183E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FC8-6FAC-4728-80EE-E18FB7A5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96E-10ED-4BFF-BB8D-907CC06B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17E-033E-4FCE-8D43-5776EED1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C5D-8A37-48C0-936D-43850DD8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09D9-C90F-4E40-ABE9-0F3A86F0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DDC-71F5-48EB-AB64-86C46492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749-8E2F-41B1-96DE-5FDD6416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D2B-B39A-460F-BF00-22AA320D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4CC9-71FD-4FE7-96C6-7241BB8B8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erereca%20de%20bigod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684360" y="1055520"/>
            <a:ext cx="7775280" cy="474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ocê sabe qual será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 sucesso do carnav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  2010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6159600" y="6469200"/>
            <a:ext cx="29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Arial"/>
              </a:rPr>
              <a:t>Deixe rolar automátic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08000" y="260280"/>
            <a:ext cx="50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stão maquiando a Di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Pra enganar o pov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O Lula gritou Eu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Quem comeu Sa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ngole Pere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01"/>
          <p:cNvPicPr/>
          <p:nvPr/>
        </p:nvPicPr>
        <p:blipFill>
          <a:blip r:embed="rId1"/>
          <a:stretch/>
        </p:blipFill>
        <p:spPr>
          <a:xfrm>
            <a:off x="5940360" y="2133720"/>
            <a:ext cx="3175200" cy="4751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02"/>
          <p:cNvPicPr/>
          <p:nvPr/>
        </p:nvPicPr>
        <p:blipFill>
          <a:blip r:embed="rId2"/>
          <a:stretch/>
        </p:blipFill>
        <p:spPr>
          <a:xfrm>
            <a:off x="5587920" y="1854360"/>
            <a:ext cx="3556080" cy="500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03"/>
          <p:cNvPicPr/>
          <p:nvPr/>
        </p:nvPicPr>
        <p:blipFill>
          <a:blip r:embed="rId3"/>
          <a:stretch/>
        </p:blipFill>
        <p:spPr>
          <a:xfrm>
            <a:off x="4067280" y="1989000"/>
            <a:ext cx="5076720" cy="48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3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3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08000" y="260280"/>
            <a:ext cx="50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stão maquiando a Di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Pra enganar o pov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O Lula gritou Eu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Quem comeu Sa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ngole Pere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04"/>
          <p:cNvPicPr/>
          <p:nvPr/>
        </p:nvPicPr>
        <p:blipFill>
          <a:blip r:embed="rId1"/>
          <a:stretch/>
        </p:blipFill>
        <p:spPr>
          <a:xfrm>
            <a:off x="5394240" y="1314360"/>
            <a:ext cx="3749760" cy="554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07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5191200" y="1341360"/>
            <a:ext cx="395280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08000" y="260280"/>
            <a:ext cx="50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stão maquiando a Di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Pra enganar o pov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O Lula gritou Eu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Quem comeu Sa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ngole Pere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06"/>
          <p:cNvPicPr/>
          <p:nvPr/>
        </p:nvPicPr>
        <p:blipFill>
          <a:blip r:embed="rId1"/>
          <a:stretch/>
        </p:blipFill>
        <p:spPr>
          <a:xfrm>
            <a:off x="4919760" y="3656160"/>
            <a:ext cx="4066920" cy="270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05"/>
          <p:cNvPicPr/>
          <p:nvPr/>
        </p:nvPicPr>
        <p:blipFill>
          <a:blip r:embed="rId2"/>
          <a:stretch/>
        </p:blipFill>
        <p:spPr>
          <a:xfrm>
            <a:off x="4919760" y="714240"/>
            <a:ext cx="406692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08000" y="260280"/>
            <a:ext cx="50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stão maquiando a Di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Pra enganar o pov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O Lula gritou Eu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Quem comeu Sa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ngole Pere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08000" y="3094200"/>
            <a:ext cx="50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u acho que vai dar b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Dilma não tem ba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Mas pode ter bigo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09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5672160" y="3492360"/>
            <a:ext cx="3286080" cy="315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08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5668920" y="200160"/>
            <a:ext cx="328932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8000" y="260280"/>
            <a:ext cx="50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stão maquiando a Di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Pra enganar o pov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O Lula gritou Eu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Quem comeu Sa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ngole Pere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08000" y="3094200"/>
            <a:ext cx="50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u acho que vai dar b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Dilma não tem ba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Mas pode ter bigo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08000" y="4954680"/>
            <a:ext cx="50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ureca! Eu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Quem comeu sa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ngole Pere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0"/>
          <p:cNvPicPr/>
          <p:nvPr/>
        </p:nvPicPr>
        <p:blipFill>
          <a:blip r:embed="rId1"/>
          <a:stretch/>
        </p:blipFill>
        <p:spPr>
          <a:xfrm>
            <a:off x="5605560" y="122400"/>
            <a:ext cx="3421080" cy="3281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11"/>
          <p:cNvPicPr/>
          <p:nvPr/>
        </p:nvPicPr>
        <p:blipFill>
          <a:blip r:embed="rId2"/>
          <a:stretch/>
        </p:blipFill>
        <p:spPr>
          <a:xfrm>
            <a:off x="5605560" y="3622680"/>
            <a:ext cx="342108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11"/>
          <p:cNvPicPr/>
          <p:nvPr/>
        </p:nvPicPr>
        <p:blipFill>
          <a:blip r:embed="rId1"/>
          <a:stretch/>
        </p:blipFill>
        <p:spPr>
          <a:xfrm>
            <a:off x="5605560" y="3622680"/>
            <a:ext cx="3421080" cy="3143160"/>
          </a:xfrm>
          <a:prstGeom prst="rect">
            <a:avLst/>
          </a:prstGeom>
          <a:ln w="0">
            <a:noFill/>
          </a:ln>
        </p:spPr>
      </p:pic>
      <p:sp>
        <p:nvSpPr>
          <p:cNvPr id="63" name="WordArt 7"/>
          <p:cNvSpPr txBox="1"/>
          <p:nvPr/>
        </p:nvSpPr>
        <p:spPr>
          <a:xfrm>
            <a:off x="2616120" y="1482840"/>
            <a:ext cx="391176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 I 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63400" y="59770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Arial"/>
              </a:rPr>
              <a:t>Música &amp; Letra: Joka Pavaro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4:04:17Z</dcterms:created>
  <dc:creator/>
  <dc:description/>
  <dc:language>en-US</dc:language>
  <cp:lastModifiedBy/>
  <dcterms:modified xsi:type="dcterms:W3CDTF">2009-04-21T00:52:07Z</dcterms:modified>
  <cp:revision>45</cp:revision>
  <dc:subject/>
  <dc:title>Slide 1</dc:title>
</cp:coreProperties>
</file>