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erereca%20de%20bigode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58F-1D87-4841-AFA0-64107EF9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260-F368-4B19-8A86-5244D99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556-9EF0-483D-A82E-48456D7D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E14-4B53-480F-99F2-A99260F3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A7F-51DC-497C-A8DB-1A9C7C45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C14-1720-4A43-8E54-8E30376B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C02-7EB1-4B1D-BC31-220323B0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D53-8CFD-42A8-A69C-CC49BF1A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6BE-EB18-4B40-BEBA-B6455681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691-4B97-44DD-8559-DDB5AE5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0E5-2777-4C10-BC37-F58CDEE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267-1341-4F74-BC26-F975AB4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20C-D9E5-413F-8403-D458BB224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erereca%20de%20big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4360" y="1055520"/>
            <a:ext cx="7775280" cy="474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ocê sabe qual será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 sucesso do carnav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 2010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159600" y="6469200"/>
            <a:ext cx="29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Deixe rolar automátic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01"/>
          <p:cNvPicPr/>
          <p:nvPr/>
        </p:nvPicPr>
        <p:blipFill>
          <a:blip r:embed="rId1"/>
          <a:stretch/>
        </p:blipFill>
        <p:spPr>
          <a:xfrm>
            <a:off x="5940360" y="2133720"/>
            <a:ext cx="3175200" cy="475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02"/>
          <p:cNvPicPr/>
          <p:nvPr/>
        </p:nvPicPr>
        <p:blipFill>
          <a:blip r:embed="rId2"/>
          <a:stretch/>
        </p:blipFill>
        <p:spPr>
          <a:xfrm>
            <a:off x="5587920" y="1854360"/>
            <a:ext cx="3556080" cy="500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03"/>
          <p:cNvPicPr/>
          <p:nvPr/>
        </p:nvPicPr>
        <p:blipFill>
          <a:blip r:embed="rId3"/>
          <a:stretch/>
        </p:blipFill>
        <p:spPr>
          <a:xfrm>
            <a:off x="4067280" y="1989000"/>
            <a:ext cx="507672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04"/>
          <p:cNvPicPr/>
          <p:nvPr/>
        </p:nvPicPr>
        <p:blipFill>
          <a:blip r:embed="rId1"/>
          <a:stretch/>
        </p:blipFill>
        <p:spPr>
          <a:xfrm>
            <a:off x="5394240" y="1314360"/>
            <a:ext cx="3749760" cy="554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07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5191200" y="1341360"/>
            <a:ext cx="39528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6"/>
          <p:cNvPicPr/>
          <p:nvPr/>
        </p:nvPicPr>
        <p:blipFill>
          <a:blip r:embed="rId1"/>
          <a:stretch/>
        </p:blipFill>
        <p:spPr>
          <a:xfrm>
            <a:off x="4919760" y="3656160"/>
            <a:ext cx="4066920" cy="270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05"/>
          <p:cNvPicPr/>
          <p:nvPr/>
        </p:nvPicPr>
        <p:blipFill>
          <a:blip r:embed="rId2"/>
          <a:stretch/>
        </p:blipFill>
        <p:spPr>
          <a:xfrm>
            <a:off x="4919760" y="714240"/>
            <a:ext cx="406692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08000" y="309420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 acho que vai dar 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Dilma não tem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Mas pode ter big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09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672160" y="3492360"/>
            <a:ext cx="3286080" cy="315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08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68920" y="200160"/>
            <a:ext cx="32893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8000" y="260280"/>
            <a:ext cx="50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stão maquiando a Di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Pra enganar o pov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O Lula gritou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8000" y="309420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 acho que vai dar 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Dilma não tem b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Mas pode ter big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08000" y="495468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ureca! Eu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Quem comeu sa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Comic Sans MS"/>
              </a:rPr>
              <a:t>Engole Pererec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"/>
          <p:cNvPicPr/>
          <p:nvPr/>
        </p:nvPicPr>
        <p:blipFill>
          <a:blip r:embed="rId1"/>
          <a:stretch/>
        </p:blipFill>
        <p:spPr>
          <a:xfrm>
            <a:off x="5605560" y="122400"/>
            <a:ext cx="3421080" cy="3281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1"/>
          <p:cNvPicPr/>
          <p:nvPr/>
        </p:nvPicPr>
        <p:blipFill>
          <a:blip r:embed="rId2"/>
          <a:stretch/>
        </p:blipFill>
        <p:spPr>
          <a:xfrm>
            <a:off x="5605560" y="3622680"/>
            <a:ext cx="34210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11"/>
          <p:cNvPicPr/>
          <p:nvPr/>
        </p:nvPicPr>
        <p:blipFill>
          <a:blip r:embed="rId1"/>
          <a:stretch/>
        </p:blipFill>
        <p:spPr>
          <a:xfrm>
            <a:off x="5605560" y="3622680"/>
            <a:ext cx="342108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2616120" y="1482840"/>
            <a:ext cx="39117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 I 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63400" y="59770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rial"/>
              </a:rPr>
              <a:t>Música &amp; Letra: Joka Pavaro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4:04:17Z</dcterms:created>
  <dc:creator/>
  <dc:description/>
  <dc:language>en-US</dc:language>
  <cp:lastModifiedBy/>
  <dcterms:modified xsi:type="dcterms:W3CDTF">2009-04-21T00:52:07Z</dcterms:modified>
  <cp:revision>45</cp:revision>
  <dc:subject/>
  <dc:title>Slide 1</dc:title>
</cp:coreProperties>
</file>