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195-9B07-4760-8707-4994C5CE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E54-15EC-4779-A14F-B3599B0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597-E593-4D02-894A-D8AD6B16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AB9-3FF0-414B-845E-F0B22F5C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8EB-0D35-4AD5-A316-77496D3A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293-8437-486A-9541-66E25CF1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7AF-BD4F-4857-8CAC-C542D5F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83C-E6F4-4334-99F8-28B81D3B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EE6-1DF5-4B14-96C4-82E58911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E46-ADB8-4DA2-B2CB-A1569AB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6BC-9004-4042-A7A9-0ABC6D5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8FE-A313-4674-99C6-1B5742C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ED5B-CF26-4017-A24C-1E97F31D6D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fbcdn-sphotos-e-a.akamaihd.net/hphotos-ak-prn2/1482981_746778668670520_589827939_n.jpg"/>
          <p:cNvPicPr/>
          <p:nvPr/>
        </p:nvPicPr>
        <p:blipFill>
          <a:blip r:embed="rId1"/>
          <a:stretch/>
        </p:blipFill>
        <p:spPr>
          <a:xfrm>
            <a:off x="1692360" y="981000"/>
            <a:ext cx="5724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fbcdn-sphotos-f-a.akamaihd.net/hphotos-ak-ash3/1479126_743188765696177_890941108_n.jpg"/>
          <p:cNvPicPr/>
          <p:nvPr/>
        </p:nvPicPr>
        <p:blipFill>
          <a:blip r:embed="rId1"/>
          <a:stretch/>
        </p:blipFill>
        <p:spPr>
          <a:xfrm>
            <a:off x="826920" y="620640"/>
            <a:ext cx="7420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fbcdn-sphotos-b-a.akamaihd.net/hphotos-ak-ash4/1474549_740116999336687_663859270_n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fbcdn-sphotos-e-a.akamaihd.net/hphotos-ak-ash3/1453427_739855039362883_904621386_n.png"/>
          <p:cNvPicPr/>
          <p:nvPr/>
        </p:nvPicPr>
        <p:blipFill>
          <a:blip r:embed="rId1"/>
          <a:stretch/>
        </p:blipFill>
        <p:spPr>
          <a:xfrm>
            <a:off x="2916360" y="1125360"/>
            <a:ext cx="37432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fbcdn-sphotos-c-a.akamaihd.net/hphotos-ak-ash3/1471972_739854619362925_1960449980_n.jpg"/>
          <p:cNvPicPr/>
          <p:nvPr/>
        </p:nvPicPr>
        <p:blipFill>
          <a:blip r:embed="rId1"/>
          <a:stretch/>
        </p:blipFill>
        <p:spPr>
          <a:xfrm>
            <a:off x="1042920" y="1413000"/>
            <a:ext cx="6667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fbcdn-sphotos-d-a.akamaihd.net/hphotos-ak-ash4/1459302_739592626055791_516900391_n.jpg"/>
          <p:cNvPicPr/>
          <p:nvPr/>
        </p:nvPicPr>
        <p:blipFill>
          <a:blip r:embed="rId1"/>
          <a:stretch/>
        </p:blipFill>
        <p:spPr>
          <a:xfrm>
            <a:off x="0" y="-723960"/>
            <a:ext cx="9144000" cy="75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fbcdn-sphotos-f-a.akamaihd.net/hphotos-ak-ash3/1003549_739586586056395_1088128558_n.jpg"/>
          <p:cNvPicPr/>
          <p:nvPr/>
        </p:nvPicPr>
        <p:blipFill>
          <a:blip r:embed="rId1"/>
          <a:stretch/>
        </p:blipFill>
        <p:spPr>
          <a:xfrm>
            <a:off x="1476360" y="549360"/>
            <a:ext cx="6486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fbcdn-sphotos-h-a.akamaihd.net/hphotos-ak-frc3/1424328_739283449420042_1975363665_n.jpg"/>
          <p:cNvPicPr/>
          <p:nvPr/>
        </p:nvPicPr>
        <p:blipFill>
          <a:blip r:embed="rId1"/>
          <a:stretch/>
        </p:blipFill>
        <p:spPr>
          <a:xfrm>
            <a:off x="2195640" y="1052640"/>
            <a:ext cx="424800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s://fbcdn-sphotos-c-a.akamaihd.net/hphotos-ak-ash3/1457575_739033882778332_586472282_n.jpg"/>
          <p:cNvPicPr/>
          <p:nvPr/>
        </p:nvPicPr>
        <p:blipFill>
          <a:blip r:embed="rId1"/>
          <a:stretch/>
        </p:blipFill>
        <p:spPr>
          <a:xfrm>
            <a:off x="1619280" y="1268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fbcdn-sphotos-e-a.akamaihd.net/hphotos-ak-ash3/1457638_739028706112183_1111708757_n.jpg"/>
          <p:cNvPicPr/>
          <p:nvPr/>
        </p:nvPicPr>
        <p:blipFill>
          <a:blip r:embed="rId1"/>
          <a:stretch/>
        </p:blipFill>
        <p:spPr>
          <a:xfrm>
            <a:off x="611280" y="836640"/>
            <a:ext cx="7648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fbcdn-sphotos-g-a.akamaihd.net/hphotos-ak-ash3/1456577_738918382789882_820695681_n.png"/>
          <p:cNvPicPr/>
          <p:nvPr/>
        </p:nvPicPr>
        <p:blipFill>
          <a:blip r:embed="rId1"/>
          <a:stretch/>
        </p:blipFill>
        <p:spPr>
          <a:xfrm>
            <a:off x="826920" y="1268280"/>
            <a:ext cx="7143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fbcdn-sphotos-a-a.akamaihd.net/hphotos-ak-prn2/1480732_473162082796065_1363138563_n.jpg"/>
          <p:cNvPicPr/>
          <p:nvPr/>
        </p:nvPicPr>
        <p:blipFill>
          <a:blip r:embed="rId1"/>
          <a:stretch/>
        </p:blipFill>
        <p:spPr>
          <a:xfrm>
            <a:off x="1116000" y="765000"/>
            <a:ext cx="68580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fbcdn-sphotos-b-a.akamaihd.net/hphotos-ak-prn2/1394128_738762469472140_604421576_n.jpg"/>
          <p:cNvPicPr/>
          <p:nvPr/>
        </p:nvPicPr>
        <p:blipFill>
          <a:blip r:embed="rId1"/>
          <a:stretch/>
        </p:blipFill>
        <p:spPr>
          <a:xfrm>
            <a:off x="1619280" y="260280"/>
            <a:ext cx="58323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fbcdn-sphotos-b-a.akamaihd.net/hphotos-ak-ash4/1456757_738168519531535_1246015963_n.jpg"/>
          <p:cNvPicPr/>
          <p:nvPr/>
        </p:nvPicPr>
        <p:blipFill>
          <a:blip r:embed="rId1"/>
          <a:stretch/>
        </p:blipFill>
        <p:spPr>
          <a:xfrm>
            <a:off x="1042920" y="417600"/>
            <a:ext cx="71643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fbcdn-sphotos-d-a.akamaihd.net/hphotos-ak-frc1/1012479_737014126313641_943594182_n.jpg"/>
          <p:cNvPicPr/>
          <p:nvPr/>
        </p:nvPicPr>
        <p:blipFill>
          <a:blip r:embed="rId1"/>
          <a:stretch/>
        </p:blipFill>
        <p:spPr>
          <a:xfrm>
            <a:off x="1547640" y="2602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fbcdn-sphotos-a-a.akamaihd.net/hphotos-ak-frc3/1426748_736569953024725_1383288750_n.jpg"/>
          <p:cNvPicPr/>
          <p:nvPr/>
        </p:nvPicPr>
        <p:blipFill>
          <a:blip r:embed="rId1"/>
          <a:stretch/>
        </p:blipFill>
        <p:spPr>
          <a:xfrm>
            <a:off x="1547640" y="333360"/>
            <a:ext cx="63072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fbcdn-sphotos-d-a.akamaihd.net/hphotos-ak-prn2/1450793_735099519838435_1631551500_n.jpg"/>
          <p:cNvPicPr/>
          <p:nvPr/>
        </p:nvPicPr>
        <p:blipFill>
          <a:blip r:embed="rId1"/>
          <a:stretch/>
        </p:blipFill>
        <p:spPr>
          <a:xfrm>
            <a:off x="1116000" y="1052640"/>
            <a:ext cx="7194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fbcdn-sphotos-a-a.akamaihd.net/hphotos-ak-prn2/1461011_735037209844666_633374501_n.jpg"/>
          <p:cNvPicPr/>
          <p:nvPr/>
        </p:nvPicPr>
        <p:blipFill>
          <a:blip r:embed="rId1"/>
          <a:stretch/>
        </p:blipFill>
        <p:spPr>
          <a:xfrm>
            <a:off x="2411280" y="260280"/>
            <a:ext cx="4176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fbcdn-sphotos-g-a.akamaihd.net/hphotos-ak-frc3/1393905_734552059893181_1962649812_n.jpg"/>
          <p:cNvPicPr/>
          <p:nvPr/>
        </p:nvPicPr>
        <p:blipFill>
          <a:blip r:embed="rId1"/>
          <a:stretch/>
        </p:blipFill>
        <p:spPr>
          <a:xfrm>
            <a:off x="1258920" y="692280"/>
            <a:ext cx="6858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fbcdn-sphotos-e-a.akamaihd.net/hphotos-ak-prn2/1395276_733876346627419_375758323_n.jpg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fbcdn-sphotos-c-a.akamaihd.net/hphotos-ak-frc3/996033_733506276664426_289317132_n.jpg"/>
          <p:cNvPicPr/>
          <p:nvPr/>
        </p:nvPicPr>
        <p:blipFill>
          <a:blip r:embed="rId1"/>
          <a:stretch/>
        </p:blipFill>
        <p:spPr>
          <a:xfrm>
            <a:off x="1692360" y="5493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fbcdn-sphotos-b-a.akamaihd.net/hphotos-ak-ash4/1452392_733160086699045_400720091_n.jpg"/>
          <p:cNvPicPr/>
          <p:nvPr/>
        </p:nvPicPr>
        <p:blipFill>
          <a:blip r:embed="rId1"/>
          <a:stretch/>
        </p:blipFill>
        <p:spPr>
          <a:xfrm>
            <a:off x="971640" y="0"/>
            <a:ext cx="67532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fbcdn-sphotos-c-a.akamaihd.net/hphotos-ak-ash3/1441411_746513358697051_649327224_n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fbcdn-sphotos-a-a.akamaihd.net/hphotos-ak-frc3/1454611_732749520073435_1069655955_n.jpg"/>
          <p:cNvPicPr/>
          <p:nvPr/>
        </p:nvPicPr>
        <p:blipFill>
          <a:blip r:embed="rId1"/>
          <a:stretch/>
        </p:blipFill>
        <p:spPr>
          <a:xfrm>
            <a:off x="1116000" y="981000"/>
            <a:ext cx="6858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fbcdn-sphotos-g-a.akamaihd.net/hphotos-ak-prn2/1392564_730360243645696_127147417_n.jpg"/>
          <p:cNvPicPr/>
          <p:nvPr/>
        </p:nvPicPr>
        <p:blipFill>
          <a:blip r:embed="rId1"/>
          <a:stretch/>
        </p:blipFill>
        <p:spPr>
          <a:xfrm>
            <a:off x="324000" y="357120"/>
            <a:ext cx="806436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fbcdn-sphotos-e-a.akamaihd.net/hphotos-ak-ash3/1378583_726488067366247_876308965_n.jpg"/>
          <p:cNvPicPr/>
          <p:nvPr/>
        </p:nvPicPr>
        <p:blipFill>
          <a:blip r:embed="rId1"/>
          <a:stretch/>
        </p:blipFill>
        <p:spPr>
          <a:xfrm>
            <a:off x="1619280" y="765000"/>
            <a:ext cx="54007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fbcdn-sphotos-c-a.akamaihd.net/hphotos-ak-frc3/1380253_725955234086197_1941412694_n.jpg"/>
          <p:cNvPicPr/>
          <p:nvPr/>
        </p:nvPicPr>
        <p:blipFill>
          <a:blip r:embed="rId1"/>
          <a:stretch/>
        </p:blipFill>
        <p:spPr>
          <a:xfrm>
            <a:off x="2268360" y="1628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fbcdn-sphotos-e-a.akamaihd.net/hphotos-ak-frc3/1377029_720518027963251_154667423_n.jpg"/>
          <p:cNvPicPr/>
          <p:nvPr/>
        </p:nvPicPr>
        <p:blipFill>
          <a:blip r:embed="rId1"/>
          <a:stretch/>
        </p:blipFill>
        <p:spPr>
          <a:xfrm>
            <a:off x="1042920" y="981000"/>
            <a:ext cx="71643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fbcdn-sphotos-a-a.akamaihd.net/hphotos-ak-ash3/1382988_717640914917629_1072013338_n.jpg"/>
          <p:cNvPicPr/>
          <p:nvPr/>
        </p:nvPicPr>
        <p:blipFill>
          <a:blip r:embed="rId1"/>
          <a:stretch/>
        </p:blipFill>
        <p:spPr>
          <a:xfrm>
            <a:off x="755640" y="907920"/>
            <a:ext cx="685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s://fbcdn-sphotos-f-a.akamaihd.net/hphotos-ak-frc1/553518_700400366641684_827586666_n.jpg"/>
          <p:cNvPicPr/>
          <p:nvPr/>
        </p:nvPicPr>
        <p:blipFill>
          <a:blip r:embed="rId1"/>
          <a:stretch/>
        </p:blipFill>
        <p:spPr>
          <a:xfrm>
            <a:off x="1979640" y="1125360"/>
            <a:ext cx="4762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fbcdn-sphotos-a-a.akamaihd.net/hphotos-ak-prn2/1185648_693865223961865_1248542428_n.jpg"/>
          <p:cNvPicPr/>
          <p:nvPr/>
        </p:nvPicPr>
        <p:blipFill>
          <a:blip r:embed="rId1"/>
          <a:stretch/>
        </p:blipFill>
        <p:spPr>
          <a:xfrm>
            <a:off x="1692360" y="476280"/>
            <a:ext cx="6057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s://fbcdn-sphotos-g-a.akamaihd.net/hphotos-ak-frc3/1148886_685880904760297_1635904494_n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s://fbcdn-sphotos-f-a.akamaihd.net/hphotos-ak-prn2/1425557_569128466495940_967629987_n.jpg"/>
          <p:cNvPicPr/>
          <p:nvPr/>
        </p:nvPicPr>
        <p:blipFill>
          <a:blip r:embed="rId1"/>
          <a:stretch/>
        </p:blipFill>
        <p:spPr>
          <a:xfrm>
            <a:off x="1476360" y="40464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fbcdn-sphotos-a-a.akamaihd.net/hphotos-ak-prn2/1468749_746051582076562_151169504_n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fbcdn-sphotos-d-a.akamaihd.net/hphotos-ak-ash3/1422577_10201063445250827_855662810_n.jpg"/>
          <p:cNvPicPr/>
          <p:nvPr/>
        </p:nvPicPr>
        <p:blipFill>
          <a:blip r:embed="rId1"/>
          <a:stretch/>
        </p:blipFill>
        <p:spPr>
          <a:xfrm>
            <a:off x="395280" y="476280"/>
            <a:ext cx="841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fbcdn-sphotos-e-a.akamaihd.net/hphotos-ak-frc1/579322_10201135010323813_2108601123_n.jpg"/>
          <p:cNvPicPr/>
          <p:nvPr/>
        </p:nvPicPr>
        <p:blipFill>
          <a:blip r:embed="rId1"/>
          <a:stretch/>
        </p:blipFill>
        <p:spPr>
          <a:xfrm>
            <a:off x="1763640" y="333360"/>
            <a:ext cx="612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fbcdn-sphotos-f-a.akamaihd.net/hphotos-ak-prn2/1424485_745976278750759_2081269538_n.jpg"/>
          <p:cNvPicPr/>
          <p:nvPr/>
        </p:nvPicPr>
        <p:blipFill>
          <a:blip r:embed="rId1"/>
          <a:stretch/>
        </p:blipFill>
        <p:spPr>
          <a:xfrm>
            <a:off x="1763640" y="1052640"/>
            <a:ext cx="62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fbcdn-sphotos-d-a.akamaihd.net/hphotos-ak-frc3/1463688_745975048750882_658508640_n.jpg"/>
          <p:cNvPicPr/>
          <p:nvPr/>
        </p:nvPicPr>
        <p:blipFill>
          <a:blip r:embed="rId1"/>
          <a:stretch/>
        </p:blipFill>
        <p:spPr>
          <a:xfrm>
            <a:off x="1403280" y="260280"/>
            <a:ext cx="60962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fbcdn-sphotos-c-a.akamaihd.net/hphotos-ak-prn2/1425638_745616538786733_1898963301_n.jpg"/>
          <p:cNvPicPr/>
          <p:nvPr/>
        </p:nvPicPr>
        <p:blipFill>
          <a:blip r:embed="rId1"/>
          <a:stretch/>
        </p:blipFill>
        <p:spPr>
          <a:xfrm>
            <a:off x="1979640" y="83664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fbcdn-sphotos-e-a.akamaihd.net/hphotos-ak-ash3/1454645_745430972138623_116655114_n.jpg"/>
          <p:cNvPicPr/>
          <p:nvPr/>
        </p:nvPicPr>
        <p:blipFill>
          <a:blip r:embed="rId1"/>
          <a:stretch/>
        </p:blipFill>
        <p:spPr>
          <a:xfrm>
            <a:off x="2556000" y="333360"/>
            <a:ext cx="39607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fbcdn-sphotos-d-a.akamaihd.net/hphotos-ak-prn2/1476059_744245165590537_228901225_n.jp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3:51:37Z</dcterms:created>
  <dc:creator>rdoring</dc:creator>
  <dc:description/>
  <dc:language>en-US</dc:language>
  <cp:lastModifiedBy>rdoring</cp:lastModifiedBy>
  <dcterms:modified xsi:type="dcterms:W3CDTF">2013-12-03T18:42:11Z</dcterms:modified>
  <cp:revision>8</cp:revision>
  <dc:subject/>
  <dc:title>Slide 1</dc:title>
</cp:coreProperties>
</file>