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649C-07EA-4AC6-8775-FE9B936ED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1D63-F402-44B0-958A-82CB7351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6EDA-7055-48D0-9C7E-844ACBC04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F234-16FA-4B1F-BB32-00E596AD5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8D09-C49F-4112-B1DC-EFE9CA89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39E8-624E-4C7C-859F-29126DE9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4071-6842-4C8D-B592-67ED8270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2A2C-916F-4D8F-964C-B2B77B0F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41F0-E511-41DD-89BF-A8B350DB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0763-CB92-4707-8E39-567302E0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3F29-2AC5-451D-B9F0-BB5ABCC6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CFCC-C8C9-4A2E-8780-809DE638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C783-EBAA-401A-AE78-38D561A67BA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fbcdn-sphotos-e-a.akamaihd.net/hphotos-ak-prn2/1482981_746778668670520_589827939_n.jpg"/>
          <p:cNvPicPr/>
          <p:nvPr/>
        </p:nvPicPr>
        <p:blipFill>
          <a:blip r:embed="rId1"/>
          <a:stretch/>
        </p:blipFill>
        <p:spPr>
          <a:xfrm>
            <a:off x="1692360" y="981000"/>
            <a:ext cx="57243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s://fbcdn-sphotos-f-a.akamaihd.net/hphotos-ak-ash3/1479126_743188765696177_890941108_n.jpg"/>
          <p:cNvPicPr/>
          <p:nvPr/>
        </p:nvPicPr>
        <p:blipFill>
          <a:blip r:embed="rId1"/>
          <a:stretch/>
        </p:blipFill>
        <p:spPr>
          <a:xfrm>
            <a:off x="826920" y="620640"/>
            <a:ext cx="74203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s://fbcdn-sphotos-b-a.akamaihd.net/hphotos-ak-ash4/1474549_740116999336687_663859270_n.jpg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s://fbcdn-sphotos-e-a.akamaihd.net/hphotos-ak-ash3/1453427_739855039362883_904621386_n.png"/>
          <p:cNvPicPr/>
          <p:nvPr/>
        </p:nvPicPr>
        <p:blipFill>
          <a:blip r:embed="rId1"/>
          <a:stretch/>
        </p:blipFill>
        <p:spPr>
          <a:xfrm>
            <a:off x="2916360" y="1125360"/>
            <a:ext cx="374328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s://fbcdn-sphotos-c-a.akamaihd.net/hphotos-ak-ash3/1471972_739854619362925_1960449980_n.jpg"/>
          <p:cNvPicPr/>
          <p:nvPr/>
        </p:nvPicPr>
        <p:blipFill>
          <a:blip r:embed="rId1"/>
          <a:stretch/>
        </p:blipFill>
        <p:spPr>
          <a:xfrm>
            <a:off x="1042920" y="1413000"/>
            <a:ext cx="666756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s://fbcdn-sphotos-d-a.akamaihd.net/hphotos-ak-ash4/1459302_739592626055791_516900391_n.jpg"/>
          <p:cNvPicPr/>
          <p:nvPr/>
        </p:nvPicPr>
        <p:blipFill>
          <a:blip r:embed="rId1"/>
          <a:stretch/>
        </p:blipFill>
        <p:spPr>
          <a:xfrm>
            <a:off x="0" y="-723960"/>
            <a:ext cx="9144000" cy="75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s://fbcdn-sphotos-f-a.akamaihd.net/hphotos-ak-ash3/1003549_739586586056395_1088128558_n.jpg"/>
          <p:cNvPicPr/>
          <p:nvPr/>
        </p:nvPicPr>
        <p:blipFill>
          <a:blip r:embed="rId1"/>
          <a:stretch/>
        </p:blipFill>
        <p:spPr>
          <a:xfrm>
            <a:off x="1476360" y="549360"/>
            <a:ext cx="64864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s://fbcdn-sphotos-h-a.akamaihd.net/hphotos-ak-frc3/1424328_739283449420042_1975363665_n.jpg"/>
          <p:cNvPicPr/>
          <p:nvPr/>
        </p:nvPicPr>
        <p:blipFill>
          <a:blip r:embed="rId1"/>
          <a:stretch/>
        </p:blipFill>
        <p:spPr>
          <a:xfrm>
            <a:off x="2195640" y="1052640"/>
            <a:ext cx="4248000" cy="46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s://fbcdn-sphotos-c-a.akamaihd.net/hphotos-ak-ash3/1457575_739033882778332_586472282_n.jpg"/>
          <p:cNvPicPr/>
          <p:nvPr/>
        </p:nvPicPr>
        <p:blipFill>
          <a:blip r:embed="rId1"/>
          <a:stretch/>
        </p:blipFill>
        <p:spPr>
          <a:xfrm>
            <a:off x="1619280" y="126828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s://fbcdn-sphotos-e-a.akamaihd.net/hphotos-ak-ash3/1457638_739028706112183_1111708757_n.jpg"/>
          <p:cNvPicPr/>
          <p:nvPr/>
        </p:nvPicPr>
        <p:blipFill>
          <a:blip r:embed="rId1"/>
          <a:stretch/>
        </p:blipFill>
        <p:spPr>
          <a:xfrm>
            <a:off x="611280" y="836640"/>
            <a:ext cx="764856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s://fbcdn-sphotos-g-a.akamaihd.net/hphotos-ak-ash3/1456577_738918382789882_820695681_n.png"/>
          <p:cNvPicPr/>
          <p:nvPr/>
        </p:nvPicPr>
        <p:blipFill>
          <a:blip r:embed="rId1"/>
          <a:stretch/>
        </p:blipFill>
        <p:spPr>
          <a:xfrm>
            <a:off x="826920" y="1268280"/>
            <a:ext cx="71438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s://fbcdn-sphotos-a-a.akamaihd.net/hphotos-ak-prn2/1480732_473162082796065_1363138563_n.jpg"/>
          <p:cNvPicPr/>
          <p:nvPr/>
        </p:nvPicPr>
        <p:blipFill>
          <a:blip r:embed="rId1"/>
          <a:stretch/>
        </p:blipFill>
        <p:spPr>
          <a:xfrm>
            <a:off x="1116000" y="765000"/>
            <a:ext cx="685800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s://fbcdn-sphotos-b-a.akamaihd.net/hphotos-ak-prn2/1394128_738762469472140_604421576_n.jpg"/>
          <p:cNvPicPr/>
          <p:nvPr/>
        </p:nvPicPr>
        <p:blipFill>
          <a:blip r:embed="rId1"/>
          <a:stretch/>
        </p:blipFill>
        <p:spPr>
          <a:xfrm>
            <a:off x="1619280" y="260280"/>
            <a:ext cx="583236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s://fbcdn-sphotos-b-a.akamaihd.net/hphotos-ak-ash4/1456757_738168519531535_1246015963_n.jpg"/>
          <p:cNvPicPr/>
          <p:nvPr/>
        </p:nvPicPr>
        <p:blipFill>
          <a:blip r:embed="rId1"/>
          <a:stretch/>
        </p:blipFill>
        <p:spPr>
          <a:xfrm>
            <a:off x="1042920" y="417600"/>
            <a:ext cx="716436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s://fbcdn-sphotos-d-a.akamaihd.net/hphotos-ak-frc1/1012479_737014126313641_943594182_n.jpg"/>
          <p:cNvPicPr/>
          <p:nvPr/>
        </p:nvPicPr>
        <p:blipFill>
          <a:blip r:embed="rId1"/>
          <a:stretch/>
        </p:blipFill>
        <p:spPr>
          <a:xfrm>
            <a:off x="1547640" y="260280"/>
            <a:ext cx="60962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s://fbcdn-sphotos-a-a.akamaihd.net/hphotos-ak-frc3/1426748_736569953024725_1383288750_n.jpg"/>
          <p:cNvPicPr/>
          <p:nvPr/>
        </p:nvPicPr>
        <p:blipFill>
          <a:blip r:embed="rId1"/>
          <a:stretch/>
        </p:blipFill>
        <p:spPr>
          <a:xfrm>
            <a:off x="1547640" y="333360"/>
            <a:ext cx="6307200" cy="61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s://fbcdn-sphotos-d-a.akamaihd.net/hphotos-ak-prn2/1450793_735099519838435_1631551500_n.jpg"/>
          <p:cNvPicPr/>
          <p:nvPr/>
        </p:nvPicPr>
        <p:blipFill>
          <a:blip r:embed="rId1"/>
          <a:stretch/>
        </p:blipFill>
        <p:spPr>
          <a:xfrm>
            <a:off x="1116000" y="1052640"/>
            <a:ext cx="719460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s://fbcdn-sphotos-a-a.akamaihd.net/hphotos-ak-prn2/1461011_735037209844666_633374501_n.jpg"/>
          <p:cNvPicPr/>
          <p:nvPr/>
        </p:nvPicPr>
        <p:blipFill>
          <a:blip r:embed="rId1"/>
          <a:stretch/>
        </p:blipFill>
        <p:spPr>
          <a:xfrm>
            <a:off x="2411280" y="260280"/>
            <a:ext cx="417672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s://fbcdn-sphotos-g-a.akamaihd.net/hphotos-ak-frc3/1393905_734552059893181_1962649812_n.jpg"/>
          <p:cNvPicPr/>
          <p:nvPr/>
        </p:nvPicPr>
        <p:blipFill>
          <a:blip r:embed="rId1"/>
          <a:stretch/>
        </p:blipFill>
        <p:spPr>
          <a:xfrm>
            <a:off x="1258920" y="692280"/>
            <a:ext cx="6858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s://fbcdn-sphotos-e-a.akamaihd.net/hphotos-ak-prn2/1395276_733876346627419_375758323_n.jpg"/>
          <p:cNvPicPr/>
          <p:nvPr/>
        </p:nvPicPr>
        <p:blipFill>
          <a:blip r:embed="rId1"/>
          <a:stretch/>
        </p:blipFill>
        <p:spPr>
          <a:xfrm>
            <a:off x="755640" y="26028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s://fbcdn-sphotos-c-a.akamaihd.net/hphotos-ak-frc3/996033_733506276664426_289317132_n.jpg"/>
          <p:cNvPicPr/>
          <p:nvPr/>
        </p:nvPicPr>
        <p:blipFill>
          <a:blip r:embed="rId1"/>
          <a:stretch/>
        </p:blipFill>
        <p:spPr>
          <a:xfrm>
            <a:off x="1692360" y="54936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s://fbcdn-sphotos-b-a.akamaihd.net/hphotos-ak-ash4/1452392_733160086699045_400720091_n.jpg"/>
          <p:cNvPicPr/>
          <p:nvPr/>
        </p:nvPicPr>
        <p:blipFill>
          <a:blip r:embed="rId1"/>
          <a:stretch/>
        </p:blipFill>
        <p:spPr>
          <a:xfrm>
            <a:off x="971640" y="0"/>
            <a:ext cx="675324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s://fbcdn-sphotos-c-a.akamaihd.net/hphotos-ak-ash3/1441411_746513358697051_649327224_n.jpg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https://fbcdn-sphotos-a-a.akamaihd.net/hphotos-ak-frc3/1454611_732749520073435_1069655955_n.jpg"/>
          <p:cNvPicPr/>
          <p:nvPr/>
        </p:nvPicPr>
        <p:blipFill>
          <a:blip r:embed="rId1"/>
          <a:stretch/>
        </p:blipFill>
        <p:spPr>
          <a:xfrm>
            <a:off x="1116000" y="981000"/>
            <a:ext cx="6858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s://fbcdn-sphotos-g-a.akamaihd.net/hphotos-ak-prn2/1392564_730360243645696_127147417_n.jpg"/>
          <p:cNvPicPr/>
          <p:nvPr/>
        </p:nvPicPr>
        <p:blipFill>
          <a:blip r:embed="rId1"/>
          <a:stretch/>
        </p:blipFill>
        <p:spPr>
          <a:xfrm>
            <a:off x="324000" y="357120"/>
            <a:ext cx="8064360" cy="59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s://fbcdn-sphotos-e-a.akamaihd.net/hphotos-ak-ash3/1378583_726488067366247_876308965_n.jpg"/>
          <p:cNvPicPr/>
          <p:nvPr/>
        </p:nvPicPr>
        <p:blipFill>
          <a:blip r:embed="rId1"/>
          <a:stretch/>
        </p:blipFill>
        <p:spPr>
          <a:xfrm>
            <a:off x="1619280" y="765000"/>
            <a:ext cx="540072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s://fbcdn-sphotos-c-a.akamaihd.net/hphotos-ak-frc3/1380253_725955234086197_1941412694_n.jpg"/>
          <p:cNvPicPr/>
          <p:nvPr/>
        </p:nvPicPr>
        <p:blipFill>
          <a:blip r:embed="rId1"/>
          <a:stretch/>
        </p:blipFill>
        <p:spPr>
          <a:xfrm>
            <a:off x="2268360" y="162864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s://fbcdn-sphotos-e-a.akamaihd.net/hphotos-ak-frc3/1377029_720518027963251_154667423_n.jpg"/>
          <p:cNvPicPr/>
          <p:nvPr/>
        </p:nvPicPr>
        <p:blipFill>
          <a:blip r:embed="rId1"/>
          <a:stretch/>
        </p:blipFill>
        <p:spPr>
          <a:xfrm>
            <a:off x="1042920" y="981000"/>
            <a:ext cx="716436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s://fbcdn-sphotos-a-a.akamaihd.net/hphotos-ak-ash3/1382988_717640914917629_1072013338_n.jpg"/>
          <p:cNvPicPr/>
          <p:nvPr/>
        </p:nvPicPr>
        <p:blipFill>
          <a:blip r:embed="rId1"/>
          <a:stretch/>
        </p:blipFill>
        <p:spPr>
          <a:xfrm>
            <a:off x="755640" y="907920"/>
            <a:ext cx="68580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s://fbcdn-sphotos-f-a.akamaihd.net/hphotos-ak-frc1/553518_700400366641684_827586666_n.jpg"/>
          <p:cNvPicPr/>
          <p:nvPr/>
        </p:nvPicPr>
        <p:blipFill>
          <a:blip r:embed="rId1"/>
          <a:stretch/>
        </p:blipFill>
        <p:spPr>
          <a:xfrm>
            <a:off x="1979640" y="1125360"/>
            <a:ext cx="4762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s://fbcdn-sphotos-a-a.akamaihd.net/hphotos-ak-prn2/1185648_693865223961865_1248542428_n.jpg"/>
          <p:cNvPicPr/>
          <p:nvPr/>
        </p:nvPicPr>
        <p:blipFill>
          <a:blip r:embed="rId1"/>
          <a:stretch/>
        </p:blipFill>
        <p:spPr>
          <a:xfrm>
            <a:off x="1692360" y="476280"/>
            <a:ext cx="60577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s://fbcdn-sphotos-g-a.akamaihd.net/hphotos-ak-frc3/1148886_685880904760297_1635904494_n.jpg"/>
          <p:cNvPicPr/>
          <p:nvPr/>
        </p:nvPicPr>
        <p:blipFill>
          <a:blip r:embed="rId1"/>
          <a:stretch/>
        </p:blipFill>
        <p:spPr>
          <a:xfrm>
            <a:off x="1116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s://fbcdn-sphotos-f-a.akamaihd.net/hphotos-ak-prn2/1425557_569128466495940_967629987_n.jpg"/>
          <p:cNvPicPr/>
          <p:nvPr/>
        </p:nvPicPr>
        <p:blipFill>
          <a:blip r:embed="rId1"/>
          <a:stretch/>
        </p:blipFill>
        <p:spPr>
          <a:xfrm>
            <a:off x="1476360" y="404640"/>
            <a:ext cx="60958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s://fbcdn-sphotos-a-a.akamaihd.net/hphotos-ak-prn2/1468749_746051582076562_151169504_n.jpg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s://fbcdn-sphotos-d-a.akamaihd.net/hphotos-ak-ash3/1422577_10201063445250827_855662810_n.jpg"/>
          <p:cNvPicPr/>
          <p:nvPr/>
        </p:nvPicPr>
        <p:blipFill>
          <a:blip r:embed="rId1"/>
          <a:stretch/>
        </p:blipFill>
        <p:spPr>
          <a:xfrm>
            <a:off x="395280" y="476280"/>
            <a:ext cx="84168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s://fbcdn-sphotos-e-a.akamaihd.net/hphotos-ak-frc1/579322_10201135010323813_2108601123_n.jpg"/>
          <p:cNvPicPr/>
          <p:nvPr/>
        </p:nvPicPr>
        <p:blipFill>
          <a:blip r:embed="rId1"/>
          <a:stretch/>
        </p:blipFill>
        <p:spPr>
          <a:xfrm>
            <a:off x="1763640" y="333360"/>
            <a:ext cx="61214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s://fbcdn-sphotos-f-a.akamaihd.net/hphotos-ak-prn2/1424485_745976278750759_2081269538_n.jpg"/>
          <p:cNvPicPr/>
          <p:nvPr/>
        </p:nvPicPr>
        <p:blipFill>
          <a:blip r:embed="rId1"/>
          <a:stretch/>
        </p:blipFill>
        <p:spPr>
          <a:xfrm>
            <a:off x="1763640" y="1052640"/>
            <a:ext cx="6201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s://fbcdn-sphotos-d-a.akamaihd.net/hphotos-ak-frc3/1463688_745975048750882_658508640_n.jpg"/>
          <p:cNvPicPr/>
          <p:nvPr/>
        </p:nvPicPr>
        <p:blipFill>
          <a:blip r:embed="rId1"/>
          <a:stretch/>
        </p:blipFill>
        <p:spPr>
          <a:xfrm>
            <a:off x="1403280" y="260280"/>
            <a:ext cx="6096240" cy="62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s://fbcdn-sphotos-c-a.akamaihd.net/hphotos-ak-prn2/1425638_745616538786733_1898963301_n.jpg"/>
          <p:cNvPicPr/>
          <p:nvPr/>
        </p:nvPicPr>
        <p:blipFill>
          <a:blip r:embed="rId1"/>
          <a:stretch/>
        </p:blipFill>
        <p:spPr>
          <a:xfrm>
            <a:off x="1979640" y="836640"/>
            <a:ext cx="4591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s://fbcdn-sphotos-e-a.akamaihd.net/hphotos-ak-ash3/1454645_745430972138623_116655114_n.jpg"/>
          <p:cNvPicPr/>
          <p:nvPr/>
        </p:nvPicPr>
        <p:blipFill>
          <a:blip r:embed="rId1"/>
          <a:stretch/>
        </p:blipFill>
        <p:spPr>
          <a:xfrm>
            <a:off x="2556000" y="333360"/>
            <a:ext cx="396072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s://fbcdn-sphotos-d-a.akamaihd.net/hphotos-ak-prn2/1476059_744245165590537_228901225_n.jpg"/>
          <p:cNvPicPr/>
          <p:nvPr/>
        </p:nvPicPr>
        <p:blipFill>
          <a:blip r:embed="rId1"/>
          <a:stretch/>
        </p:blipFill>
        <p:spPr>
          <a:xfrm>
            <a:off x="0" y="1127160"/>
            <a:ext cx="914400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7T13:51:37Z</dcterms:created>
  <dc:creator>rdoring</dc:creator>
  <dc:description/>
  <dc:language>en-US</dc:language>
  <cp:lastModifiedBy>rdoring</cp:lastModifiedBy>
  <dcterms:modified xsi:type="dcterms:W3CDTF">2013-12-03T18:42:11Z</dcterms:modified>
  <cp:revision>8</cp:revision>
  <dc:subject/>
  <dc:title>Slide 1</dc:title>
</cp:coreProperties>
</file>