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Enya%20-%20Piano%20Instrumental.cut8bits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C7C-B556-487F-B849-0549802E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8395-6B8F-4545-AE78-0E2D6EC7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957-5400-43BF-A972-E8B5DCD2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53C-E494-47F3-84D8-F500B83C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4A4-3473-4339-83D1-D8313036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1A7C-7F65-477C-992F-3D6C4B61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C01-FFB0-4584-B7D6-99A8A44D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4F6-4F3D-44C1-9B50-F2B78212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890-B7E9-4D51-BF54-BAD3E3AE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C4A-73DD-4442-BDF7-23C30493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DB69-3433-453D-BED9-E720A48E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888-CFDE-4850-A16F-16848670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3AF2-E835-4915-B7D7-F6414A7AC8E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nya%20-%20Piano%20Instrumental.cut8bit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eticiathompson.com/minhas_mensagens_em_pps.htm" TargetMode="External"/><Relationship Id="rId2" Type="http://schemas.openxmlformats.org/officeDocument/2006/relationships/hyperlink" Target="http://www.leticiathompson.net/minhas_mensagens_em_pps.htm" TargetMode="External"/><Relationship Id="rId3" Type="http://schemas.openxmlformats.org/officeDocument/2006/relationships/hyperlink" Target="http://www.leticiathompson.net/minhas_mensagens_em_pps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685800"/>
            <a:ext cx="693396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solidFill>
                  <a:srgbClr val="ffff63">
                    <a:alpha val="50000"/>
                  </a:srgbClr>
                </a:solidFill>
                <a:effectLst>
                  <a:outerShdw dist="17819" dir="2700000" blurRad="0" rotWithShape="0">
                    <a:srgbClr val="98983b"/>
                  </a:outerShdw>
                </a:effectLst>
                <a:latin typeface="Monotype Corsiva"/>
              </a:rPr>
              <a:t>A inteireza</a:t>
            </a:r>
            <a:endParaRPr b="1" i="1" lang="en-US" sz="8000" spc="1" strike="noStrike">
              <a:ln w="0">
                <a:noFill/>
              </a:ln>
              <a:solidFill>
                <a:srgbClr val="ffff63">
                  <a:alpha val="50000"/>
                </a:srgbClr>
              </a:solidFill>
              <a:effectLst>
                <a:outerShdw dist="17819" dir="2700000" blurRad="0" rotWithShape="0">
                  <a:srgbClr val="98983b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solidFill>
                  <a:srgbClr val="ffff63">
                    <a:alpha val="50000"/>
                  </a:srgbClr>
                </a:solidFill>
                <a:effectLst>
                  <a:outerShdw dist="17819" dir="2700000" blurRad="0" rotWithShape="0">
                    <a:srgbClr val="98983b"/>
                  </a:outerShdw>
                </a:effectLst>
                <a:latin typeface="Monotype Corsiva"/>
              </a:rPr>
              <a:t>da</a:t>
            </a:r>
            <a:endParaRPr b="1" i="1" lang="en-US" sz="8000" spc="1" strike="noStrike">
              <a:ln w="0">
                <a:noFill/>
              </a:ln>
              <a:solidFill>
                <a:srgbClr val="ffff63">
                  <a:alpha val="50000"/>
                </a:srgbClr>
              </a:solidFill>
              <a:effectLst>
                <a:outerShdw dist="17819" dir="2700000" blurRad="0" rotWithShape="0">
                  <a:srgbClr val="98983b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solidFill>
                  <a:srgbClr val="ffff63">
                    <a:alpha val="50000"/>
                  </a:srgbClr>
                </a:solidFill>
                <a:effectLst>
                  <a:outerShdw dist="17819" dir="2700000" blurRad="0" rotWithShape="0">
                    <a:srgbClr val="98983b"/>
                  </a:outerShdw>
                </a:effectLst>
                <a:latin typeface="Monotype Corsiva"/>
              </a:rPr>
              <a:t>vida</a:t>
            </a:r>
            <a:endParaRPr b="1" i="1" lang="en-US" sz="8000" spc="1" strike="noStrike">
              <a:ln w="0">
                <a:noFill/>
              </a:ln>
              <a:solidFill>
                <a:srgbClr val="ffff63">
                  <a:alpha val="50000"/>
                </a:srgbClr>
              </a:solidFill>
              <a:effectLst>
                <a:outerShdw dist="17819" dir="2700000" blurRad="0" rotWithShape="0">
                  <a:srgbClr val="98983b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19520" y="4952880"/>
            <a:ext cx="3371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0">
                  <a:noFill/>
                </a:ln>
                <a:solidFill>
                  <a:srgbClr val="ffff63">
                    <a:alpha val="50000"/>
                  </a:srgbClr>
                </a:solidFill>
                <a:effectLst>
                  <a:outerShdw dist="153753" dir="2700000" blurRad="0" rotWithShape="0">
                    <a:srgbClr val="98983b"/>
                  </a:outerShdw>
                </a:effectLst>
                <a:latin typeface="Monotype Corsiva"/>
              </a:rPr>
              <a:t>Letícia Thompson</a:t>
            </a:r>
            <a:endParaRPr b="1" i="1" lang="en-US" sz="4000" spc="1" strike="noStrike">
              <a:ln w="0">
                <a:noFill/>
              </a:ln>
              <a:solidFill>
                <a:srgbClr val="ffff63">
                  <a:alpha val="50000"/>
                </a:srgbClr>
              </a:solidFill>
              <a:effectLst>
                <a:outerShdw dist="153753" dir="2700000" blurRad="0" rotWithShape="0">
                  <a:srgbClr val="98983b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Bar dir="vert"/>
    <p:sndAc>
      <p:stSnd>
        <p:snd r:embed="rId2" name="Enya%20-%20Piano%20Instrumental.cut8bit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7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685800"/>
            <a:ext cx="7391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7a789"/>
                </a:solidFill>
                <a:latin typeface="Monotype Corsiva"/>
                <a:ea typeface="Arial"/>
              </a:rPr>
              <a:t>Ninguém vive pela metade. O espaço de vida de cada um é o que cada qual tem de inteiro. Se dura vinte ou cinqüenta  anos, não faz diferença. O que conta é que uma vida é uma vida. Não existe meio amor, meia felicidade, meia saudade. Todo sentimento por si só é inteiro. Ou a gente é feliz ou não é; ou ama, ou não ama; ou quer, ou não quer. Quando amamos, dúvida não existe; se queremos realmente, dúvida não existe; se somos felizes... cadê o espaço pra infelicidade, se a felicidade toma conta de tudo?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484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5000">
    <p:randomBa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8400"/>
                            </p:stCondLst>
                            <p:childTnLst>
                              <p:par>
                                <p:cTn id="2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af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1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609480"/>
            <a:ext cx="77724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b0af95"/>
                </a:solidFill>
                <a:latin typeface="Monotype Corsiva"/>
                <a:ea typeface="Arial"/>
              </a:rPr>
              <a:t>Então, se você se sente nesse meio caminho, talvez seja o momento de parar e refletir um pouco na sua existência. A vida é inteira, mas não temos a vida inteira para decidirmos vivê-la intensamente. Temos o agora. Há quem diga que pelo fato de ser jovem ainda tem tempo. Mas quem, além de Deus, sabe dizer a medida da vida de cada um? Perdemos preciosos minutos no nosso hoje com a idéia que amanhã as coisas acontecerão e que podemos esper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5a59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2000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900"/>
                            </p:stCondLst>
                            <p:childTnLst>
                              <p:par>
                                <p:cTn id="3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ab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3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762120"/>
            <a:ext cx="7391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cab90"/>
                </a:solidFill>
                <a:latin typeface="Monotype Corsiva"/>
                <a:ea typeface="Arial"/>
              </a:rPr>
              <a:t>Quando começamos a medir e pesar nossos sentimentos, não vamos a lugar nenhum. Haverá sempre uma luta cerrada entre o coração que quer viver e a razão que mede conseqüências. Medindo dificuldades, não fazemos nada. Se devemos medir alguma coisa, devem ser então as possibilidades. Aí sim estamos no caminho certo. Para os pessimistas uma pedra é um estorvo, para os otimistas é um pedacinho do alicerce da própria vida. O segredo está no olhar com que cada um vê as situaçõ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555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2000">
    <p:randomBa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900"/>
                            </p:stCondLst>
                            <p:childTnLst>
                              <p:par>
                                <p:cTn id="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b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6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762120"/>
            <a:ext cx="73915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4b39a"/>
                </a:solidFill>
                <a:latin typeface="Monotype Corsiva"/>
                <a:ea typeface="Arial"/>
              </a:rPr>
              <a:t>Só enfrentando os medos e o desconhecido é que conseguiremos viver de forma inteira essa vida que se oferece a nós em pedaços. Ninguém disse que não há riscos. Mas não é melhor arriscar do que viver o restante dos nossos dias na infelicidade de se perguntar o que teria sido se tivéssemos tentado? Quando fizer alguma coisa, faça com inteireza de coração. Ame totalmente, ria totalmente, faça de tudo um to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4f4e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7000"/>
                            </p:stCondLst>
                            <p:childTnLst>
                              <p:par>
                                <p:cTn id="6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b6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80880"/>
            <a:ext cx="8001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b7b69f"/>
                </a:solidFill>
                <a:latin typeface="Monotype Corsiva"/>
                <a:ea typeface="Arial"/>
              </a:rPr>
              <a:t>A vida é bela demais para ser deixada em suspenso. O amor é bom demais para que possamos vivê-lo em pequenas partes, sem que o tornemos real e possível. Tente viver com a metade do seu coração e veja se consegue... difícil ser feliz sem ser completo. Impossível ser completo parado num caminho de indecisões. O coração talvez não seja o melhor conselheiro. Mas é o que nos mantém vivos e que está sempre junto, sempre ligado a nós. Deixe, pelo menos uma vez, que ele fale mais alt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5958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4000">
    <p:randomBar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3300"/>
                            </p:stCondLst>
                            <p:childTnLst>
                              <p:par>
                                <p:cTn id="7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b95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394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60948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b9591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ab9591"/>
                </a:solidFill>
                <a:latin typeface="Times New Roman"/>
              </a:rPr>
              <a:t>Enya – Piano Instru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19051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9591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9591"/>
                </a:solidFill>
                <a:latin typeface="Signature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0481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ab9591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914400" y="472428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b9591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/>
          </p:cNvPr>
          <p:cNvSpPr/>
          <p:nvPr/>
        </p:nvSpPr>
        <p:spPr>
          <a:xfrm>
            <a:off x="3505320" y="4572000"/>
            <a:ext cx="1981080" cy="990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Ver Ou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ens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endshow"/>
          </p:cNvPr>
          <p:cNvSpPr/>
          <p:nvPr/>
        </p:nvSpPr>
        <p:spPr>
          <a:xfrm>
            <a:off x="6324480" y="4724280"/>
            <a:ext cx="1828800" cy="685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ab9591"/>
                </a:solidFill>
                <a:uFillTx/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573b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3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8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3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6:21:24Z</dcterms:created>
  <dc:creator>ssoliver@terra.com.br </dc:creator>
  <dc:description/>
  <dc:language>en-US</dc:language>
  <cp:lastModifiedBy>Leticia Thompson</cp:lastModifiedBy>
  <dcterms:modified xsi:type="dcterms:W3CDTF">2004-10-27T18:20:37Z</dcterms:modified>
  <cp:revision>9</cp:revision>
  <dc:subject>PPS</dc:subject>
  <dc:title>A inteireza da vida</dc:title>
</cp:coreProperties>
</file>