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Enya%20-%20Piano%20Instrumental.cut8bits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5A3-C35D-42C5-BEFE-0A81292B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4AE-0B36-4AD8-8498-EC5D7005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7572-1F85-434C-8BE4-27F9539A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1EE6-2B5B-4B34-9574-678FD656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C832-9CC9-45C6-80BC-9DECB461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49C-0FEC-44F2-B793-7190CD07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411-21C2-44D0-A3CB-2B8EA2B1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A36C-44C4-4E54-9C42-BB065AE9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8312-CE7E-4B51-BAAA-98BA3436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8A0E-E7F0-4BC0-865E-9DC74325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B380-7FF3-49F9-BAEE-061B22E8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D71F-D0CA-4DE1-B7B1-9A6B026D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FA7C-7014-489D-9E99-569F2F416E7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nya%20-%20Piano%20Instrumental.cut8bit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eticiathompson.com/minhas_mensagens_em_pps.htm" TargetMode="External"/><Relationship Id="rId2" Type="http://schemas.openxmlformats.org/officeDocument/2006/relationships/hyperlink" Target="http://www.leticiathompson.net/minhas_mensagens_em_pps.htm" TargetMode="External"/><Relationship Id="rId3" Type="http://schemas.openxmlformats.org/officeDocument/2006/relationships/hyperlink" Target="http://www.leticiathompson.net/minhas_mensagens_em_pps.ht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685800"/>
            <a:ext cx="693396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solidFill>
                  <a:srgbClr val="ffff63">
                    <a:alpha val="50000"/>
                  </a:srgbClr>
                </a:solidFill>
                <a:effectLst>
                  <a:outerShdw dist="17819" dir="2700000" blurRad="0" rotWithShape="0">
                    <a:srgbClr val="98983b"/>
                  </a:outerShdw>
                </a:effectLst>
                <a:latin typeface="Monotype Corsiva"/>
              </a:rPr>
              <a:t>A inteireza</a:t>
            </a:r>
            <a:endParaRPr b="1" i="1" lang="en-US" sz="8000" spc="1" strike="noStrike">
              <a:ln w="0">
                <a:noFill/>
              </a:ln>
              <a:solidFill>
                <a:srgbClr val="ffff63">
                  <a:alpha val="50000"/>
                </a:srgbClr>
              </a:solidFill>
              <a:effectLst>
                <a:outerShdw dist="17819" dir="2700000" blurRad="0" rotWithShape="0">
                  <a:srgbClr val="98983b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solidFill>
                  <a:srgbClr val="ffff63">
                    <a:alpha val="50000"/>
                  </a:srgbClr>
                </a:solidFill>
                <a:effectLst>
                  <a:outerShdw dist="17819" dir="2700000" blurRad="0" rotWithShape="0">
                    <a:srgbClr val="98983b"/>
                  </a:outerShdw>
                </a:effectLst>
                <a:latin typeface="Monotype Corsiva"/>
              </a:rPr>
              <a:t>da</a:t>
            </a:r>
            <a:endParaRPr b="1" i="1" lang="en-US" sz="8000" spc="1" strike="noStrike">
              <a:ln w="0">
                <a:noFill/>
              </a:ln>
              <a:solidFill>
                <a:srgbClr val="ffff63">
                  <a:alpha val="50000"/>
                </a:srgbClr>
              </a:solidFill>
              <a:effectLst>
                <a:outerShdw dist="17819" dir="2700000" blurRad="0" rotWithShape="0">
                  <a:srgbClr val="98983b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solidFill>
                  <a:srgbClr val="ffff63">
                    <a:alpha val="50000"/>
                  </a:srgbClr>
                </a:solidFill>
                <a:effectLst>
                  <a:outerShdw dist="17819" dir="2700000" blurRad="0" rotWithShape="0">
                    <a:srgbClr val="98983b"/>
                  </a:outerShdw>
                </a:effectLst>
                <a:latin typeface="Monotype Corsiva"/>
              </a:rPr>
              <a:t>vida</a:t>
            </a:r>
            <a:endParaRPr b="1" i="1" lang="en-US" sz="8000" spc="1" strike="noStrike">
              <a:ln w="0">
                <a:noFill/>
              </a:ln>
              <a:solidFill>
                <a:srgbClr val="ffff63">
                  <a:alpha val="50000"/>
                </a:srgbClr>
              </a:solidFill>
              <a:effectLst>
                <a:outerShdw dist="17819" dir="2700000" blurRad="0" rotWithShape="0">
                  <a:srgbClr val="98983b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19520" y="4952880"/>
            <a:ext cx="3371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ffff63">
                    <a:alpha val="50000"/>
                  </a:srgbClr>
                </a:solidFill>
                <a:effectLst>
                  <a:outerShdw dist="153753" dir="2700000" blurRad="0" rotWithShape="0">
                    <a:srgbClr val="98983b"/>
                  </a:outerShdw>
                </a:effectLst>
                <a:latin typeface="Monotype Corsiva"/>
              </a:rPr>
              <a:t>Letícia Thompson</a:t>
            </a:r>
            <a:endParaRPr b="1" i="1" lang="en-US" sz="4000" spc="1" strike="noStrike">
              <a:ln w="0">
                <a:noFill/>
              </a:ln>
              <a:solidFill>
                <a:srgbClr val="ffff63">
                  <a:alpha val="50000"/>
                </a:srgbClr>
              </a:solidFill>
              <a:effectLst>
                <a:outerShdw dist="153753" dir="2700000" blurRad="0" rotWithShape="0">
                  <a:srgbClr val="98983b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Bar dir="vert"/>
    <p:sndAc>
      <p:stSnd>
        <p:snd r:embed="rId2" name="Enya%20-%20Piano%20Instrumental.cut8bit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7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685800"/>
            <a:ext cx="7391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7a789"/>
                </a:solidFill>
                <a:latin typeface="Monotype Corsiva"/>
                <a:ea typeface="Arial"/>
              </a:rPr>
              <a:t>Ninguém vive pela metade. O espaço de vida de cada um é o que cada qual tem de inteiro. Se dura vinte ou cinqüenta  anos, não faz diferença. O que conta é que uma vida é uma vida. Não existe meio amor, meia felicidade, meia saudade. Todo sentimento por si só é inteiro. Ou a gente é feliz ou não é; ou ama, ou não ama; ou quer, ou não quer. Quando amamos, dúvida não existe; se queremos realmente, dúvida não existe; se somos felizes... cadê o espaço pra infelicidade, se a felicidade toma conta de tudo?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484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5000">
    <p:randomBa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8400"/>
                            </p:stCondLst>
                            <p:childTnLst>
                              <p:par>
                                <p:cTn id="2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af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1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609480"/>
            <a:ext cx="77724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b0af95"/>
                </a:solidFill>
                <a:latin typeface="Monotype Corsiva"/>
                <a:ea typeface="Arial"/>
              </a:rPr>
              <a:t>Então, se você se sente nesse meio caminho, talvez seja o momento de parar e refletir um pouco na sua existência. A vida é inteira, mas não temos a vida inteira para decidirmos vivê-la intensamente. Temos o agora. Há quem diga que pelo fato de ser jovem ainda tem tempo. Mas quem, além de Deus, sabe dizer a medida da vida de cada um? Perdemos preciosos minutos no nosso hoje com a idéia que amanhã as coisas acontecerão e que podemos esper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5a59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2000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900"/>
                            </p:stCondLst>
                            <p:childTnLst>
                              <p:par>
                                <p:cTn id="3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ab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3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762120"/>
            <a:ext cx="7391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cab90"/>
                </a:solidFill>
                <a:latin typeface="Monotype Corsiva"/>
                <a:ea typeface="Arial"/>
              </a:rPr>
              <a:t>Quando começamos a medir e pesar nossos sentimentos, não vamos a lugar nenhum. Haverá sempre uma luta cerrada entre o coração que quer viver e a razão que mede conseqüências. Medindo dificuldades, não fazemos nada. Se devemos medir alguma coisa, devem ser então as possibilidades. Aí sim estamos no caminho certo. Para os pessimistas uma pedra é um estorvo, para os otimistas é um pedacinho do alicerce da própria vida. O segredo está no olhar com que cada um vê as situaçõ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555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2000">
    <p:randomBa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900"/>
                            </p:stCondLst>
                            <p:childTnLst>
                              <p:par>
                                <p:cTn id="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b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6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762120"/>
            <a:ext cx="73915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4b39a"/>
                </a:solidFill>
                <a:latin typeface="Monotype Corsiva"/>
                <a:ea typeface="Arial"/>
              </a:rPr>
              <a:t>Só enfrentando os medos e o desconhecido é que conseguiremos viver de forma inteira essa vida que se oferece a nós em pedaços. Ninguém disse que não há riscos. Mas não é melhor arriscar do que viver o restante dos nossos dias na infelicidade de se perguntar o que teria sido se tivéssemos tentado? Quando fizer alguma coisa, faça com inteireza de coração. Ame totalmente, ria totalmente, faça de tudo um to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4f4e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7000"/>
                            </p:stCondLst>
                            <p:childTnLst>
                              <p:par>
                                <p:cTn id="6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6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80880"/>
            <a:ext cx="8001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b7b69f"/>
                </a:solidFill>
                <a:latin typeface="Monotype Corsiva"/>
                <a:ea typeface="Arial"/>
              </a:rPr>
              <a:t>A vida é bela demais para ser deixada em suspenso. O amor é bom demais para que possamos vivê-lo em pequenas partes, sem que o tornemos real e possível. Tente viver com a metade do seu coração e veja se consegue... difícil ser feliz sem ser completo. Impossível ser completo parado num caminho de indecisões. O coração talvez não seja o melhor conselheiro. Mas é o que nos mantém vivos e que está sempre junto, sempre ligado a nós. Deixe, pelo menos uma vez, que ele fale mais alt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5958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4000">
    <p:randomBar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3300"/>
                            </p:stCondLst>
                            <p:childTnLst>
                              <p:par>
                                <p:cTn id="7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b95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3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60948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b9591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b9591"/>
                </a:solidFill>
                <a:latin typeface="Times New Roman"/>
              </a:rPr>
              <a:t>Enya – Piano Instru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19051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9591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9591"/>
                </a:solidFill>
                <a:latin typeface="Signature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0481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ab9591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914400" y="472428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b9591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/>
          </p:cNvPr>
          <p:cNvSpPr/>
          <p:nvPr/>
        </p:nvSpPr>
        <p:spPr>
          <a:xfrm>
            <a:off x="3505320" y="4572000"/>
            <a:ext cx="198108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Ver Ou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ensa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endshow"/>
          </p:cNvPr>
          <p:cNvSpPr/>
          <p:nvPr/>
        </p:nvSpPr>
        <p:spPr>
          <a:xfrm>
            <a:off x="6324480" y="472428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b9591"/>
                </a:solidFill>
                <a:uFillTx/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573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3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8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3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800"/>
                            </p:stCondLst>
                            <p:childTnLst>
                              <p:par>
                                <p:cTn id="11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6:21:24Z</dcterms:created>
  <dc:creator>ssoliver@terra.com.br </dc:creator>
  <dc:description/>
  <dc:language>en-US</dc:language>
  <cp:lastModifiedBy>Leticia Thompson</cp:lastModifiedBy>
  <dcterms:modified xsi:type="dcterms:W3CDTF">2004-10-27T18:20:37Z</dcterms:modified>
  <cp:revision>9</cp:revision>
  <dc:subject>PPS</dc:subject>
  <dc:title>A inteireza da vida</dc:title>
</cp:coreProperties>
</file>