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1.jpeg" ContentType="image/jpeg"/>
  <Override PartName="/ppt/media/image2.jpeg" ContentType="image/jpeg"/>
  <Override PartName="/ppt/media/grease.wav" ContentType="audio/x-wav"/>
  <Override PartName="/ppt/media/image23.jpeg" ContentType="image/jpeg"/>
  <Override PartName="/ppt/media/image7.jpeg" ContentType="image/jpeg"/>
  <Override PartName="/ppt/media/image12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30.wmf" ContentType="image/x-wmf"/>
  <Override PartName="/ppt/media/image11.jpeg" ContentType="image/jpeg"/>
  <Override PartName="/ppt/media/image9.jpeg" ContentType="image/jpeg"/>
  <Override PartName="/ppt/media/image19.jpeg" ContentType="image/jpeg"/>
  <Override PartName="/ppt/media/image29.wmf" ContentType="image/x-wmf"/>
  <Override PartName="/ppt/media/image31.png" ContentType="image/pn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28.jpeg" ContentType="image/jpeg"/>
  <Override PartName="/ppt/media/image27.gif" ContentType="image/gif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C09B-3860-4669-9DA2-398F3CC4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94E3-B018-4B20-9618-BFCDF0A1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8128-27B4-4BA4-B46C-276252D4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EA19-BC9E-4F9B-8A96-5D26A7B2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90A5-7423-4572-90EA-41FEADFC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6C2B-9FCD-4693-BBEF-72C0314D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61A1-5D3A-482A-8BA5-873F3FAD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29A7-11DB-4BCF-865A-5BDA0AF4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1EF1-BDC4-4BB2-AB59-17D9D8A9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FD48-98AB-4717-99B6-AE1C478E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511B-E9C1-4C35-80D5-30044C2D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E68D-7BF4-46A2-8948-E986C913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B258-0EFD-445E-9CB2-360EDD2F9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grease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ifs.net/image/Religious/Jewish/Jewish/4049" TargetMode="External"/><Relationship Id="rId2" Type="http://schemas.openxmlformats.org/officeDocument/2006/relationships/image" Target="../media/image26.gif"/><Relationship Id="rId3" Type="http://schemas.openxmlformats.org/officeDocument/2006/relationships/hyperlink" Target="http://www.gifs.net/image/Religious/Jewish/Jewish/4049" TargetMode="External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4920" y="-27000"/>
            <a:ext cx="9144000" cy="6885000"/>
            <a:chOff x="-34920" y="-27000"/>
            <a:chExt cx="9144000" cy="68850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537080" y="-27000"/>
              <a:ext cx="4572000" cy="34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-34920" y="3402000"/>
              <a:ext cx="4572000" cy="345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4537080" y="3402000"/>
              <a:ext cx="45720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-34920" y="-27000"/>
              <a:ext cx="457200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250920" y="3716280"/>
            <a:ext cx="868680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3333cc"/>
                </a:solidFill>
                <a:latin typeface="Copperplate Gothic Light"/>
                <a:ea typeface="Times New Roman"/>
              </a:rPr>
              <a:t>SIM, </a:t>
            </a:r>
            <a:r>
              <a:rPr b="0" i="1" lang="pt-PT" sz="2200" spc="-1" strike="noStrike">
                <a:solidFill>
                  <a:srgbClr val="3333cc"/>
                </a:solidFill>
                <a:latin typeface="Copperplate Gothic Light"/>
                <a:ea typeface="Arial"/>
              </a:rPr>
              <a:t>¡FELICIDADES!</a:t>
            </a:r>
            <a:r>
              <a:rPr b="0" i="1" lang="pt-PT" sz="2000" spc="-1" strike="noStrike">
                <a:solidFill>
                  <a:srgbClr val="3333cc"/>
                </a:solidFill>
                <a:latin typeface="Copperplate Gothic Light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3333cc"/>
                </a:solidFill>
                <a:latin typeface="Copperplate Gothic Light"/>
                <a:ea typeface="Arial"/>
              </a:rPr>
              <a:t>E NÃO PONHAS ESSA CA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3333cc"/>
                </a:solidFill>
                <a:latin typeface="Copperplate Gothic Light"/>
                <a:ea typeface="Arial"/>
              </a:rPr>
              <a:t>HOJE NÃO É NATAL, NEM ANO NOVO, NEM TEUS A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3333cc"/>
                </a:solidFill>
                <a:latin typeface="Copperplate Gothic Light"/>
                <a:ea typeface="Arial"/>
              </a:rPr>
              <a:t>HOJE É UM DIA NORMAL, MAS, UM DIA PARA 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3333cc"/>
                </a:solidFill>
                <a:latin typeface="Copperplate Gothic Light"/>
                <a:ea typeface="Arial"/>
              </a:rPr>
              <a:t>¡¡¡ QUE SORTE !!!           SOU TEU AMIG@ DE SEMP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3333cc"/>
                </a:solidFill>
                <a:latin typeface="Copperplate Gothic Light"/>
                <a:ea typeface="Arial"/>
              </a:rPr>
              <a:t>   </a:t>
            </a:r>
            <a:r>
              <a:rPr b="0" i="1" lang="pt-PT" sz="2000" spc="-1" strike="noStrike">
                <a:solidFill>
                  <a:srgbClr val="3333cc"/>
                </a:solidFill>
                <a:latin typeface="Copperplate Gothic Light"/>
                <a:ea typeface="Arial"/>
              </a:rPr>
              <a:t>escuta a música e deixa-te levar.</a:t>
            </a:r>
            <a:r>
              <a:rPr b="0" i="1" lang="es-ES_tradnl" sz="2000" spc="-1" strike="noStrike">
                <a:solidFill>
                  <a:srgbClr val="3333cc"/>
                </a:solidFill>
                <a:latin typeface="Copperplate Gothic Light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58920" y="476280"/>
            <a:ext cx="66294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12600">
                  <a:solidFill>
                    <a:srgbClr val="339966"/>
                  </a:solidFill>
                  <a:miter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pperplate Gothic Bold"/>
              </a:rPr>
              <a:t>FELICIDADES AMIGOS</a:t>
            </a:r>
            <a:endParaRPr b="0" i="1" lang="en-US" sz="4800" spc="1" strike="noStrike">
              <a:ln w="12600">
                <a:solidFill>
                  <a:srgbClr val="339966"/>
                </a:solidFill>
                <a:miter/>
              </a:ln>
              <a:solidFill>
                <a:srgbClr val="0000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pperplate Gothic Bold"/>
              <a:ea typeface="Copperplate Gothic Bol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672200" y="5186520"/>
            <a:ext cx="31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391520" cy="4456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79704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600" spc="-1" strike="noStrike">
                <a:solidFill>
                  <a:srgbClr val="ffffff"/>
                </a:solidFill>
                <a:latin typeface="Comic Sans MS"/>
              </a:rPr>
              <a:t>DE TRABALHAR</a:t>
            </a:r>
            <a:r>
              <a:rPr b="1" lang="pt-BR" sz="6600" spc="-1" strike="noStrike">
                <a:solidFill>
                  <a:srgbClr val="ffffff"/>
                </a:solidFill>
                <a:latin typeface="Comic Sans MS"/>
              </a:rPr>
              <a:t> 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667560" cy="4019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4876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d60093"/>
                </a:solidFill>
                <a:latin typeface="Comic Sans MS"/>
              </a:rPr>
              <a:t>E chegará sombra e água fresca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6667560" cy="4019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99cc00"/>
                </a:solidFill>
                <a:latin typeface="Comic Sans MS"/>
              </a:rPr>
              <a:t>Mas nada disso agora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99cc00"/>
                </a:solidFill>
                <a:latin typeface="Comic Sans MS"/>
              </a:rPr>
              <a:t>é hora de TRABALHAR.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5257800" cy="4567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279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8000"/>
                </a:solidFill>
                <a:latin typeface="Comic Sans MS"/>
              </a:rPr>
              <a:t>Quando chegares ao teu trabalh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6600" y="6095880"/>
            <a:ext cx="692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99ff99"/>
                </a:solidFill>
                <a:latin typeface="Comic Sans MS"/>
              </a:rPr>
              <a:t>Abraça os teus amigo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619760" cy="4592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6444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9999"/>
                </a:solidFill>
                <a:latin typeface="Comic Sans MS"/>
              </a:rPr>
              <a:t>Não tenhas med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9999"/>
                </a:solidFill>
                <a:latin typeface="Comic Sans MS"/>
              </a:rPr>
              <a:t>de uma cara fei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1811160"/>
            <a:ext cx="8153280" cy="4916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26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ccff"/>
                </a:solidFill>
                <a:latin typeface="Comic Sans MS"/>
              </a:rPr>
              <a:t>O importante na vid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ccff"/>
                </a:solidFill>
                <a:latin typeface="Comic Sans MS"/>
              </a:rPr>
              <a:t>é ter amigo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6667560" cy="4019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4786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99ff"/>
                </a:solidFill>
                <a:latin typeface="Comic Sans MS"/>
              </a:rPr>
              <a:t>Que gostam de ti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23680" y="117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6667560" cy="4019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56844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00"/>
                </a:solidFill>
                <a:latin typeface="Comic Sans MS"/>
              </a:rPr>
              <a:t>Que estão sempre pront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00"/>
                </a:solidFill>
                <a:latin typeface="Comic Sans MS"/>
              </a:rPr>
              <a:t>para ajudar-t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5486400" cy="5325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362320" y="2286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cc3300"/>
                </a:solidFill>
                <a:latin typeface="Comic Sans MS"/>
              </a:rPr>
              <a:t>Espe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31560" y="3235320"/>
            <a:ext cx="248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1" lang="pt-PT" sz="4400" spc="-1" strike="noStrike">
                <a:solidFill>
                  <a:srgbClr val="cc00ff"/>
                </a:solidFill>
                <a:latin typeface="Comic Sans MS"/>
              </a:rPr>
              <a:t>E olh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0880" y="2054160"/>
            <a:ext cx="8458200" cy="4803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0"/>
            <a:ext cx="9144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99ff"/>
                </a:solidFill>
                <a:latin typeface="Comic Sans MS"/>
              </a:rPr>
              <a:t>que esta mensagem é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99ff"/>
                </a:solidFill>
                <a:latin typeface="Comic Sans MS"/>
              </a:rPr>
              <a:t>só para desejar-te</a:t>
            </a:r>
            <a:r>
              <a:rPr b="0" lang="pt-PT" sz="4400" spc="-1" strike="noStrike">
                <a:solidFill>
                  <a:srgbClr val="0099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ccccff"/>
                </a:solidFill>
                <a:latin typeface="Comic Sans MS"/>
              </a:rPr>
              <a:t>Bom Fim de Semana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66ffff"/>
                </a:solidFill>
                <a:latin typeface="Comic Sans MS"/>
              </a:rPr>
              <a:t>E Uma Boa Semana 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339920"/>
            <a:ext cx="9144000" cy="5518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3049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a50021"/>
                </a:solidFill>
                <a:latin typeface="Comic Sans MS"/>
              </a:rPr>
              <a:t>    </a:t>
            </a:r>
            <a:r>
              <a:rPr b="1" lang="pt-PT" sz="3600" spc="-1" strike="noStrike">
                <a:solidFill>
                  <a:srgbClr val="a50021"/>
                </a:solidFill>
                <a:latin typeface="Comic Sans MS"/>
              </a:rPr>
              <a:t>Olá, estou cá para recordar-t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pt-PT" sz="4000" spc="-1" strike="noStrike">
                <a:solidFill>
                  <a:srgbClr val="ffffff"/>
                </a:solidFill>
                <a:latin typeface="Comic Sans MS"/>
              </a:rPr>
              <a:t>Vamos! - Deixa-te de pessimismo</a:t>
            </a:r>
            <a:r>
              <a:rPr b="1" lang="pt-BR" sz="4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38080" y="154296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457200"/>
            <a:ext cx="88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0" spc="-1" strike="noStrike">
                <a:solidFill>
                  <a:srgbClr val="99ff33"/>
                </a:solidFill>
                <a:latin typeface="Comic Sans MS"/>
              </a:rPr>
              <a:t>Corre e diverte-te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8000" y="304920"/>
            <a:ext cx="8856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0" spc="-1" strike="noStrike">
                <a:solidFill>
                  <a:srgbClr val="ffff00"/>
                </a:solidFill>
                <a:latin typeface="Comic Sans MS"/>
              </a:rPr>
              <a:t>Envia um bom dia</a:t>
            </a:r>
            <a:r>
              <a:rPr b="1" lang="pt-PT" sz="4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3300"/>
                </a:solidFill>
                <a:latin typeface="Comic Sans MS"/>
              </a:rPr>
              <a:t>a todos os teus amigos também 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81880" cy="4539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920" y="461880"/>
            <a:ext cx="84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876920"/>
            <a:ext cx="939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99ff"/>
                </a:solidFill>
                <a:latin typeface="Comic Sans MS"/>
              </a:rPr>
              <a:t>Que todos os teus dias sejam maravilhosos 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1081080"/>
            <a:ext cx="220968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b2b2b2"/>
                </a:solidFill>
                <a:latin typeface="Comic Sans MS"/>
              </a:rPr>
              <a:t>ENVIA AOS TEUS AMIG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b2b2b2"/>
                </a:solidFill>
                <a:latin typeface="Comic Sans MS"/>
              </a:rPr>
              <a:t>E também espero recebe-lo de no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86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b2b2b2"/>
                </a:solidFill>
                <a:latin typeface="Comic Sans MS"/>
              </a:rPr>
              <a:t>FAÇAMOS UMA CADEIA DE FELICIDADE...e para que confirmes o que te disse, vê o diapositivo segui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Jewish - Click image to download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5200" y="4581360"/>
            <a:ext cx="7318080" cy="255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Jewish - Click image to download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6165720"/>
            <a:ext cx="7318440" cy="255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4427640" y="476280"/>
            <a:ext cx="396072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771640" y="5084640"/>
            <a:ext cx="3311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F31F-04B7-4DF4-9BB9-835F66E6D52D}" type="datetime2">
              <a:rPr b="1" lang="pt-PT" sz="2400" spc="-1" strike="noStrike">
                <a:solidFill>
                  <a:srgbClr val="ff3300"/>
                </a:solidFill>
                <a:latin typeface="Agatha"/>
              </a:rPr>
              <a:t>quarta-feira, 29 de julho de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C07F-1731-45E8-8A6B-C47FFD6EC45F}" type="datetime13">
              <a:rPr b="1" lang="pt-PT" sz="2400" spc="-1" strike="noStrike">
                <a:solidFill>
                  <a:srgbClr val="ff3300"/>
                </a:solidFill>
                <a:latin typeface="Agatha"/>
              </a:rPr>
              <a:t>07:26:23 AM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084720" y="0"/>
            <a:ext cx="3059280" cy="1349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627280" y="907920"/>
            <a:ext cx="4254480" cy="2971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8101080" y="6093000"/>
            <a:ext cx="914400" cy="252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696440" cy="4168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Comic Sans MS"/>
              </a:rPr>
              <a:t>Faz a barb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Comic Sans MS"/>
              </a:rPr>
              <a:t>Se fores mulher realça tua bele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7340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Alegra-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190600"/>
            <a:ext cx="8381880" cy="4540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33520"/>
            <a:ext cx="923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3300"/>
                </a:solidFill>
                <a:latin typeface="Comic Sans MS"/>
              </a:rPr>
              <a:t>Toma um bom relaxant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3300"/>
                </a:solidFill>
                <a:latin typeface="Comic Sans MS"/>
              </a:rPr>
              <a:t>algo natural se possív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6934320" cy="4183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45720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cc0099"/>
                </a:solidFill>
                <a:latin typeface="Comic Sans MS"/>
              </a:rPr>
              <a:t>Começa o dia sabendo 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cc0099"/>
                </a:solidFill>
                <a:latin typeface="Comic Sans MS"/>
              </a:rPr>
              <a:t>vale a pena afrontá-l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cc00"/>
                </a:solidFill>
                <a:latin typeface="Comic Sans MS"/>
              </a:rPr>
              <a:t>Não tenhas medo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76520" y="179280"/>
            <a:ext cx="7467480" cy="4505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45705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Comic Sans MS"/>
              </a:rPr>
              <a:t>Nada é melhor qu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Comic Sans MS"/>
              </a:rPr>
              <a:t>um bom sorri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Comic Sans MS"/>
              </a:rPr>
              <a:t>Pela manhã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190600"/>
            <a:ext cx="9144000" cy="4664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304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99ff99"/>
                </a:solidFill>
                <a:latin typeface="Comic Sans MS"/>
              </a:rPr>
              <a:t>Um olhar carinhoso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8381880" cy="4759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98560" y="-111240"/>
            <a:ext cx="77882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cc0066"/>
                </a:solidFill>
                <a:latin typeface="Comic Sans MS"/>
              </a:rPr>
              <a:t>Um beijo para melhorar o universo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153280" cy="4915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5105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cc0099"/>
                </a:solidFill>
                <a:latin typeface="Comic Sans MS"/>
              </a:rPr>
              <a:t>Não te desesperes... a h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cc0099"/>
                </a:solidFill>
                <a:latin typeface="Comic Sans MS"/>
              </a:rPr>
              <a:t>     </a:t>
            </a:r>
            <a:r>
              <a:rPr b="1" lang="pt-PT" sz="4400" spc="-1" strike="noStrike">
                <a:solidFill>
                  <a:srgbClr val="cc0099"/>
                </a:solidFill>
                <a:latin typeface="Comic Sans MS"/>
              </a:rPr>
              <a:t>chegou...</a:t>
            </a:r>
            <a:r>
              <a:rPr b="1" lang="pt-BR" sz="4400" spc="-1" strike="noStrike">
                <a:solidFill>
                  <a:srgbClr val="cc0099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02:01:39Z</dcterms:created>
  <dc:creator/>
  <dc:description/>
  <dc:language>en-US</dc:language>
  <cp:lastModifiedBy>Raul Pereira</cp:lastModifiedBy>
  <dcterms:modified xsi:type="dcterms:W3CDTF">2008-10-16T16:48:48Z</dcterms:modified>
  <cp:revision>12</cp:revision>
  <dc:subject/>
  <dc:title>Diapositivo 1</dc:title>
</cp:coreProperties>
</file>