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PureRelaxation_1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983-913C-48DF-88B6-CB6460BA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28E-7EEA-4B7C-BC1D-4E75CA1D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8FB-6A53-4EFB-B254-FC351DF5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D30-C9AA-4B52-B160-2B957AD2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D02-CF27-45AE-A532-79E9808F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1AC-9A78-4C22-8F27-11AA327E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90A-0EE5-40A4-A143-6D3C69F4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924-642D-427B-82CA-F35566FF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B54-9C1C-4D2F-9BC0-B1E68B88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90E-B64E-4165-A5A5-3B811901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B95-3D9A-462E-B452-EC2E0B4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655-6260-4B26-ABE7-7EC5873C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763C-7DCA-47ED-B247-0D37D4DCAE5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reRelaxation_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powerpointsemanal-subscribe@yahoogrupos.com.br" TargetMode="External"/><Relationship Id="rId2" Type="http://schemas.openxmlformats.org/officeDocument/2006/relationships/hyperlink" Target="http://www.planetapowerpoint.com.br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9"/>
          <p:cNvSpPr/>
          <p:nvPr/>
        </p:nvSpPr>
        <p:spPr>
          <a:xfrm>
            <a:off x="1503360" y="103032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caeeca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4"/>
          <p:cNvSpPr/>
          <p:nvPr/>
        </p:nvSpPr>
        <p:spPr>
          <a:xfrm>
            <a:off x="1619280" y="5157720"/>
            <a:ext cx="648180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0"/>
          <p:cNvSpPr/>
          <p:nvPr/>
        </p:nvSpPr>
        <p:spPr>
          <a:xfrm>
            <a:off x="1835280" y="1341360"/>
            <a:ext cx="5789520" cy="388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23"/>
          <p:cNvSpPr txBox="1"/>
          <p:nvPr/>
        </p:nvSpPr>
        <p:spPr>
          <a:xfrm>
            <a:off x="755640" y="4365720"/>
            <a:ext cx="7848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5840">
                  <a:solidFill>
                    <a:srgbClr val="caeeca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 Black"/>
              </a:rPr>
              <a:t>Perdi o temor</a:t>
            </a:r>
            <a:endParaRPr b="0" lang="en-US" sz="1800" spc="1" strike="noStrike">
              <a:ln cap="rnd" w="15840">
                <a:solidFill>
                  <a:srgbClr val="caeeca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fade/>
    <p:sndAc>
      <p:stSnd>
        <p:snd r:embed="rId2" name="PureRelaxation_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1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5ead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0" y="47628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5eadf"/>
                </a:solidFill>
                <a:latin typeface="Georgia"/>
              </a:rPr>
              <a:t>Perdi o temor da competi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0" y="5813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5eadf"/>
                </a:solidFill>
                <a:latin typeface="Georgia"/>
              </a:rPr>
              <a:t>E assim ganhei o sabor das vitóri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5eadf"/>
                </a:solidFill>
                <a:latin typeface="Georgia"/>
              </a:rPr>
              <a:t>e os ensinamentos das derr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5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bdffb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333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bdffbd"/>
                </a:solidFill>
                <a:latin typeface="Georgia"/>
              </a:rPr>
              <a:t>Perdi o temor de desbravar caminhos conheci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0" y="5805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bdffbd"/>
                </a:solidFill>
                <a:latin typeface="Georgia"/>
              </a:rPr>
              <a:t>E assim ganhei novas visõ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bdffbd"/>
                </a:solidFill>
                <a:latin typeface="Georgia"/>
              </a:rPr>
              <a:t>E horizontes. E novos ami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0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404640"/>
            <a:ext cx="914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Perdi o temor de diz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minhas verdades frontal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0" y="5931000"/>
            <a:ext cx="914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E assim ganhei aque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que a mim eram sinceros e lea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6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dbffb7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333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dbffb7"/>
                </a:solidFill>
                <a:latin typeface="Georgia"/>
              </a:rPr>
              <a:t>Perdi o medo do dia de amanhã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0" y="5805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dbffb7"/>
                </a:solidFill>
                <a:latin typeface="Georgia"/>
              </a:rPr>
              <a:t>E assim ganhei o hoj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6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e1f4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47628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e1f4ff"/>
                </a:solidFill>
                <a:latin typeface="Georgia"/>
              </a:rPr>
              <a:t>Perdi a segurança das minhas "verdades únicas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0" y="587700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e1f4ff"/>
                </a:solidFill>
                <a:latin typeface="Georgia"/>
              </a:rPr>
              <a:t>E assim aprendi a ouvir os ou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5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d1e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0" y="260280"/>
            <a:ext cx="914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Liberei a força dos meus braç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para os abraços fraternos e cheios de carin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5805360"/>
            <a:ext cx="914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E assim senti multiplic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o imenso e doce poder do am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9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476280"/>
            <a:ext cx="9144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bde9ff"/>
                </a:solidFill>
                <a:latin typeface="Georgia"/>
              </a:rPr>
              <a:t>Perdi o temor da mor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5805360"/>
            <a:ext cx="9144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bde9ff"/>
                </a:solidFill>
                <a:latin typeface="Georgia"/>
              </a:rPr>
              <a:t>E assim ganhei a vid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bde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324000" y="404640"/>
            <a:ext cx="8496000" cy="6120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03280" y="4941720"/>
            <a:ext cx="64087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Georgia"/>
              </a:rPr>
              <a:t>Texto: Agnaldo Guimarã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Georgia"/>
              </a:rPr>
              <a:t>Imagens: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Georgia"/>
              </a:rPr>
              <a:t>Som: Llewellyn – Pure Relaxation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Georgia"/>
              </a:rPr>
              <a:t>Formatação: nair@dualnet.com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tângulo 4"/>
          <p:cNvSpPr/>
          <p:nvPr/>
        </p:nvSpPr>
        <p:spPr>
          <a:xfrm>
            <a:off x="974880" y="2349360"/>
            <a:ext cx="601164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ângulo 3"/>
          <p:cNvSpPr/>
          <p:nvPr/>
        </p:nvSpPr>
        <p:spPr>
          <a:xfrm>
            <a:off x="1882800" y="4808520"/>
            <a:ext cx="4559400" cy="460440"/>
          </a:xfrm>
          <a:prstGeom prst="rect">
            <a:avLst/>
          </a:prstGeom>
          <a:solidFill>
            <a:srgbClr val="0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917640" y="620640"/>
            <a:ext cx="763272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Receba duas mensagens semanais gratuitas, uma na segunda-feira e outra na sexta.  </a:t>
            </a: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asta enviar um e-mail para: </a:t>
            </a:r>
            <a:br>
              <a:rPr sz="2000"/>
            </a:br>
            <a:r>
              <a:rPr b="0" lang="pt-BR" sz="2000" spc="-1" strike="noStrike" u="sng">
                <a:solidFill>
                  <a:srgbClr val="009999"/>
                </a:solidFill>
                <a:uFillTx/>
                <a:latin typeface="Segoe UI Symbol"/>
                <a:ea typeface="Segoe UI Symbol"/>
                <a:hlinkClick r:id="rId1"/>
              </a:rPr>
              <a:t>powerpointsemanal-subscribe@yahoogrupos.com.br</a:t>
            </a: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Acesse: 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Segoe UI Symbol"/>
                <a:ea typeface="Segoe UI Symbol"/>
                <a:hlinkClick r:id="rId2"/>
              </a:rPr>
              <a:t>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0" y="40464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cc"/>
                </a:solidFill>
                <a:latin typeface="Georgia"/>
              </a:rPr>
              <a:t>Perdi o temor da chu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ff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0" y="5805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cc"/>
                </a:solidFill>
                <a:latin typeface="Georgia"/>
              </a:rPr>
              <a:t>E assim ganhei o frescor da águ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0" y="40464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a7ffa7"/>
                </a:solidFill>
                <a:latin typeface="Georgia"/>
              </a:rPr>
              <a:t>Perdi o temor do ve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a7ffa7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0" y="5805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a7ffa7"/>
                </a:solidFill>
                <a:latin typeface="Georgia"/>
              </a:rPr>
              <a:t>E assim ganhei o seu cantar nos f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0" y="40464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Perdi o temor do silên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0" y="5805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E assim ganhei momentos de pa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9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e1e1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0" y="333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e1e1ff"/>
                </a:solidFill>
                <a:latin typeface="Georgia"/>
              </a:rPr>
              <a:t>Perdi o temor do julgamento dos ou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0" y="5813280"/>
            <a:ext cx="914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e1e1ff"/>
                </a:solidFill>
                <a:latin typeface="Georgia"/>
              </a:rPr>
              <a:t>E assim ganhei caminh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e1e1ff"/>
                </a:solidFill>
                <a:latin typeface="Georgia"/>
              </a:rPr>
              <a:t>mais abertos de liber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2"/>
          <p:cNvSpPr/>
          <p:nvPr/>
        </p:nvSpPr>
        <p:spPr>
          <a:xfrm>
            <a:off x="1835280" y="1773360"/>
            <a:ext cx="5761080" cy="3671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d1e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0" y="333360"/>
            <a:ext cx="914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Perdi o temor de investir temp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em coisas sem importâ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5784840"/>
            <a:ext cx="914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E assim ganhei entardeceres, estrela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 </a:t>
            </a: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pedaços de luar, águas rebrilhando ao sol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1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0" y="333360"/>
            <a:ext cx="914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99"/>
                </a:solidFill>
                <a:latin typeface="Georgia"/>
              </a:rPr>
              <a:t>Perdi o temor de doar-me integralment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99"/>
                </a:solidFill>
                <a:latin typeface="Georgia"/>
              </a:rPr>
              <a:t>temendo sofrimentos e cicatriz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0" y="5805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99"/>
                </a:solidFill>
                <a:latin typeface="Georgia"/>
              </a:rPr>
              <a:t>E assim ganhe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99"/>
                </a:solidFill>
                <a:latin typeface="Georgia"/>
              </a:rPr>
              <a:t>a bendita multiplicação do meu t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9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e4c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0" y="40464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e4c9"/>
                </a:solidFill>
                <a:latin typeface="Georgia"/>
              </a:rPr>
              <a:t>Perdi o temor de me exp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0" y="5813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e4c9"/>
                </a:solidFill>
                <a:latin typeface="Georgia"/>
              </a:rPr>
              <a:t>E assim ganhei mais confianç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e4c9"/>
                </a:solidFill>
                <a:latin typeface="Georgia"/>
              </a:rPr>
              <a:t>no que sou e no que podem ser as pesso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10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0" y="40464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Perdi o apego às coisas materia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0" y="5805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E assim ganhei a alegria da simplic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0:39:12Z</dcterms:created>
  <dc:creator>Texto: Agnaldo Guimarães</dc:creator>
  <dc:description>Formatação: nair@dualnet.com.br. Imagens: Internet. Som: Llewellyn - Pure Relaxation_1</dc:description>
  <dc:language>en-US</dc:language>
  <cp:lastModifiedBy>Sergio Camargos</cp:lastModifiedBy>
  <dcterms:modified xsi:type="dcterms:W3CDTF">2013-06-17T17:49:06Z</dcterms:modified>
  <cp:revision>27</cp:revision>
  <dc:subject>Reflexão</dc:subject>
  <dc:title>Perdi o temor</dc:title>
</cp:coreProperties>
</file>