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Andre%20Gagnon%20-%20Love%20theme.wav" ContentType="audio/x-wav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5F0-23FC-4E56-9363-26F9B367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C58-DD4D-469E-B81F-C8018F3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ADE-B072-4F4F-AEB0-F2AA6BDD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FA4-D8F0-4E4A-8626-1503FE7A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502-7F3D-4230-919A-BFDEBCC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CD6-25B5-4EA1-A658-91DC1482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DC2-13D4-4F62-A0F9-6B9788ED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492-A542-4128-B03C-B8438DB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D74-BEB0-45A7-B3A2-DB5F7169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EC9-CBF1-4218-8DFC-08F585A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A72-0D7F-45DB-96A2-FE64C36F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6E9-31B7-41BB-961B-7A169EE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CBCE-5A3C-4169-9976-0A3D3E89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2e9eb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0" y="26028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250920" y="0"/>
            <a:ext cx="285480" cy="31622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9"/>
          <a:stretch/>
        </p:blipFill>
        <p:spPr>
          <a:xfrm>
            <a:off x="5981760" y="630864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8604360" y="3695760"/>
            <a:ext cx="285480" cy="3162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1692360" y="76500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2"/>
          <a:stretch/>
        </p:blipFill>
        <p:spPr>
          <a:xfrm>
            <a:off x="4284720" y="76500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3"/>
          <a:stretch/>
        </p:blipFill>
        <p:spPr>
          <a:xfrm>
            <a:off x="1763640" y="393372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4"/>
          <a:stretch/>
        </p:blipFill>
        <p:spPr>
          <a:xfrm>
            <a:off x="4356000" y="3933720"/>
            <a:ext cx="3162240" cy="28584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5"/>
          <a:stretch/>
        </p:blipFill>
        <p:spPr>
          <a:xfrm>
            <a:off x="1692360" y="836640"/>
            <a:ext cx="285840" cy="316224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6"/>
          <a:stretch/>
        </p:blipFill>
        <p:spPr>
          <a:xfrm>
            <a:off x="7308720" y="836640"/>
            <a:ext cx="285840" cy="31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audio" Target="../media/Andre%20Gagnon%20-%20Love%20theme.wav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2124000" y="429264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A DIFÍCIL ARTE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E RECOMEÇAR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UM AMOR VIVIDO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19640" y="5661000"/>
            <a:ext cx="2619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Letícia Thompson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0000" y="4581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É doloroso, mas é preciso se ter a honestidade de ter que admitir i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s que querem recuperar a vida que tinham estão no caminho errado, pois acabarão fatalmente no mesm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7640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8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4581360"/>
            <a:ext cx="7632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les deverão viver diferente de 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É preciso reconstruir uma nova história com os aprendizados da antiga, sem cobranças, sem pensar em quem  fez mal a qu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25780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458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começar sim, onde o amor se instalou e deixar para trás o que para trás fic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-viver juntos, sem reviver e reavivar o mal, as dores e mágoas pa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8000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7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6920" y="4437000"/>
            <a:ext cx="749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Cansamos de ouvir que o amor é uma flor que se cuida e até concordamos com i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ó nos esquecemos do que significa cuidar, estar presente, manter acesa para sempre aquela chama que motivou o estar ju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25780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2000"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4508640"/>
            <a:ext cx="7561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s que decidem recomeçar devem, pelo menos, ter aprendido essa lição e tirar partido di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 que tirem... porque onde há amor, tudo vale a p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61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6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0760" y="1125360"/>
            <a:ext cx="743760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Crédit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Texto: Letícia Thompson – A difícil arte de recomeçar um amor vi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6699"/>
                </a:solidFill>
                <a:uFillTx/>
                <a:latin typeface="Verdana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Música: André Gagnon – Love 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006699"/>
                </a:solidFill>
                <a:uFillTx/>
                <a:latin typeface="Verdana"/>
                <a:hlinkClick r:id="rId3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GRUPO SINTONI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Clique aqui para visitar nosso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99"/>
                </a:solidFill>
                <a:latin typeface="Verdana"/>
              </a:rPr>
              <a:t>Clique aqui para receber novas mensagens gratuitamen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4653000"/>
            <a:ext cx="7344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queles que decidem recomeçar  um amor vivido devem ser conscientes do que tal decisão imp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2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437000"/>
            <a:ext cx="763272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ntes de qualquer coisa, precisam ver com honestidade qual a motivação que os incita a continuarem ju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ão há filhos, família, amigos ou bens em comum que possa justificar tal decis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400720" cy="2895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6000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95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6920" y="4365720"/>
            <a:ext cx="749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ão podemos e nem devemos fazer nada baseando-nos nos outros e colocando sobre eles o peso da nossa felicidade ou infelic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e vivemos, vivemos por nós.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14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8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292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 única real e verdadeira motivação para um casal que decide recomeçar depois dos tropeços, traições, quedas, desvios é o am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Há amor? Sim, então vale a pe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e não há... melhor enfrentar a dura realidade de se ter que recomeçar em algum outro lugar,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4000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8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5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508640"/>
            <a:ext cx="7632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Só o amor pode justificar o desejo de uma vida juntos e a decisão de, não passar uma borracha no vivido, por que isso não existe, mas de aprender a construir uma nova história tirando lições dos erros pa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61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2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4365720"/>
            <a:ext cx="76327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Tudo o que se vive não se apaga, não deixa de existir por que decide-se recomeçar uma história com bases no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 que o coração sentiu e sofreu vai fazer parte para sempre da história do cas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443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 não existe culpado e inocente: um casal que se quebrou é porque ambas as partes falharam em algum po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Não entra vento pela janela se ela não estiver aberta ou se não houver uma bre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954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50000">
              <a:srgbClr val="006699"/>
            </a:gs>
            <a:gs pos="100000">
              <a:srgbClr val="00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429264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As pessoas descuidam das suas relações e depois querem justificar-se dizendo que um ou outro tentou estragar sua felic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O que acontece é que se a felicidade já não estivesse estragada, não haveria como outras pessoas ou coisas entrarem por essa fr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329080" cy="28810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 advTm="20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64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8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2:56:26Z</dcterms:created>
  <dc:creator/>
  <dc:description/>
  <dc:language>en-US</dc:language>
  <cp:lastModifiedBy>Beth Norling</cp:lastModifiedBy>
  <dcterms:modified xsi:type="dcterms:W3CDTF">2007-05-29T00:54:19Z</dcterms:modified>
  <cp:revision>30</cp:revision>
  <dc:subject/>
  <dc:title>A difícil arte de recomeçar um amor vivido - Letícia Thompson</dc:title>
</cp:coreProperties>
</file>