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igo-%20What%20a%20Friend%20We%20Have%20in%20Jesus%200.52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270-32FE-4160-9D59-6F869CB9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3EA-FBED-41C0-B420-112BD16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32E-F84C-4C8A-8C42-3E29B265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904-749E-4FBB-9366-D1218925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CEB-4B96-4247-8D68-48EA15AD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BD7-0F45-4CE2-B9DD-953FA21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4DF-CC78-43F7-B27B-3E3C0B40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856-E9C7-4C8B-A411-B388D4E2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638-4680-4FA0-A5A2-C65317F9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435-A348-4EDA-AE5C-F3FBF89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A92-C9F5-4912-B672-8CD30DF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017-49D3-4839-95CA-8F669AD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4B46-04AA-4B09-889D-D9C45C08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migo-%20What%20a%20Friend%20We%20Have%20in%20Jesus%200.5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%20preto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mulher%20no%20jardim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957240"/>
            <a:ext cx="9144000" cy="4943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304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Abrindo os Olh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1430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não há nada mais a ser dito, silencia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não há mais nada a ser feito, permitas apenas ser, apenas estar e fica na companhia do teu coração 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 este indicará o momento apropriado para agires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a lentidão dos dias acomodar tua vontade, 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nlaçando-te com os nós da intranqüilidade, descansa e  refaz tua energia. Não há pressa, a prioridade é que tu encontres novamente a tua essência para que tenhas presente em ti a alegria de ser e est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fade thruBlk="true"/>
    <p:sndAc>
      <p:stSnd>
        <p:snd r:embed="rId3" name="amigo-%20What%20a%20Friend%20We%20Have%20in%20Jesus%200.5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e%20na%20praia%20azu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83808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o vazio instalar-se em teu peito, dando-te a sensação de angústia e esgotamento, repara tua atenção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 encontra em ti mesmo a compreensão para este estado.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É necessário descobrirmo-nos em tais estados, para que estes não se transformem no desconhecido, no incontrolável.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Tudo pode ser mudado, existe sempre uma nova escolha para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lquer opção errada que tenhas fe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12193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ouvires do teu coração que não há nenhuma necessidade em te preocupares com a vida, saibas que ele apenas quer que compreendas que nada é tão sério a ponto de te perderes para sempre da tua divindade, ficando condenado a não ver mais a luz que é tua por natu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7621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Não te preocupes, se estiveres atento a ti mesmo verás que a sabedoria milenar está contigo, conduzindo-te momento a momento àquilo  que realmente necessitas viver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Confia e vai em teu caminho de paz. Nada é mais gratificante que ver alguém submergindo da escuridão apenas por haver acreditado na existência da luz. 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la sempre esteve presente..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ra só abrir os olh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791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87"/>
                </a:solidFill>
                <a:latin typeface="Times New Roman"/>
              </a:rPr>
              <a:t>(Desconheço a aut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5b587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22860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587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587"/>
                </a:solidFill>
                <a:latin typeface="Times New Roman"/>
              </a:rPr>
              <a:t>What A Friend We Have In J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5238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87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87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668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5b587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26708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5b587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600" spc="-1" strike="noStrike">
                <a:solidFill>
                  <a:srgbClr val="b5b587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3:28:01Z</dcterms:created>
  <dc:creator>ssoliver@terra.com.br </dc:creator>
  <dc:description/>
  <dc:language>en-US</dc:language>
  <cp:lastModifiedBy>Sérgio S. Oliver</cp:lastModifiedBy>
  <dcterms:modified xsi:type="dcterms:W3CDTF">2004-11-17T01:12:12Z</dcterms:modified>
  <cp:revision>4</cp:revision>
  <dc:subject/>
  <dc:title>Abrindo os Olhos pps</dc:title>
</cp:coreProperties>
</file>