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migo-%20What%20a%20Friend%20We%20Have%20in%20Jesus%200.52.wav" ContentType="audio/x-wav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3AD-47E9-4EFC-B345-511F3F39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3EF-CE16-4D2A-896E-D03A7146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89B-4336-48D6-9C31-476C9788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C1A-502D-4265-9921-49898534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2E0-5C1C-4705-A5D4-796E59D1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B0C-197D-4476-901B-C3A7BF7B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2B6-B623-4DCF-8618-D2826B83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ADE-162D-455B-9013-220FC480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E8F-453B-457C-8D26-731F3D96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4D5-700A-4D5C-850C-EBFD6496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2CA-1AE6-48EF-9976-6FA6F3A3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D13-2378-4B84-B02E-DD668287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853E-9D3A-4561-8983-833EFD75B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migo-%20What%20a%20Friend%20We%20Have%20in%20Jesus%200.5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undo%20preto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mulher%20no%20jardim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957240"/>
            <a:ext cx="9144000" cy="4943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304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Abrindo os Olho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143000"/>
            <a:ext cx="815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Quando não há nada mais a ser dito, silencia.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Quando não há mais nada a ser feito, permitas apenas ser, apenas estar e fica na companhia do teu coração 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e este indicará o momento apropriado para agires.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Quando a lentidão dos dias acomodar tua vontade, 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enlaçando-te com os nós da intranqüilidade, descansa e  refaz tua energia. Não há pressa, a prioridade é que tu encontres novamente a tua essência para que tenhas presente em ti a alegria de ser e esta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fade thruBlk="true"/>
    <p:sndAc>
      <p:stSnd>
        <p:snd r:embed="rId3" name="amigo-%20What%20a%20Friend%20We%20Have%20in%20Jesus%200.5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de%20na%20praia%20azu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83808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Quando o vazio instalar-se em teu peito, dando-te a sensação de angústia e esgotamento, repara tua atenção </a:t>
            </a:r>
            <a:br>
              <a:rPr sz="2800"/>
            </a:br>
            <a:r>
              <a:rPr b="0" lang="pt-BR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e encontra em ti mesmo a compreensão para este estado. </a:t>
            </a:r>
            <a:br>
              <a:rPr sz="2800"/>
            </a:br>
            <a:r>
              <a:rPr b="0" lang="pt-BR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É necessário descobrirmo-nos em tais estados, para que estes não se transformem no desconhecido, no incontrolável. </a:t>
            </a:r>
            <a:br>
              <a:rPr sz="2800"/>
            </a:br>
            <a:r>
              <a:rPr b="0" lang="pt-BR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Tudo pode ser mudado, existe sempre uma nova escolha para </a:t>
            </a:r>
            <a:br>
              <a:rPr sz="2800"/>
            </a:br>
            <a:r>
              <a:rPr b="0" lang="pt-BR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qualquer opção errada que tenhas fe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TTC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121932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Quando ouvires do teu coração que não há nenhuma necessidade em te preocupares com a vida, saibas que ele apenas quer que compreendas que nada é tão sério a ponto de te perderes para sempre da tua divindade, ficando condenado a não ver mais a luz que é tua por natur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de1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76212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Não te preocupes, se estiveres atento a ti mesmo verás que a sabedoria milenar está contigo, conduzindo-te momento a momento àquilo  que realmente necessitas viver.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Confia e vai em teu caminho de paz. Nada é mais gratificante que ver alguém submergindo da escuridão apenas por haver acreditado na existência da luz. 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Ela sempre esteve presente...</a:t>
            </a:r>
            <a:br>
              <a:rPr sz="2800"/>
            </a:br>
            <a:r>
              <a:rPr b="0" lang="en-US" sz="2800" spc="-1" strike="noStrike">
                <a:solidFill>
                  <a:srgbClr val="b5b587"/>
                </a:solidFill>
                <a:latin typeface="Times New Roman"/>
                <a:ea typeface="Times New Roman"/>
              </a:rPr>
              <a:t>Era só abrir os olh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5791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587"/>
                </a:solidFill>
                <a:latin typeface="Times New Roman"/>
              </a:rPr>
              <a:t>(Desconheço a aut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5b587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22860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5b587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5b587"/>
                </a:solidFill>
                <a:latin typeface="Times New Roman"/>
              </a:rPr>
              <a:t>What A Friend We Have In Je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15238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587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587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668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5b587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267080"/>
            <a:ext cx="70866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5b587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leticiathompson.net</a:t>
            </a:r>
            <a:r>
              <a:rPr b="0" lang="pt-BR" sz="3600" spc="-1" strike="noStrike">
                <a:solidFill>
                  <a:srgbClr val="b5b587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23:28:01Z</dcterms:created>
  <dc:creator>ssoliver@terra.com.br </dc:creator>
  <dc:description/>
  <dc:language>en-US</dc:language>
  <cp:lastModifiedBy>Sérgio S. Oliver</cp:lastModifiedBy>
  <dcterms:modified xsi:type="dcterms:W3CDTF">2004-11-17T01:12:12Z</dcterms:modified>
  <cp:revision>4</cp:revision>
  <dc:subject/>
  <dc:title>Abrindo os Olhos pps</dc:title>
</cp:coreProperties>
</file>