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'm%20alive-Celine%20Dion.wav" ContentType="audio/x-wav"/>
  <Override PartName="/ppt/media/image5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07D-98B0-4A2C-81A7-E7EBA62D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CFB-DCB4-47EE-AE11-0045FE9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D31-5B84-4A7A-B1F0-0D22AF29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026-2AA1-45E5-A5E8-20111C22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D9D-D15D-49FF-BA4C-0AC775B2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74C-0638-425D-A680-02898E7E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E1E-80F9-41F1-B6B2-2E58AAFE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84B-523D-42E1-A0F3-5A19CF9E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825-2417-4DA8-BE8A-4E70CA63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6DC-AD47-4B0E-AFC4-18D705D2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614-3DAF-4ADF-A57E-EBD9241A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180-86A1-4129-A27F-7CBE2D15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2F27-881C-4422-9F4E-4E7FA03B81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I&apos;m%20alive-Celine%20Dion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meusonho.trix.net/pps/sergio.htm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leticiathompson.net/minhas_mensagens_em_pps.htm" TargetMode="External"/><Relationship Id="rId5" Type="http://schemas.openxmlformats.org/officeDocument/2006/relationships/hyperlink" Target="http://www.leticiathompson.net/minhas_mensagens_em_pps.htm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609480"/>
            <a:ext cx="70196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Amélia de Hoje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5181480"/>
            <a:ext cx="4000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Letícia Thompson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82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  <p:sndAc>
      <p:stSnd>
        <p:snd r:embed="rId6" name="I'm%20alive-Celine%20D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b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56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33520"/>
            <a:ext cx="7696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5b0bf"/>
                </a:solidFill>
                <a:latin typeface="Lucida Handwriting"/>
                <a:ea typeface="Arial"/>
              </a:rPr>
              <a:t>Amélia que era mulher de verdade. Eu sou apenas uma mulher. E gostaria de reinvindicar o direito de sê-lo. Sou vaidosa. Uso baton pra dar cor à minha vida. Maquiagem para parecer mais bonita. Não faço tudo com perfeição; alguns fios de cabelo branco, apesar de todas as tentativas para evitá-los, aparecem. Uso cremes pra retardar o envelhecimento e se à noite tenho dores de cabeça é porque me sinto cans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0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7600"/>
                            </p:stCondLst>
                            <p:childTnLst>
                              <p:par>
                                <p:cTn id="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762120"/>
            <a:ext cx="685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00"/>
                </a:solidFill>
                <a:latin typeface="Lucida Handwriting"/>
                <a:ea typeface="Arial"/>
              </a:rPr>
              <a:t>Nem sempre estou disponível e pronta e cometo erros. Me engano, como qualquer outro ser humano normal. Gosto de roupas, sapatos, jóias, perfumes e flores. Um minuto de atenção me faz ganhar todo o dia. Sou sensível, fraca, frágil. Sou forte quando preciso. Minha única busca: o amor e tudo o que dele resulta: crianças, trabalho, dia-a-dia e felic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80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6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685800"/>
            <a:ext cx="7391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6b2"/>
                </a:solidFill>
                <a:latin typeface="Lucida Handwriting"/>
                <a:ea typeface="Arial"/>
              </a:rPr>
              <a:t>Mas vou além: quero segurança, andar de mãos dadas, ser pega no colo e ser chamada de rainha. Minhas lágrimas me traem quando menos espero. E desespero. Detesto a solidão, a falta de atenção. Sou impaciente e não gosto de esperar. Não quero ser objeto e nem ter dono. Sou capaz, por mim mesma, amando, de me entregar de todo e ser fiel. Sem amarras, simplesmente por a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82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8200"/>
                            </p:stCondLst>
                            <p:childTnLst>
                              <p:par>
                                <p:cTn id="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a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762120"/>
            <a:ext cx="7086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ab17"/>
                </a:solidFill>
                <a:latin typeface="Lucida Handwriting"/>
                <a:ea typeface="Arial"/>
              </a:rPr>
              <a:t>Posso ferir, como todas as rosas. Mas perfumo também, dou encanto. Ilumino o amor como só as mulheres sabem fazer. Compenso, se assim posso dizer. Há sempre um preço para a felicidade e tocar nela é aceitar pagar esse preço. Sou uma Amélia dos tempos modernos. Mais independente, sabendo o que quer. E o que quero é ser eu mes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4600"/>
                            </p:stCondLst>
                            <p:childTnLst>
                              <p:par>
                                <p:cTn id="6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14600" y="30492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e5e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ff"/>
                </a:solidFill>
                <a:latin typeface="Times New Roman"/>
              </a:rPr>
              <a:t>Celine Dion – I’m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523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60"/>
                </a:solidFill>
                <a:latin typeface="Signature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6668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4c4a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990720" y="4724280"/>
            <a:ext cx="1904760" cy="76212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856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/>
          </p:cNvPr>
          <p:cNvSpPr/>
          <p:nvPr/>
        </p:nvSpPr>
        <p:spPr>
          <a:xfrm>
            <a:off x="3581280" y="4572000"/>
            <a:ext cx="2057400" cy="1066680"/>
          </a:xfrm>
          <a:prstGeom prst="flowChartAlternateProcess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endshow"/>
          </p:cNvPr>
          <p:cNvSpPr/>
          <p:nvPr/>
        </p:nvSpPr>
        <p:spPr>
          <a:xfrm>
            <a:off x="6248520" y="4724280"/>
            <a:ext cx="1904760" cy="762120"/>
          </a:xfrm>
          <a:prstGeom prst="flowChartAlternateProcess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5856"/>
                </a:solidFill>
                <a:uFillTx/>
                <a:latin typeface="Times New Roman"/>
              </a:rPr>
              <a:t>S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02a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3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8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3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04:03:00Z</dcterms:created>
  <dc:creator>ssoliver@terra.com.br </dc:creator>
  <dc:description>Visite o Site: www.meusonho.trix.net/pps/sergio.htm</dc:description>
  <dc:language>en-US</dc:language>
  <cp:lastModifiedBy>Leticia Thompson</cp:lastModifiedBy>
  <dcterms:modified xsi:type="dcterms:W3CDTF">2004-10-27T18:26:36Z</dcterms:modified>
  <cp:revision>10</cp:revision>
  <dc:subject>PPS</dc:subject>
  <dc:title>Amélia de hoje</dc:title>
</cp:coreProperties>
</file>