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Ernesto%20Cortazar%20-%20Grandpa.wav" ContentType="audio/x-wav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4E2-1E2B-450A-B19D-3977534D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E56-1198-406B-AE20-60BB405F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D11-2A77-4E16-B137-E3D570B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D7C-E29B-4672-BFAC-0B51F298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88C-3C08-4463-9B64-9452201A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D7-60A4-471D-9114-BEA4B63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2DD-BA05-4DE5-AD25-83DF43E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3DB-3C40-4BFC-B8AA-703EF49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6F6-988B-471B-AA38-C96F352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5AE-3CC0-4662-93D6-E9F2E36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6C3-CD7C-45DB-96F7-ECAB4D0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88C-86C4-4B39-A4FC-84C972D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5B0A-2B4A-4E82-93CA-16641EC8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audio" Target="../media/Ernesto%20Cortazar%20-%20Grandpa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hyperlink" Target="http://www.leticiathompson.net/" TargetMode="External"/><Relationship Id="rId16" Type="http://schemas.openxmlformats.org/officeDocument/2006/relationships/hyperlink" Target="mailto:bethnorling@globo.com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920" y="2781360"/>
            <a:ext cx="7058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48486c">
                      <a:alpha val="80000"/>
                    </a:srgbClr>
                  </a:outerShdw>
                </a:effectLst>
                <a:latin typeface="Arial Black"/>
              </a:rPr>
              <a:t>NINGUÉM É INDISPENSÁVEL</a:t>
            </a:r>
            <a:endParaRPr b="0" i="1" lang="en-US" sz="4000" spc="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48486c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43280" y="3789360"/>
            <a:ext cx="3467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48486c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48486c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989000"/>
            <a:ext cx="62834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Grand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6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4076640"/>
            <a:ext cx="7293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certo que ninguém é indispensável na vida. Através da história vemos quantos atravessaram, partiram, alguns deixaram grandes marcas, outros apenas simples pisadas, mas toda a humanidade sobreviveu mesmo quando os grandes nomes parti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4365720"/>
            <a:ext cx="729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fato de não sermos indispensáveis, porém, não implica não sermos necessários e importantes. Uma gota de água é sempre uma gota de água a mais, uma pétala, um meio a mais para aumentar a beleza e formosura de uma f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4149720"/>
            <a:ext cx="729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um é, na sua simplicidade, sua maneira grande ou pequena de contribuir com a história, um pedacinho de vida útil na construção do mundo. Nosso corpo é, da cabeça aos pés, um todo formado de pequenas partes necessárias umas às ou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4724280"/>
            <a:ext cx="7149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tos de nós não evolui no trabalho simplesmente porque pensa que o que faz não tem importância ou é menos importante que seu vizinho, amigo ou che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00000" y="400536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ra, a importância de um trabalho, seja ele qual for, está no valor que damos a ele. O mundo precisa de toda contribuição para continuar a caminhar. Além disso, nossa utilidade está não só no trabalho que produzimos, mas naquilo que podemos dar de nós como sere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285264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esus trabalhou como carpinteiro e certamente produziu coisas materiais, mas a herança que nos deixou na construção humana e espiritual é incomparável a qualquer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3860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profissão é bela, quer seja ela diplomada da universidade ou d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função é importante para que o mundo possua significado. Toda pessoa é única e o espaço que ela ocupa é só dela. Toda pessoa tem de si a dar, sem se perder um milímetro nessa doação, muito pelo contr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480240 w 8064720"/>
              <a:gd name="textAreaRight" fmla="*/ 7584480 w 8064720"/>
              <a:gd name="textAreaTop" fmla="*/ 480240 h 5759280"/>
              <a:gd name="textAreaBottom" fmla="*/ 5279040 h 5759280"/>
            </a:gdLst>
            <a:ahLst/>
            <a:rect l="textAreaLeft" t="textAreaTop" r="textAreaRight" b="textAreaBottom"/>
            <a:pathLst>
              <a:path w="30246" h="21600">
                <a:moveTo>
                  <a:pt x="2548" y="0"/>
                </a:moveTo>
                <a:arcTo wR="2548" hR="2548" stAng="0" swAng="5400000"/>
                <a:lnTo>
                  <a:pt x="0" y="19052"/>
                </a:lnTo>
                <a:arcTo wR="2548" hR="2548" stAng="16200000" swAng="5400000"/>
                <a:lnTo>
                  <a:pt x="27698" y="21600"/>
                </a:lnTo>
                <a:arcTo wR="2548" hR="2548" stAng="10800000" swAng="5400000"/>
                <a:lnTo>
                  <a:pt x="30246" y="2548"/>
                </a:lnTo>
                <a:arcTo wR="2548" hR="2548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463320 w 7921440"/>
              <a:gd name="textAreaRight" fmla="*/ 7458120 w 7921440"/>
              <a:gd name="textAreaTop" fmla="*/ 463320 h 5616720"/>
              <a:gd name="textAreaBottom" fmla="*/ 5153400 h 5616720"/>
            </a:gdLst>
            <a:ahLst/>
            <a:rect l="textAreaLeft" t="textAreaTop" r="textAreaRight" b="textAreaBottom"/>
            <a:pathLst>
              <a:path w="30463" h="21600">
                <a:moveTo>
                  <a:pt x="2521" y="0"/>
                </a:moveTo>
                <a:arcTo wR="2521" hR="2521" stAng="0" swAng="5400000"/>
                <a:lnTo>
                  <a:pt x="0" y="19079"/>
                </a:lnTo>
                <a:arcTo wR="2521" hR="2521" stAng="16200000" swAng="5400000"/>
                <a:lnTo>
                  <a:pt x="27942" y="21600"/>
                </a:lnTo>
                <a:arcTo wR="2521" hR="2521" stAng="10800000" swAng="5400000"/>
                <a:lnTo>
                  <a:pt x="30463" y="2521"/>
                </a:lnTo>
                <a:arcTo wR="2521" hR="2521" stAng="5400000" swAng="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083360" y="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5025960"/>
            <a:ext cx="2060640" cy="1832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311960" y="4797360"/>
            <a:ext cx="1832040" cy="2060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8001000" y="556272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8001000" y="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0" y="5562720"/>
            <a:ext cx="1143000" cy="1295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00000" y="429264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848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... não somos em absoluto indispensáveis à vida, mas, definitivamente, somos imprescindíveis na história do mundo se sabemos dar de nós de maneira gene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ilimi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9:02:28Z</dcterms:created>
  <dc:creator>Beth Norling</dc:creator>
  <dc:description/>
  <dc:language>en-US</dc:language>
  <cp:lastModifiedBy>Beth Norling</cp:lastModifiedBy>
  <dcterms:modified xsi:type="dcterms:W3CDTF">2008-03-28T20:44:18Z</dcterms:modified>
  <cp:revision>14</cp:revision>
  <dc:subject/>
  <dc:title>Ninguem_e_indispensavel</dc:title>
</cp:coreProperties>
</file>