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Ernesto%20Cortazar%20-%20Grandpa.wav" ContentType="audio/x-wav"/>
  <Override PartName="/ppt/media/image13.jpeg" ContentType="image/jpeg"/>
  <Override PartName="/ppt/media/image4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8C5F-2297-4520-A863-E1B559800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1DCA-7370-4887-90AC-C05088DC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639A-4497-458B-9F43-15B9CA2BF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CE13-BD11-4942-8944-0564A1F1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440A-B7F6-43E5-902A-C6D22D80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4F5B-5039-41F9-A4D9-4C05FF58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CE8E-B0BB-478D-A011-30E84440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F431-F082-4E4E-BE56-FBBABDB8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D3B7-ACC4-4034-A7C4-A5F6AC05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BA05-3832-4D06-AD77-1B937E2F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C53C-9050-4B6D-BFD4-2B290A9B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639F-F508-459C-A4BF-A8572403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F5F4-B711-4F5F-B2FC-D284E0FE4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audio" Target="../media/Ernesto%20Cortazar%20-%20Grandpa.wav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hyperlink" Target="http://www.leticiathompson.net/" TargetMode="External"/><Relationship Id="rId16" Type="http://schemas.openxmlformats.org/officeDocument/2006/relationships/hyperlink" Target="mailto:bethnorling@globo.com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9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0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1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2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4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5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6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480240 w 8064720"/>
              <a:gd name="textAreaRight" fmla="*/ 7584480 w 8064720"/>
              <a:gd name="textAreaTop" fmla="*/ 480240 h 5759280"/>
              <a:gd name="textAreaBottom" fmla="*/ 5279040 h 5759280"/>
            </a:gdLst>
            <a:ahLst/>
            <a:rect l="textAreaLeft" t="textAreaTop" r="textAreaRight" b="textAreaBottom"/>
            <a:pathLst>
              <a:path w="30246" h="21600">
                <a:moveTo>
                  <a:pt x="2548" y="0"/>
                </a:moveTo>
                <a:arcTo wR="2548" hR="2548" stAng="0" swAng="5400000"/>
                <a:lnTo>
                  <a:pt x="0" y="19052"/>
                </a:lnTo>
                <a:arcTo wR="2548" hR="2548" stAng="16200000" swAng="5400000"/>
                <a:lnTo>
                  <a:pt x="27698" y="21600"/>
                </a:lnTo>
                <a:arcTo wR="2548" hR="2548" stAng="10800000" swAng="5400000"/>
                <a:lnTo>
                  <a:pt x="30246" y="2548"/>
                </a:lnTo>
                <a:arcTo wR="2548" hR="2548" stAng="5400000" swAng="5400000"/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463320 w 7921440"/>
              <a:gd name="textAreaRight" fmla="*/ 7458120 w 7921440"/>
              <a:gd name="textAreaTop" fmla="*/ 463320 h 5616720"/>
              <a:gd name="textAreaBottom" fmla="*/ 5153400 h 5616720"/>
            </a:gdLst>
            <a:ahLst/>
            <a:rect l="textAreaLeft" t="textAreaTop" r="textAreaRight" b="textAreaBottom"/>
            <a:pathLst>
              <a:path w="30463" h="21600">
                <a:moveTo>
                  <a:pt x="2521" y="0"/>
                </a:moveTo>
                <a:arcTo wR="2521" hR="2521" stAng="0" swAng="5400000"/>
                <a:lnTo>
                  <a:pt x="0" y="19079"/>
                </a:lnTo>
                <a:arcTo wR="2521" hR="2521" stAng="16200000" swAng="5400000"/>
                <a:lnTo>
                  <a:pt x="27942" y="21600"/>
                </a:lnTo>
                <a:arcTo wR="2521" hR="2521" stAng="10800000" swAng="5400000"/>
                <a:lnTo>
                  <a:pt x="30463" y="2521"/>
                </a:lnTo>
                <a:arcTo wR="2521" hR="2521" stAng="5400000" swAng="5400000"/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832040" cy="2060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7083360" y="0"/>
            <a:ext cx="2060640" cy="1832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0" y="5025960"/>
            <a:ext cx="2060640" cy="1832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7311960" y="4797360"/>
            <a:ext cx="1832040" cy="2060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8001000" y="556272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8001000" y="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0" y="5562720"/>
            <a:ext cx="1143000" cy="1295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042920" y="2781360"/>
            <a:ext cx="7058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0">
                  <a:noFill/>
                </a:ln>
                <a:blipFill rotWithShape="0">
                  <a:blip r:embed="rId1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48486c">
                      <a:alpha val="80000"/>
                    </a:srgbClr>
                  </a:outerShdw>
                </a:effectLst>
                <a:latin typeface="Arial Black"/>
              </a:rPr>
              <a:t>NINGUÉM É INDISPENSÁVEL</a:t>
            </a:r>
            <a:endParaRPr b="0" i="1" lang="en-US" sz="4000" spc="1" strike="noStrike">
              <a:ln w="0">
                <a:noFill/>
              </a:ln>
              <a:blipFill rotWithShape="0">
                <a:blip r:embed="rId1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48486c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843280" y="3789360"/>
            <a:ext cx="34671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blipFill rotWithShape="0">
                  <a:blip r:embed="rId17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48486c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800" spc="1" strike="noStrike">
              <a:ln w="0">
                <a:noFill/>
              </a:ln>
              <a:blipFill rotWithShape="0">
                <a:blip r:embed="rId18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48486c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480240 w 8064720"/>
              <a:gd name="textAreaRight" fmla="*/ 7584480 w 8064720"/>
              <a:gd name="textAreaTop" fmla="*/ 480240 h 5759280"/>
              <a:gd name="textAreaBottom" fmla="*/ 5279040 h 5759280"/>
            </a:gdLst>
            <a:ahLst/>
            <a:rect l="textAreaLeft" t="textAreaTop" r="textAreaRight" b="textAreaBottom"/>
            <a:pathLst>
              <a:path w="30246" h="21600">
                <a:moveTo>
                  <a:pt x="2548" y="0"/>
                </a:moveTo>
                <a:arcTo wR="2548" hR="2548" stAng="0" swAng="5400000"/>
                <a:lnTo>
                  <a:pt x="0" y="19052"/>
                </a:lnTo>
                <a:arcTo wR="2548" hR="2548" stAng="16200000" swAng="5400000"/>
                <a:lnTo>
                  <a:pt x="27698" y="21600"/>
                </a:lnTo>
                <a:arcTo wR="2548" hR="2548" stAng="10800000" swAng="5400000"/>
                <a:lnTo>
                  <a:pt x="30246" y="2548"/>
                </a:lnTo>
                <a:arcTo wR="2548" hR="2548" stAng="5400000" swAng="5400000"/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463320 w 7921440"/>
              <a:gd name="textAreaRight" fmla="*/ 7458120 w 7921440"/>
              <a:gd name="textAreaTop" fmla="*/ 463320 h 5616720"/>
              <a:gd name="textAreaBottom" fmla="*/ 5153400 h 5616720"/>
            </a:gdLst>
            <a:ahLst/>
            <a:rect l="textAreaLeft" t="textAreaTop" r="textAreaRight" b="textAreaBottom"/>
            <a:pathLst>
              <a:path w="30463" h="21600">
                <a:moveTo>
                  <a:pt x="2521" y="0"/>
                </a:moveTo>
                <a:arcTo wR="2521" hR="2521" stAng="0" swAng="5400000"/>
                <a:lnTo>
                  <a:pt x="0" y="19079"/>
                </a:lnTo>
                <a:arcTo wR="2521" hR="2521" stAng="16200000" swAng="5400000"/>
                <a:lnTo>
                  <a:pt x="27942" y="21600"/>
                </a:lnTo>
                <a:arcTo wR="2521" hR="2521" stAng="10800000" swAng="5400000"/>
                <a:lnTo>
                  <a:pt x="30463" y="2521"/>
                </a:lnTo>
                <a:arcTo wR="2521" hR="2521" stAng="5400000" swAng="5400000"/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832040" cy="2060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7083360" y="0"/>
            <a:ext cx="2060640" cy="18320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9"/>
          <a:stretch/>
        </p:blipFill>
        <p:spPr>
          <a:xfrm>
            <a:off x="0" y="5025960"/>
            <a:ext cx="2060640" cy="18320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0"/>
          <a:stretch/>
        </p:blipFill>
        <p:spPr>
          <a:xfrm>
            <a:off x="7311960" y="4797360"/>
            <a:ext cx="1832040" cy="2060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2"/>
          <a:stretch/>
        </p:blipFill>
        <p:spPr>
          <a:xfrm>
            <a:off x="8001000" y="556272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3"/>
          <a:stretch/>
        </p:blipFill>
        <p:spPr>
          <a:xfrm>
            <a:off x="8001000" y="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4"/>
          <a:stretch/>
        </p:blipFill>
        <p:spPr>
          <a:xfrm>
            <a:off x="0" y="5562720"/>
            <a:ext cx="1143000" cy="1295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403280" y="1989000"/>
            <a:ext cx="628344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xto: Letícia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  <a:hlinkClick r:id="rId15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Música: Ernesto Cortazar - Grandp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  <a:hlinkClick r:id="rId16"/>
              </a:rPr>
              <a:t>bethnorling@globo.com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480240 w 8064720"/>
              <a:gd name="textAreaRight" fmla="*/ 7584480 w 8064720"/>
              <a:gd name="textAreaTop" fmla="*/ 480240 h 5759280"/>
              <a:gd name="textAreaBottom" fmla="*/ 5279040 h 5759280"/>
            </a:gdLst>
            <a:ahLst/>
            <a:rect l="textAreaLeft" t="textAreaTop" r="textAreaRight" b="textAreaBottom"/>
            <a:pathLst>
              <a:path w="30246" h="21600">
                <a:moveTo>
                  <a:pt x="2548" y="0"/>
                </a:moveTo>
                <a:arcTo wR="2548" hR="2548" stAng="0" swAng="5400000"/>
                <a:lnTo>
                  <a:pt x="0" y="19052"/>
                </a:lnTo>
                <a:arcTo wR="2548" hR="2548" stAng="16200000" swAng="5400000"/>
                <a:lnTo>
                  <a:pt x="27698" y="21600"/>
                </a:lnTo>
                <a:arcTo wR="2548" hR="2548" stAng="10800000" swAng="5400000"/>
                <a:lnTo>
                  <a:pt x="30246" y="2548"/>
                </a:lnTo>
                <a:arcTo wR="2548" hR="2548" stAng="5400000" swAng="5400000"/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463320 w 7921440"/>
              <a:gd name="textAreaRight" fmla="*/ 7458120 w 7921440"/>
              <a:gd name="textAreaTop" fmla="*/ 463320 h 5616720"/>
              <a:gd name="textAreaBottom" fmla="*/ 5153400 h 5616720"/>
            </a:gdLst>
            <a:ahLst/>
            <a:rect l="textAreaLeft" t="textAreaTop" r="textAreaRight" b="textAreaBottom"/>
            <a:pathLst>
              <a:path w="30463" h="21600">
                <a:moveTo>
                  <a:pt x="2521" y="0"/>
                </a:moveTo>
                <a:arcTo wR="2521" hR="2521" stAng="0" swAng="5400000"/>
                <a:lnTo>
                  <a:pt x="0" y="19079"/>
                </a:lnTo>
                <a:arcTo wR="2521" hR="2521" stAng="16200000" swAng="5400000"/>
                <a:lnTo>
                  <a:pt x="27942" y="21600"/>
                </a:lnTo>
                <a:arcTo wR="2521" hR="2521" stAng="10800000" swAng="5400000"/>
                <a:lnTo>
                  <a:pt x="30463" y="2521"/>
                </a:lnTo>
                <a:arcTo wR="2521" hR="2521" stAng="5400000" swAng="5400000"/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832040" cy="2060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7083360" y="0"/>
            <a:ext cx="2060640" cy="1832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0" y="5025960"/>
            <a:ext cx="2060640" cy="1832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7311960" y="4797360"/>
            <a:ext cx="1832040" cy="2060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2"/>
          <a:stretch/>
        </p:blipFill>
        <p:spPr>
          <a:xfrm>
            <a:off x="8001000" y="556272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8001000" y="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/>
          <a:stretch/>
        </p:blipFill>
        <p:spPr>
          <a:xfrm>
            <a:off x="0" y="5562720"/>
            <a:ext cx="1143000" cy="1295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00000" y="4076640"/>
            <a:ext cx="729324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848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É certo que ninguém é indispensável na vida. Através da história vemos quantos atravessaram, partiram, alguns deixaram grandes marcas, outros apenas simples pisadas, mas toda a humanidade sobreviveu mesmo quando os grandes nomes parti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split dir="out" orient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480240 w 8064720"/>
              <a:gd name="textAreaRight" fmla="*/ 7584480 w 8064720"/>
              <a:gd name="textAreaTop" fmla="*/ 480240 h 5759280"/>
              <a:gd name="textAreaBottom" fmla="*/ 5279040 h 5759280"/>
            </a:gdLst>
            <a:ahLst/>
            <a:rect l="textAreaLeft" t="textAreaTop" r="textAreaRight" b="textAreaBottom"/>
            <a:pathLst>
              <a:path w="30246" h="21600">
                <a:moveTo>
                  <a:pt x="2548" y="0"/>
                </a:moveTo>
                <a:arcTo wR="2548" hR="2548" stAng="0" swAng="5400000"/>
                <a:lnTo>
                  <a:pt x="0" y="19052"/>
                </a:lnTo>
                <a:arcTo wR="2548" hR="2548" stAng="16200000" swAng="5400000"/>
                <a:lnTo>
                  <a:pt x="27698" y="21600"/>
                </a:lnTo>
                <a:arcTo wR="2548" hR="2548" stAng="10800000" swAng="5400000"/>
                <a:lnTo>
                  <a:pt x="30246" y="2548"/>
                </a:lnTo>
                <a:arcTo wR="2548" hR="2548" stAng="5400000" swAng="5400000"/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463320 w 7921440"/>
              <a:gd name="textAreaRight" fmla="*/ 7458120 w 7921440"/>
              <a:gd name="textAreaTop" fmla="*/ 463320 h 5616720"/>
              <a:gd name="textAreaBottom" fmla="*/ 5153400 h 5616720"/>
            </a:gdLst>
            <a:ahLst/>
            <a:rect l="textAreaLeft" t="textAreaTop" r="textAreaRight" b="textAreaBottom"/>
            <a:pathLst>
              <a:path w="30463" h="21600">
                <a:moveTo>
                  <a:pt x="2521" y="0"/>
                </a:moveTo>
                <a:arcTo wR="2521" hR="2521" stAng="0" swAng="5400000"/>
                <a:lnTo>
                  <a:pt x="0" y="19079"/>
                </a:lnTo>
                <a:arcTo wR="2521" hR="2521" stAng="16200000" swAng="5400000"/>
                <a:lnTo>
                  <a:pt x="27942" y="21600"/>
                </a:lnTo>
                <a:arcTo wR="2521" hR="2521" stAng="10800000" swAng="5400000"/>
                <a:lnTo>
                  <a:pt x="30463" y="2521"/>
                </a:lnTo>
                <a:arcTo wR="2521" hR="2521" stAng="5400000" swAng="5400000"/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832040" cy="2060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7083360" y="0"/>
            <a:ext cx="2060640" cy="1832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0" y="5025960"/>
            <a:ext cx="2060640" cy="18320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0"/>
          <a:stretch/>
        </p:blipFill>
        <p:spPr>
          <a:xfrm>
            <a:off x="7311960" y="4797360"/>
            <a:ext cx="1832040" cy="2060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2"/>
          <a:stretch/>
        </p:blipFill>
        <p:spPr>
          <a:xfrm>
            <a:off x="8001000" y="556272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3"/>
          <a:stretch/>
        </p:blipFill>
        <p:spPr>
          <a:xfrm>
            <a:off x="8001000" y="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4"/>
          <a:stretch/>
        </p:blipFill>
        <p:spPr>
          <a:xfrm>
            <a:off x="0" y="5562720"/>
            <a:ext cx="1143000" cy="1295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71640" y="4365720"/>
            <a:ext cx="729288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848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 fato de não sermos indispensáveis, porém, não implica não sermos necessários e importantes. Uma gota de água é sempre uma gota de água a mais, uma pétala, um meio a mais para aumentar a beleza e formosura de uma f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split dir="out" orient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480240 w 8064720"/>
              <a:gd name="textAreaRight" fmla="*/ 7584480 w 8064720"/>
              <a:gd name="textAreaTop" fmla="*/ 480240 h 5759280"/>
              <a:gd name="textAreaBottom" fmla="*/ 5279040 h 5759280"/>
            </a:gdLst>
            <a:ahLst/>
            <a:rect l="textAreaLeft" t="textAreaTop" r="textAreaRight" b="textAreaBottom"/>
            <a:pathLst>
              <a:path w="30246" h="21600">
                <a:moveTo>
                  <a:pt x="2548" y="0"/>
                </a:moveTo>
                <a:arcTo wR="2548" hR="2548" stAng="0" swAng="5400000"/>
                <a:lnTo>
                  <a:pt x="0" y="19052"/>
                </a:lnTo>
                <a:arcTo wR="2548" hR="2548" stAng="16200000" swAng="5400000"/>
                <a:lnTo>
                  <a:pt x="27698" y="21600"/>
                </a:lnTo>
                <a:arcTo wR="2548" hR="2548" stAng="10800000" swAng="5400000"/>
                <a:lnTo>
                  <a:pt x="30246" y="2548"/>
                </a:lnTo>
                <a:arcTo wR="2548" hR="2548" stAng="5400000" swAng="5400000"/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463320 w 7921440"/>
              <a:gd name="textAreaRight" fmla="*/ 7458120 w 7921440"/>
              <a:gd name="textAreaTop" fmla="*/ 463320 h 5616720"/>
              <a:gd name="textAreaBottom" fmla="*/ 5153400 h 5616720"/>
            </a:gdLst>
            <a:ahLst/>
            <a:rect l="textAreaLeft" t="textAreaTop" r="textAreaRight" b="textAreaBottom"/>
            <a:pathLst>
              <a:path w="30463" h="21600">
                <a:moveTo>
                  <a:pt x="2521" y="0"/>
                </a:moveTo>
                <a:arcTo wR="2521" hR="2521" stAng="0" swAng="5400000"/>
                <a:lnTo>
                  <a:pt x="0" y="19079"/>
                </a:lnTo>
                <a:arcTo wR="2521" hR="2521" stAng="16200000" swAng="5400000"/>
                <a:lnTo>
                  <a:pt x="27942" y="21600"/>
                </a:lnTo>
                <a:arcTo wR="2521" hR="2521" stAng="10800000" swAng="5400000"/>
                <a:lnTo>
                  <a:pt x="30463" y="2521"/>
                </a:lnTo>
                <a:arcTo wR="2521" hR="2521" stAng="5400000" swAng="5400000"/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832040" cy="2060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7083360" y="0"/>
            <a:ext cx="2060640" cy="1832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9"/>
          <a:stretch/>
        </p:blipFill>
        <p:spPr>
          <a:xfrm>
            <a:off x="0" y="5025960"/>
            <a:ext cx="2060640" cy="1832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0"/>
          <a:stretch/>
        </p:blipFill>
        <p:spPr>
          <a:xfrm>
            <a:off x="7311960" y="4797360"/>
            <a:ext cx="1832040" cy="2060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2"/>
          <a:stretch/>
        </p:blipFill>
        <p:spPr>
          <a:xfrm>
            <a:off x="8001000" y="556272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3"/>
          <a:stretch/>
        </p:blipFill>
        <p:spPr>
          <a:xfrm>
            <a:off x="8001000" y="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4"/>
          <a:stretch/>
        </p:blipFill>
        <p:spPr>
          <a:xfrm>
            <a:off x="0" y="5562720"/>
            <a:ext cx="1143000" cy="1295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71640" y="4149720"/>
            <a:ext cx="729288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848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ada um é, na sua simplicidade, sua maneira grande ou pequena de contribuir com a história, um pedacinho de vida útil na construção do mundo. Nosso corpo é, da cabeça aos pés, um todo formado de pequenas partes necessárias umas às out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split dir="out" orient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480240 w 8064720"/>
              <a:gd name="textAreaRight" fmla="*/ 7584480 w 8064720"/>
              <a:gd name="textAreaTop" fmla="*/ 480240 h 5759280"/>
              <a:gd name="textAreaBottom" fmla="*/ 5279040 h 5759280"/>
            </a:gdLst>
            <a:ahLst/>
            <a:rect l="textAreaLeft" t="textAreaTop" r="textAreaRight" b="textAreaBottom"/>
            <a:pathLst>
              <a:path w="30246" h="21600">
                <a:moveTo>
                  <a:pt x="2548" y="0"/>
                </a:moveTo>
                <a:arcTo wR="2548" hR="2548" stAng="0" swAng="5400000"/>
                <a:lnTo>
                  <a:pt x="0" y="19052"/>
                </a:lnTo>
                <a:arcTo wR="2548" hR="2548" stAng="16200000" swAng="5400000"/>
                <a:lnTo>
                  <a:pt x="27698" y="21600"/>
                </a:lnTo>
                <a:arcTo wR="2548" hR="2548" stAng="10800000" swAng="5400000"/>
                <a:lnTo>
                  <a:pt x="30246" y="2548"/>
                </a:lnTo>
                <a:arcTo wR="2548" hR="2548" stAng="5400000" swAng="5400000"/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463320 w 7921440"/>
              <a:gd name="textAreaRight" fmla="*/ 7458120 w 7921440"/>
              <a:gd name="textAreaTop" fmla="*/ 463320 h 5616720"/>
              <a:gd name="textAreaBottom" fmla="*/ 5153400 h 5616720"/>
            </a:gdLst>
            <a:ahLst/>
            <a:rect l="textAreaLeft" t="textAreaTop" r="textAreaRight" b="textAreaBottom"/>
            <a:pathLst>
              <a:path w="30463" h="21600">
                <a:moveTo>
                  <a:pt x="2521" y="0"/>
                </a:moveTo>
                <a:arcTo wR="2521" hR="2521" stAng="0" swAng="5400000"/>
                <a:lnTo>
                  <a:pt x="0" y="19079"/>
                </a:lnTo>
                <a:arcTo wR="2521" hR="2521" stAng="16200000" swAng="5400000"/>
                <a:lnTo>
                  <a:pt x="27942" y="21600"/>
                </a:lnTo>
                <a:arcTo wR="2521" hR="2521" stAng="10800000" swAng="5400000"/>
                <a:lnTo>
                  <a:pt x="30463" y="2521"/>
                </a:lnTo>
                <a:arcTo wR="2521" hR="2521" stAng="5400000" swAng="5400000"/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832040" cy="2060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7083360" y="0"/>
            <a:ext cx="2060640" cy="1832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0" y="5025960"/>
            <a:ext cx="2060640" cy="1832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0"/>
          <a:stretch/>
        </p:blipFill>
        <p:spPr>
          <a:xfrm>
            <a:off x="7311960" y="4797360"/>
            <a:ext cx="1832040" cy="2060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2"/>
          <a:stretch/>
        </p:blipFill>
        <p:spPr>
          <a:xfrm>
            <a:off x="8001000" y="556272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3"/>
          <a:stretch/>
        </p:blipFill>
        <p:spPr>
          <a:xfrm>
            <a:off x="8001000" y="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4"/>
          <a:stretch/>
        </p:blipFill>
        <p:spPr>
          <a:xfrm>
            <a:off x="0" y="5562720"/>
            <a:ext cx="1143000" cy="1295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71640" y="4724280"/>
            <a:ext cx="714996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848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Quantos de nós não evolui no trabalho simplesmente porque pensa que o que faz não tem importância ou é menos importante que seu vizinho, amigo ou chef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split dir="out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3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480240 w 8064720"/>
              <a:gd name="textAreaRight" fmla="*/ 7584480 w 8064720"/>
              <a:gd name="textAreaTop" fmla="*/ 480240 h 5759280"/>
              <a:gd name="textAreaBottom" fmla="*/ 5279040 h 5759280"/>
            </a:gdLst>
            <a:ahLst/>
            <a:rect l="textAreaLeft" t="textAreaTop" r="textAreaRight" b="textAreaBottom"/>
            <a:pathLst>
              <a:path w="30246" h="21600">
                <a:moveTo>
                  <a:pt x="2548" y="0"/>
                </a:moveTo>
                <a:arcTo wR="2548" hR="2548" stAng="0" swAng="5400000"/>
                <a:lnTo>
                  <a:pt x="0" y="19052"/>
                </a:lnTo>
                <a:arcTo wR="2548" hR="2548" stAng="16200000" swAng="5400000"/>
                <a:lnTo>
                  <a:pt x="27698" y="21600"/>
                </a:lnTo>
                <a:arcTo wR="2548" hR="2548" stAng="10800000" swAng="5400000"/>
                <a:lnTo>
                  <a:pt x="30246" y="2548"/>
                </a:lnTo>
                <a:arcTo wR="2548" hR="2548" stAng="5400000" swAng="5400000"/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463320 w 7921440"/>
              <a:gd name="textAreaRight" fmla="*/ 7458120 w 7921440"/>
              <a:gd name="textAreaTop" fmla="*/ 463320 h 5616720"/>
              <a:gd name="textAreaBottom" fmla="*/ 5153400 h 5616720"/>
            </a:gdLst>
            <a:ahLst/>
            <a:rect l="textAreaLeft" t="textAreaTop" r="textAreaRight" b="textAreaBottom"/>
            <a:pathLst>
              <a:path w="30463" h="21600">
                <a:moveTo>
                  <a:pt x="2521" y="0"/>
                </a:moveTo>
                <a:arcTo wR="2521" hR="2521" stAng="0" swAng="5400000"/>
                <a:lnTo>
                  <a:pt x="0" y="19079"/>
                </a:lnTo>
                <a:arcTo wR="2521" hR="2521" stAng="16200000" swAng="5400000"/>
                <a:lnTo>
                  <a:pt x="27942" y="21600"/>
                </a:lnTo>
                <a:arcTo wR="2521" hR="2521" stAng="10800000" swAng="5400000"/>
                <a:lnTo>
                  <a:pt x="30463" y="2521"/>
                </a:lnTo>
                <a:arcTo wR="2521" hR="2521" stAng="5400000" swAng="5400000"/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832040" cy="2060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7083360" y="0"/>
            <a:ext cx="2060640" cy="1832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0" y="5025960"/>
            <a:ext cx="2060640" cy="1832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0"/>
          <a:stretch/>
        </p:blipFill>
        <p:spPr>
          <a:xfrm>
            <a:off x="7311960" y="4797360"/>
            <a:ext cx="1832040" cy="2060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2"/>
          <a:stretch/>
        </p:blipFill>
        <p:spPr>
          <a:xfrm>
            <a:off x="8001000" y="556272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3"/>
          <a:stretch/>
        </p:blipFill>
        <p:spPr>
          <a:xfrm>
            <a:off x="8001000" y="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4"/>
          <a:stretch/>
        </p:blipFill>
        <p:spPr>
          <a:xfrm>
            <a:off x="0" y="5562720"/>
            <a:ext cx="1143000" cy="1295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900000" y="4005360"/>
            <a:ext cx="736452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848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ra, a importância de um trabalho, seja ele qual for, está no valor que damos a ele. O mundo precisa de toda contribuição para continuar a caminhar. Além disso, nossa utilidade está não só no trabalho que produzimos, mas naquilo que podemos dar de nós como seres hum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split dir="out" orient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480240 w 8064720"/>
              <a:gd name="textAreaRight" fmla="*/ 7584480 w 8064720"/>
              <a:gd name="textAreaTop" fmla="*/ 480240 h 5759280"/>
              <a:gd name="textAreaBottom" fmla="*/ 5279040 h 5759280"/>
            </a:gdLst>
            <a:ahLst/>
            <a:rect l="textAreaLeft" t="textAreaTop" r="textAreaRight" b="textAreaBottom"/>
            <a:pathLst>
              <a:path w="30246" h="21600">
                <a:moveTo>
                  <a:pt x="2548" y="0"/>
                </a:moveTo>
                <a:arcTo wR="2548" hR="2548" stAng="0" swAng="5400000"/>
                <a:lnTo>
                  <a:pt x="0" y="19052"/>
                </a:lnTo>
                <a:arcTo wR="2548" hR="2548" stAng="16200000" swAng="5400000"/>
                <a:lnTo>
                  <a:pt x="27698" y="21600"/>
                </a:lnTo>
                <a:arcTo wR="2548" hR="2548" stAng="10800000" swAng="5400000"/>
                <a:lnTo>
                  <a:pt x="30246" y="2548"/>
                </a:lnTo>
                <a:arcTo wR="2548" hR="2548" stAng="5400000" swAng="5400000"/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463320 w 7921440"/>
              <a:gd name="textAreaRight" fmla="*/ 7458120 w 7921440"/>
              <a:gd name="textAreaTop" fmla="*/ 463320 h 5616720"/>
              <a:gd name="textAreaBottom" fmla="*/ 5153400 h 5616720"/>
            </a:gdLst>
            <a:ahLst/>
            <a:rect l="textAreaLeft" t="textAreaTop" r="textAreaRight" b="textAreaBottom"/>
            <a:pathLst>
              <a:path w="30463" h="21600">
                <a:moveTo>
                  <a:pt x="2521" y="0"/>
                </a:moveTo>
                <a:arcTo wR="2521" hR="2521" stAng="0" swAng="5400000"/>
                <a:lnTo>
                  <a:pt x="0" y="19079"/>
                </a:lnTo>
                <a:arcTo wR="2521" hR="2521" stAng="16200000" swAng="5400000"/>
                <a:lnTo>
                  <a:pt x="27942" y="21600"/>
                </a:lnTo>
                <a:arcTo wR="2521" hR="2521" stAng="10800000" swAng="5400000"/>
                <a:lnTo>
                  <a:pt x="30463" y="2521"/>
                </a:lnTo>
                <a:arcTo wR="2521" hR="2521" stAng="5400000" swAng="5400000"/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832040" cy="2060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7083360" y="0"/>
            <a:ext cx="2060640" cy="1832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9"/>
          <a:stretch/>
        </p:blipFill>
        <p:spPr>
          <a:xfrm>
            <a:off x="0" y="5025960"/>
            <a:ext cx="2060640" cy="1832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0"/>
          <a:stretch/>
        </p:blipFill>
        <p:spPr>
          <a:xfrm>
            <a:off x="7311960" y="4797360"/>
            <a:ext cx="1832040" cy="2060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2"/>
          <a:stretch/>
        </p:blipFill>
        <p:spPr>
          <a:xfrm>
            <a:off x="8001000" y="556272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3"/>
          <a:stretch/>
        </p:blipFill>
        <p:spPr>
          <a:xfrm>
            <a:off x="8001000" y="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4"/>
          <a:stretch/>
        </p:blipFill>
        <p:spPr>
          <a:xfrm>
            <a:off x="0" y="5562720"/>
            <a:ext cx="1143000" cy="1295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00000" y="2852640"/>
            <a:ext cx="72216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848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Jesus trabalhou como carpinteiro e certamente produziu coisas materiais, mas a herança que nos deixou na construção humana e espiritual é incomparável a qualquer ou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split dir="out" orient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480240 w 8064720"/>
              <a:gd name="textAreaRight" fmla="*/ 7584480 w 8064720"/>
              <a:gd name="textAreaTop" fmla="*/ 480240 h 5759280"/>
              <a:gd name="textAreaBottom" fmla="*/ 5279040 h 5759280"/>
            </a:gdLst>
            <a:ahLst/>
            <a:rect l="textAreaLeft" t="textAreaTop" r="textAreaRight" b="textAreaBottom"/>
            <a:pathLst>
              <a:path w="30246" h="21600">
                <a:moveTo>
                  <a:pt x="2548" y="0"/>
                </a:moveTo>
                <a:arcTo wR="2548" hR="2548" stAng="0" swAng="5400000"/>
                <a:lnTo>
                  <a:pt x="0" y="19052"/>
                </a:lnTo>
                <a:arcTo wR="2548" hR="2548" stAng="16200000" swAng="5400000"/>
                <a:lnTo>
                  <a:pt x="27698" y="21600"/>
                </a:lnTo>
                <a:arcTo wR="2548" hR="2548" stAng="10800000" swAng="5400000"/>
                <a:lnTo>
                  <a:pt x="30246" y="2548"/>
                </a:lnTo>
                <a:arcTo wR="2548" hR="2548" stAng="5400000" swAng="5400000"/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463320 w 7921440"/>
              <a:gd name="textAreaRight" fmla="*/ 7458120 w 7921440"/>
              <a:gd name="textAreaTop" fmla="*/ 463320 h 5616720"/>
              <a:gd name="textAreaBottom" fmla="*/ 5153400 h 5616720"/>
            </a:gdLst>
            <a:ahLst/>
            <a:rect l="textAreaLeft" t="textAreaTop" r="textAreaRight" b="textAreaBottom"/>
            <a:pathLst>
              <a:path w="30463" h="21600">
                <a:moveTo>
                  <a:pt x="2521" y="0"/>
                </a:moveTo>
                <a:arcTo wR="2521" hR="2521" stAng="0" swAng="5400000"/>
                <a:lnTo>
                  <a:pt x="0" y="19079"/>
                </a:lnTo>
                <a:arcTo wR="2521" hR="2521" stAng="16200000" swAng="5400000"/>
                <a:lnTo>
                  <a:pt x="27942" y="21600"/>
                </a:lnTo>
                <a:arcTo wR="2521" hR="2521" stAng="10800000" swAng="5400000"/>
                <a:lnTo>
                  <a:pt x="30463" y="2521"/>
                </a:lnTo>
                <a:arcTo wR="2521" hR="2521" stAng="5400000" swAng="5400000"/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832040" cy="2060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8"/>
          <a:stretch/>
        </p:blipFill>
        <p:spPr>
          <a:xfrm>
            <a:off x="7083360" y="0"/>
            <a:ext cx="2060640" cy="1832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0" y="5025960"/>
            <a:ext cx="2060640" cy="18320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0"/>
          <a:stretch/>
        </p:blipFill>
        <p:spPr>
          <a:xfrm>
            <a:off x="7311960" y="4797360"/>
            <a:ext cx="1832040" cy="2060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2"/>
          <a:stretch/>
        </p:blipFill>
        <p:spPr>
          <a:xfrm>
            <a:off x="8001000" y="556272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3"/>
          <a:stretch/>
        </p:blipFill>
        <p:spPr>
          <a:xfrm>
            <a:off x="8001000" y="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4"/>
          <a:stretch/>
        </p:blipFill>
        <p:spPr>
          <a:xfrm>
            <a:off x="0" y="5562720"/>
            <a:ext cx="1143000" cy="1295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00000" y="3860640"/>
            <a:ext cx="736452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848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oda profissão é bela, quer seja ela diplomada da universidade ou da v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oda função é importante para que o mundo possua significado. Toda pessoa é única e o espaço que ela ocupa é só dela. Toda pessoa tem de si a dar, sem se perder um milímetro nessa doação, muito pelo contrá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4000">
    <p:split dir="out" orient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8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480240 w 8064720"/>
              <a:gd name="textAreaRight" fmla="*/ 7584480 w 8064720"/>
              <a:gd name="textAreaTop" fmla="*/ 480240 h 5759280"/>
              <a:gd name="textAreaBottom" fmla="*/ 5279040 h 5759280"/>
            </a:gdLst>
            <a:ahLst/>
            <a:rect l="textAreaLeft" t="textAreaTop" r="textAreaRight" b="textAreaBottom"/>
            <a:pathLst>
              <a:path w="30246" h="21600">
                <a:moveTo>
                  <a:pt x="2548" y="0"/>
                </a:moveTo>
                <a:arcTo wR="2548" hR="2548" stAng="0" swAng="5400000"/>
                <a:lnTo>
                  <a:pt x="0" y="19052"/>
                </a:lnTo>
                <a:arcTo wR="2548" hR="2548" stAng="16200000" swAng="5400000"/>
                <a:lnTo>
                  <a:pt x="27698" y="21600"/>
                </a:lnTo>
                <a:arcTo wR="2548" hR="2548" stAng="10800000" swAng="5400000"/>
                <a:lnTo>
                  <a:pt x="30246" y="2548"/>
                </a:lnTo>
                <a:arcTo wR="2548" hR="2548" stAng="5400000" swAng="5400000"/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463320 w 7921440"/>
              <a:gd name="textAreaRight" fmla="*/ 7458120 w 7921440"/>
              <a:gd name="textAreaTop" fmla="*/ 463320 h 5616720"/>
              <a:gd name="textAreaBottom" fmla="*/ 5153400 h 5616720"/>
            </a:gdLst>
            <a:ahLst/>
            <a:rect l="textAreaLeft" t="textAreaTop" r="textAreaRight" b="textAreaBottom"/>
            <a:pathLst>
              <a:path w="30463" h="21600">
                <a:moveTo>
                  <a:pt x="2521" y="0"/>
                </a:moveTo>
                <a:arcTo wR="2521" hR="2521" stAng="0" swAng="5400000"/>
                <a:lnTo>
                  <a:pt x="0" y="19079"/>
                </a:lnTo>
                <a:arcTo wR="2521" hR="2521" stAng="16200000" swAng="5400000"/>
                <a:lnTo>
                  <a:pt x="27942" y="21600"/>
                </a:lnTo>
                <a:arcTo wR="2521" hR="2521" stAng="10800000" swAng="5400000"/>
                <a:lnTo>
                  <a:pt x="30463" y="2521"/>
                </a:lnTo>
                <a:arcTo wR="2521" hR="2521" stAng="5400000" swAng="5400000"/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832040" cy="2060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7083360" y="0"/>
            <a:ext cx="2060640" cy="18320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>
            <a:off x="0" y="5025960"/>
            <a:ext cx="2060640" cy="1832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0"/>
          <a:stretch/>
        </p:blipFill>
        <p:spPr>
          <a:xfrm>
            <a:off x="7311960" y="4797360"/>
            <a:ext cx="1832040" cy="2060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2"/>
          <a:stretch/>
        </p:blipFill>
        <p:spPr>
          <a:xfrm>
            <a:off x="8001000" y="556272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3"/>
          <a:stretch/>
        </p:blipFill>
        <p:spPr>
          <a:xfrm>
            <a:off x="8001000" y="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4"/>
          <a:stretch/>
        </p:blipFill>
        <p:spPr>
          <a:xfrm>
            <a:off x="0" y="5562720"/>
            <a:ext cx="1143000" cy="1295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900000" y="4292640"/>
            <a:ext cx="722160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848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ão... não somos em absoluto indispensáveis à vida, mas, definitivamente, somos imprescindíveis na história do mundo se sabemos dar de nós de maneira genero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 ilimit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4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7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19:02:28Z</dcterms:created>
  <dc:creator>Beth Norling</dc:creator>
  <dc:description/>
  <dc:language>en-US</dc:language>
  <cp:lastModifiedBy>Beth Norling</cp:lastModifiedBy>
  <dcterms:modified xsi:type="dcterms:W3CDTF">2008-03-28T20:44:18Z</dcterms:modified>
  <cp:revision>14</cp:revision>
  <dc:subject/>
  <dc:title>Ninguem_e_indispensavel</dc:title>
</cp:coreProperties>
</file>