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Mar%C3%A9%20baixa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917-A1E8-46D6-9F5F-55CEF680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E28-BD11-485E-B76D-98675C12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E22-91FC-4D49-BAD7-A7FBAA45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431-A37B-4B60-8800-D2DFEBFB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732-5118-431D-9730-71E7F0E3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39A-9547-44A1-923A-56A9B956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834-C94D-48ED-BA6E-88659B9E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B9D-9A69-47F0-89ED-4741A3BA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987-D499-471B-83C2-383049C1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983-BE79-48F8-AE85-38D073D8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6B0-2594-4792-8F1C-CF9DF3E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B3E-DFBE-4E7C-BD62-D41CC2F6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CEA6-4CC4-4B61-A931-9E8BBDF4C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audio" Target="../media/Mar&#233;%20baixa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leticiathompson.net/" TargetMode="External"/><Relationship Id="rId7" Type="http://schemas.openxmlformats.org/officeDocument/2006/relationships/hyperlink" Target="mailto:bethnorling@globo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549360"/>
            <a:ext cx="3384720" cy="568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077320" y="2381400"/>
            <a:ext cx="1066680" cy="447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932360" y="1341360"/>
            <a:ext cx="288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JARDIM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CRETO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CADA UM 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3280" y="4797360"/>
            <a:ext cx="346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40200" y="765000"/>
            <a:ext cx="376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Há  dentro de todos nós essa necessidade de ter em algum lugar nosso jardim secreto, não onde vamos confinar nossos segredos, mas onde podemos ter um encontro real e exclusivo conos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Umas pessoas sentem mais essa necessidade que outras, mas estar consigo de vez em quan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interiorizar-se, colocar ordem nos pensamentos ou simplesmente abandonar-se, é vital ao equilíbrio de todos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1197000"/>
            <a:ext cx="3948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Em todo relacionamento onde o amor existe, esse espaço deve ser conservado como o limite de cada um. Os relacionamentos fusionais que ultrapassam essas barreiras acabam por destruir-se, pois amar é também respeitar que a outra pessoa tenha seu recanto, seus pensamentos e, por que não, seus próprios amigos, próprias idéias e son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3280" y="1628640"/>
            <a:ext cx="403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s pessoas não precisam estar juntas cem por cento do tempo para provarem que se amam. Elas se amam por que se amam e pronto. Dar ao outro um pouco de espaço, um pouco de ar para respirar, é dar-lhe também a oportunidade de sentir falta de estar junto. E isso vale tanto para os amores como para as amiz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1773360"/>
            <a:ext cx="395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s cobranças intermináveis, resultados de carências afetivas, acabam por sufocar a outra parte e cria na que pede, espera, implora, ansiedades que a tornarão infeliz, pois ela verá como desamor qualquer gesto que não corresponda ao que esp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16360" y="1773360"/>
            <a:ext cx="388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mar é deixar o outro livre para ficar ou para se retirar. É respeitar seu silêncio e seu desejo de solidão. E é deixá-lo livre para ir e voltar quando o coração pedir, que isso seja numa cidade ou dentro de uma ca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95840" y="1557360"/>
            <a:ext cx="3979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Nada impede que um grande e lindo jardim seja construído juntos e que de mãos dadas se passeie por ele, com o peito cheio de felicidade e a cabeça cheia de sonhos... mas ainda assim, o jardim secreto de cada um deve ser mantido como lugar único e que vai, no fim das contas, enriquecer as rel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noFill/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8077320" y="2060640"/>
            <a:ext cx="1066680" cy="4476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2205000"/>
            <a:ext cx="72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Texto: </a:t>
            </a:r>
            <a:r>
              <a:rPr b="0" lang="en-US" sz="2000" spc="-1" strike="noStrike" u="sng">
                <a:solidFill>
                  <a:srgbClr val="ffeea7"/>
                </a:solidFill>
                <a:uFillTx/>
                <a:latin typeface="Arial"/>
                <a:hlinkClick r:id="rId6"/>
              </a:rPr>
              <a:t>Letícia Thompson </a:t>
            </a:r>
            <a:r>
              <a:rPr b="0" lang="en-US" sz="2000" spc="-1" strike="noStrike" u="sng">
                <a:solidFill>
                  <a:srgbClr val="ffed9f"/>
                </a:solidFill>
                <a:uFillTx/>
                <a:latin typeface="Arial"/>
              </a:rPr>
              <a:t>– O jardim secreto de cada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Música:  Pedrinho Mattar - Maré Baix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Formatação: </a:t>
            </a:r>
            <a:r>
              <a:rPr b="0" lang="en-US" sz="2000" spc="-1" strike="noStrike" u="sng">
                <a:solidFill>
                  <a:srgbClr val="ffeea7"/>
                </a:solidFill>
                <a:uFillTx/>
                <a:latin typeface="Arial"/>
                <a:hlinkClick r:id="rId7"/>
              </a:rPr>
              <a:t>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21:16:56Z</dcterms:created>
  <dc:creator>Beth Norling</dc:creator>
  <dc:description/>
  <dc:language>en-US</dc:language>
  <cp:lastModifiedBy>Beth Norling</cp:lastModifiedBy>
  <dcterms:modified xsi:type="dcterms:W3CDTF">2007-02-26T22:56:02Z</dcterms:modified>
  <cp:revision>11</cp:revision>
  <dc:subject/>
  <dc:title>O_jardim_secreto_de_cada_um</dc:title>
</cp:coreProperties>
</file>