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njo%20_Jim%20Brickman%20-%20Angel%20Eyes%200.51%20cut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6C8-1C71-47C3-8CB5-074BDC5D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39C-E098-48EF-B3EF-BFE45427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0B6-3716-48E0-BA9A-7A1B4FB5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31E-BBD8-454E-B4D2-5101AA4E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1AC-EBDC-4928-A8CB-E20BC89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EEC-F05E-41BD-A92D-E93BAA9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8DB-14AD-4FE3-9649-40F937B1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376-E4D9-40F5-B2C5-91E16FE6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737-AC15-4494-8CEE-A3D8C9A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14A-0324-4C24-B5F1-4210AD7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2FA-A6D7-4105-ABBD-B2DEB8E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24A-AE2E-424B-9BBF-53BE89D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ECC7-9652-4A69-BE04-C98DBD8A1F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njo%20_Jim%20Brickman%20-%20Angel%20Eyes%200.51%20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2286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Procura em ti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8153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Procura em ti a chama que está sempre a brilhar.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riaste labirintos dentro de ti e estes, por vez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te distanciam da tua preciosidad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ão te percas de vista, sê atento.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 para poderes vislumbrar tuas semen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tuas chuvas fartas, a transformar a aridez do teu s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 e verás que tudo que brilha for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a realidade, está dentro de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  <p:sndAc>
      <p:stSnd>
        <p:snd r:embed="rId2" name="anjo%20_Jim%20Brickman%20-%20Angel%20Eyes%200.51%20cu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68580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 e sente, o ar que respiras é o que mantém tua vida e vê, o que mantém tua ânsia de viver não é deste mundo, mas está aqui, moldando o teu destino. Deixa tua visão percorrer teu mundo interno e lá, sente o que és verdadeiramente. É possível estar aqui, viver a tua escolha, mas não te esqueças que dentro de ti reside a essência, o sopro divino, e esta deverá receber teus cuidados, tua dedicação, para que assim possas percorrer por este mundo, vivê-lo intensamente e ainda assim não perder de vista a tua missão, o teu reencontro com o que é sagrado em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80880"/>
            <a:ext cx="9144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, não estás aqui por acaso. 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A vida é mais que acordar e viver o dia a dia..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É necessário sentí-la e através da percepção que te 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dada, descobrir o que move o teu ser, o que determ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os teus passos, a tua persistência em continuar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empre continuar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Sê atento, para cada causa existe um efeito. </a:t>
            </a: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Nada está solto, tudo é uma continuidade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Portanto, transforma a tua continuidade em 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onchas de alegria e conhecimento.</a:t>
            </a:r>
            <a:br>
              <a:rPr sz="2800"/>
            </a:b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O melhor depende de 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172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(Mira Scop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6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22860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Jim Brickman – Angel 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3716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8195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00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343400"/>
            <a:ext cx="7238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1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125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425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07:13:09Z</dcterms:created>
  <dc:creator>ssoliver@terra.com.br </dc:creator>
  <dc:description/>
  <dc:language>en-US</dc:language>
  <cp:lastModifiedBy>Leticia Thompson</cp:lastModifiedBy>
  <dcterms:modified xsi:type="dcterms:W3CDTF">2004-11-02T19:36:29Z</dcterms:modified>
  <cp:revision>4</cp:revision>
  <dc:subject/>
  <dc:title>procura em ti pps</dc:title>
</cp:coreProperties>
</file>