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njo%20_Jim%20Brickman%20-%20Angel%20Eyes%200.51%20cut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031-77E1-4368-8727-A47A34B1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E9A-1645-4935-98D5-114A55A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259-CD35-4229-BA63-A45D9AB5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4C8-EE1E-404D-9AFE-3BBA8D28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DD3-7475-40AB-8CF3-B72C0A19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075-B047-47E2-ABE3-977F0E7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88B-D658-4665-AF16-A843F0A0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BA9-384C-4EF5-BBD2-20EA881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BD0-CC80-4F36-9EF0-4AD9C72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361-EF2D-4AF9-AD06-1B257F8C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F92-3452-4B20-9087-626DC01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9B0-5B50-4922-954A-6AB7A98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F51-1B90-4B24-BA4D-52C21B2BE2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njo%20_Jim%20Brickman%20-%20Angel%20Eyes%200.51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228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Procura em ti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8153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Procura em ti a chama que está sempre a brilhar.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riaste labirintos dentro de ti e estes, por vez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te distanciam da tua preciosidad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ão te percas de vista, sê atento.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 para poderes vislumbrar tuas semen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tuas chuvas fartas, a transformar a aridez do teu s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 e verás que tudo que brilha for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a realidade, está dentro de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  <p:sndAc>
      <p:stSnd>
        <p:snd r:embed="rId2" name="anjo%20_Jim%20Brickman%20-%20Angel%20Eyes%200.51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68580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 e sente, o ar que respiras é o que mantém tua vida e vê, o que mantém tua ânsia de viver não é deste mundo, mas está aqui, moldando o teu destino. Deixa tua visão percorrer teu mundo interno e lá, sente o que és verdadeiramente. É possível estar aqui, viver a tua escolha, mas não te esqueças que dentro de ti reside a essência, o sopro divino, e esta deverá receber teus cuidados, tua dedicação, para que assim possas percorrer por este mundo, vivê-lo intensamente e ainda assim não perder de vista a tua missão, o teu reencontro com o que é sagrado em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80880"/>
            <a:ext cx="9144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, não estás aqui por acaso. 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A vida é mais que acordar e viver o dia a dia..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É necessário sentí-la e através da percepção que te 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dada, descobrir o que move o teu ser, o que determ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os teus passos, a tua persistência em continuar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empre continuar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, para cada causa existe um efeito. </a:t>
            </a: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ada está solto, tudo é uma continuidade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Portanto, transforma a tua continuidade em 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onchas de alegria e conhecimento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O melhor depende de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172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(Mira Scop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6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22860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Jim Brickman – Angel 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3716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195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00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343400"/>
            <a:ext cx="7238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1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125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425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7:13:09Z</dcterms:created>
  <dc:creator>ssoliver@terra.com.br </dc:creator>
  <dc:description/>
  <dc:language>en-US</dc:language>
  <cp:lastModifiedBy>Leticia Thompson</cp:lastModifiedBy>
  <dcterms:modified xsi:type="dcterms:W3CDTF">2004-11-02T19:36:29Z</dcterms:modified>
  <cp:revision>4</cp:revision>
  <dc:subject/>
  <dc:title>procura em ti pps</dc:title>
</cp:coreProperties>
</file>